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3396-E013-44BC-BED1-0F2EE266BB4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9E4C-CAF8-4A45-B32E-EB260A70A66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D14D-2E30-4374-82E5-8401A442D17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45C0-EB3D-4370-A8F1-174509541B4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F6CE-2815-4EA9-9C57-804710D2827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A02E-3E4F-41E4-A9B0-9BA8F069CC3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A293-54CA-4C02-9186-946A890F15F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7CD2-C7A0-48ED-A2D3-4426BE8D19B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D399-F8C8-4937-ADFE-FBE8FCFA7EB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6392-7965-45F9-848D-AE2CFDA6DBE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FC3F-B481-402B-AAC4-9E11B867961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DD0D-04C1-41FA-9D27-A14597638EA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9CF0-8C40-4BC8-90FF-FBA25BB729A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A46C-8186-41F5-A158-BE4D1A0CDBD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3D6F-7E54-4C46-B760-7F6C91CA43A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DC48-4D34-4B89-BF6F-143BDFB5CFF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7CEE-AE0A-4ED3-A486-8FC7BC6D9F8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2738-495B-445A-8588-3E0C6472550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9D03-1E04-4FF9-A6BD-EF280E31335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A42-EBA4-42D2-A24F-72E673CB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E32-6153-4BC8-91F2-80A96882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5F1-98E0-438D-AA9A-EE2860A7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5F5-6B47-44F1-B103-D9CD9BAA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4A07-42D0-4528-A5E9-950B2F83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612B-249B-45DF-A337-926A074C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C18E-3B53-44EC-922C-3E25DC66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B3E8-669E-4CDD-A9BF-43A0534F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533B-5E90-4523-8610-B7E31D3F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F4D3-5523-4179-9435-9B31278F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AB7D-D3A1-4CEB-895C-9566A83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B6F-2357-4C23-B763-31C2822E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C4C6-B12B-49BD-A506-837DCF7A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6038-FEE9-4E48-8669-D8B4EF57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777E-3AAE-4396-ADD9-D9B7BCA9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0B14-45DA-4F0A-8744-1FA12AA7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7888-3559-4D4D-8F67-B906E0D8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9BED5-B7DF-4C7E-8E31-CFB782E4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07BAF-8DC3-4584-BB5E-50CA3050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AA386-5B95-48DB-9414-434B744A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DAA8A-D833-4F08-95AF-BD3B89BA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40699-DB67-456E-8B7A-E70EB907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BAE-9676-477D-B3D0-C14859A5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3AA7F-5B43-4004-96E4-032AD765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3EAC5-FA04-4135-AA00-E195DFAA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A1C9-2262-4D44-ADBD-7F2CE51D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6A08-4539-4200-A77C-007EA371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9E1CD-2E01-49F4-BF70-687A3495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A2702-CAEB-42CF-B49C-BDD2A6DF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165BA-FC2D-4D1A-BC89-886FA5C5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886-CC79-4B13-9CC9-0C8EBB7B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688-70CE-4DB6-8744-2CD3049C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288-ED2D-4112-8522-D64BE436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BD9-3F72-4798-AC04-99CBE54B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E2D-D63E-4EB7-A971-7D662DA9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723-C23A-469D-9BD6-6A83C1DA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A7E9-7284-4D80-9AC3-29F73EB41DA2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90"/>
          <p:cNvSpPr/>
          <p:nvPr/>
        </p:nvSpPr>
        <p:spPr>
          <a:xfrm>
            <a:off x="2438280" y="1176480"/>
            <a:ext cx="6705720" cy="139680"/>
          </a:xfrm>
          <a:custGeom>
            <a:avLst/>
            <a:gdLst>
              <a:gd name="textAreaLeft" fmla="*/ 0 w 6705720"/>
              <a:gd name="textAreaRight" fmla="*/ 6706080 w 6705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F598-8D31-4AE2-8682-14BF916042A5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86" name="Freeform 90"/>
          <p:cNvSpPr/>
          <p:nvPr/>
        </p:nvSpPr>
        <p:spPr>
          <a:xfrm rot="10800000">
            <a:off x="-360" y="1009080"/>
            <a:ext cx="7265880" cy="120600"/>
          </a:xfrm>
          <a:custGeom>
            <a:avLst/>
            <a:gdLst>
              <a:gd name="textAreaLeft" fmla="*/ 0 w 7265880"/>
              <a:gd name="textAreaRight" fmla="*/ 7266240 w 7265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AC35-7341-4059-99AA-C6560E6842C7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ep.ucas.ac.cn/" TargetMode="External"/><Relationship Id="rId2" Type="http://schemas.openxmlformats.org/officeDocument/2006/relationships/hyperlink" Target="file:///&#23398;&#20301;&#30003;&#35831;&#32773;&#12289;&#31572;&#36777;&#31192;&#20070;&#32593;&#19978;&#25805;&#20316;&#25351;&#21335;/1-&#23398;&#20301;&#30003;&#35831;&#32773;&#32593;&#19978;&#25805;&#20316;&#25351;&#21335;/&#23398;&#20301;&#30003;&#35831;&#32773;&#32593;&#19978;&#25805;&#20316;&#25351;&#21335;.do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23398;&#20301;&#30003;&#35831;&#32773;&#12289;&#31572;&#36777;&#31192;&#20070;&#32593;&#19978;&#25805;&#20316;&#25351;&#21335;/2-&#31572;&#36777;&#31192;&#20070;&#32593;&#19978;&#25805;&#20316;&#25351;&#21335;.ppt" TargetMode="External"/><Relationship Id="rId2" Type="http://schemas.openxmlformats.org/officeDocument/2006/relationships/hyperlink" Target="file:///&#23398;&#20301;&#30003;&#35831;&#32773;&#12289;&#31572;&#36777;&#31192;&#20070;&#32593;&#19978;&#25805;&#20316;&#25351;&#21335;/2-&#31572;&#36777;&#31192;&#20070;&#32593;&#19978;&#25805;&#20316;&#25351;&#21335;.ppt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0680" y="1887120"/>
            <a:ext cx="7993080" cy="14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论文答辩及学位申请流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460760" y="3940200"/>
            <a:ext cx="343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论物理所研究生部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17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评阅人均返回评阅意见且全部同意组织答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级审核通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答辩委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二、聘请答辩委员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少在答辩时间前一天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成员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；一般应包含本单位及外单位专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含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；答辩委员会主席应由博士生指导教师担任；成员中博士生指导教师一般不少于三分之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的评阅人一般应参加该论文答辩委员会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、答辩秘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流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会议室（老楼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，新楼找庄辞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贴答辩通知（下载统一模板填写，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齐如下材料至研究生部盖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（学位申请人系统生成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双面打印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答辩秘书系统下载打印所有评阅人评阅书，双面打印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所网页下载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单面打印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52280" y="363600"/>
            <a:ext cx="6483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3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必须完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天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取横幅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领答辩酬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半小时布置答辩会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开始前把以下材料交答辩委员会主席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程序（所网页下载，填写信息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所有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委员会决议初稿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位申请人事先拟好内容，请导师先过一遍，电子版及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纸质版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时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认真做好答辩记录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会休会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助答辩委员会主席发表决票和收表决票；及时整理“答辩委员会决议”并找主席签字；提醒答辩委员会成员在《中国科学院大学论文答辩情况和学位授予决议书》上签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结束后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放酬金，合影留念，并挑选一张合影发至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答辩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细信息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秘书兼记录人职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报或同步各模块信息（请先阅读左侧最下的“填报说明”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信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情况：先同步，再据实填写剩余各项内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导信息：自学籍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信息：据实填写各项内容。其中学习方式为全脱产，学习年限为实际年限，如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统考博士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延期半年）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简历：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69720" y="1457280"/>
            <a:ext cx="85060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程学习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教务管理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修环节～论文答辩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模块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题报告、中期考核、学术报告及社会实践均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网上提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一在学位管理系统再提交一遍最终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确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信息填报后，需要做“信息确认”封存数据，确认后学生不能再修改数据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学位论文在评阅、答辩及初审后若做了修改，应将详细的修改情况填报到系统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69720" y="1457280"/>
            <a:ext cx="84664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材料列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按照撰写规定撰写，新版封皮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双面打印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实质性贡献者的发表论文首页复印件或接收函（高能领域另附贡献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学位论文评阅书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评阅人的评阅书，双面打印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论文答辩情况和学位授予决议书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面打印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委员会表决票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回收件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业生登记表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双面打印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上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-7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材料请勿装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交答辩相关材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组合 44"/>
          <p:cNvGrpSpPr/>
          <p:nvPr/>
        </p:nvGrpSpPr>
        <p:grpSpPr>
          <a:xfrm>
            <a:off x="1962000" y="2025720"/>
            <a:ext cx="5229000" cy="623880"/>
            <a:chOff x="1962000" y="2025720"/>
            <a:chExt cx="5229000" cy="623880"/>
          </a:xfrm>
        </p:grpSpPr>
        <p:grpSp>
          <p:nvGrpSpPr>
            <p:cNvPr id="233" name="Group 64"/>
            <p:cNvGrpSpPr/>
            <p:nvPr/>
          </p:nvGrpSpPr>
          <p:grpSpPr>
            <a:xfrm>
              <a:off x="1962000" y="2025720"/>
              <a:ext cx="5229000" cy="623880"/>
              <a:chOff x="1962000" y="2025720"/>
              <a:chExt cx="5229000" cy="623880"/>
            </a:xfrm>
          </p:grpSpPr>
          <p:sp>
            <p:nvSpPr>
              <p:cNvPr id="234" name="AutoShape 30"/>
              <p:cNvSpPr/>
              <p:nvPr/>
            </p:nvSpPr>
            <p:spPr>
              <a:xfrm>
                <a:off x="1983960" y="205128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" name="Group 63"/>
              <p:cNvGrpSpPr/>
              <p:nvPr/>
            </p:nvGrpSpPr>
            <p:grpSpPr>
              <a:xfrm>
                <a:off x="1962000" y="2025720"/>
                <a:ext cx="5213160" cy="606600"/>
                <a:chOff x="1962000" y="2025720"/>
                <a:chExt cx="5213160" cy="606600"/>
              </a:xfrm>
            </p:grpSpPr>
            <p:sp>
              <p:nvSpPr>
                <p:cNvPr id="236" name="AutoShape 32"/>
                <p:cNvSpPr/>
                <p:nvPr/>
              </p:nvSpPr>
              <p:spPr>
                <a:xfrm>
                  <a:off x="2276280" y="202572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b7de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Rectangle 33"/>
                <p:cNvSpPr/>
                <p:nvPr/>
              </p:nvSpPr>
              <p:spPr>
                <a:xfrm>
                  <a:off x="2301480" y="211932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" name="Group 62"/>
                <p:cNvGrpSpPr/>
                <p:nvPr/>
              </p:nvGrpSpPr>
              <p:grpSpPr>
                <a:xfrm>
                  <a:off x="1962000" y="2027160"/>
                  <a:ext cx="604800" cy="605160"/>
                  <a:chOff x="1962000" y="2027160"/>
                  <a:chExt cx="604800" cy="605160"/>
                </a:xfrm>
              </p:grpSpPr>
              <p:sp>
                <p:nvSpPr>
                  <p:cNvPr id="239" name="Oval 35"/>
                  <p:cNvSpPr/>
                  <p:nvPr/>
                </p:nvSpPr>
                <p:spPr>
                  <a:xfrm>
                    <a:off x="1962000" y="202716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Oval 36"/>
                  <p:cNvSpPr/>
                  <p:nvPr/>
                </p:nvSpPr>
                <p:spPr>
                  <a:xfrm>
                    <a:off x="2128680" y="217188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Group 61"/>
                <p:cNvGrpSpPr/>
                <p:nvPr/>
              </p:nvGrpSpPr>
              <p:grpSpPr>
                <a:xfrm>
                  <a:off x="6570360" y="2027160"/>
                  <a:ext cx="604800" cy="605160"/>
                  <a:chOff x="6570360" y="2027160"/>
                  <a:chExt cx="604800" cy="605160"/>
                </a:xfrm>
              </p:grpSpPr>
              <p:sp>
                <p:nvSpPr>
                  <p:cNvPr id="242" name="Oval 39"/>
                  <p:cNvSpPr/>
                  <p:nvPr/>
                </p:nvSpPr>
                <p:spPr>
                  <a:xfrm>
                    <a:off x="6570360" y="202716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Oval 40"/>
                  <p:cNvSpPr/>
                  <p:nvPr/>
                </p:nvSpPr>
                <p:spPr>
                  <a:xfrm>
                    <a:off x="6676560" y="2160720"/>
                    <a:ext cx="33372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4" name="TextBox 44"/>
            <p:cNvSpPr/>
            <p:nvPr/>
          </p:nvSpPr>
          <p:spPr>
            <a:xfrm>
              <a:off x="3362040" y="210816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三、常见问题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50560" y="1307880"/>
            <a:ext cx="87534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答辩申请日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申请日期”是指提出答辩申请的日期，而不是答辩那天的日期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主要简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大学填起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以下示例填写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漏掉在我所攻读学位这段时间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奖惩信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在我所攻读学位期间的奖惩信息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请填“无”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要空着不填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必修环节学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定要查看生成的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必修环节的开题报告、中期考核、学术报告及社会实践是否都有学分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何一项没有学分则答辩申请不能通过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2" descr="0f89f84f9e3df8096981a24c5e885a31"/>
          <p:cNvPicPr/>
          <p:nvPr/>
        </p:nvPicPr>
        <p:blipFill>
          <a:blip r:embed="rId1"/>
          <a:stretch/>
        </p:blipFill>
        <p:spPr>
          <a:xfrm>
            <a:off x="1465200" y="2962440"/>
            <a:ext cx="5124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组合 4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grpSp>
          <p:nvGrpSpPr>
            <p:cNvPr id="139" name="Group 64"/>
            <p:cNvGrpSpPr/>
            <p:nvPr/>
          </p:nvGrpSpPr>
          <p:grpSpPr>
            <a:xfrm>
              <a:off x="1959120" y="2030400"/>
              <a:ext cx="5229000" cy="623880"/>
              <a:chOff x="1959120" y="2030400"/>
              <a:chExt cx="5229000" cy="623880"/>
            </a:xfrm>
          </p:grpSpPr>
          <p:sp>
            <p:nvSpPr>
              <p:cNvPr id="140" name="AutoShape 30"/>
              <p:cNvSpPr/>
              <p:nvPr/>
            </p:nvSpPr>
            <p:spPr>
              <a:xfrm>
                <a:off x="1981080" y="20559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Group 63"/>
              <p:cNvGrpSpPr/>
              <p:nvPr/>
            </p:nvGrpSpPr>
            <p:grpSpPr>
              <a:xfrm>
                <a:off x="1959120" y="2030400"/>
                <a:ext cx="5213160" cy="606600"/>
                <a:chOff x="1959120" y="2030400"/>
                <a:chExt cx="5213160" cy="606600"/>
              </a:xfrm>
            </p:grpSpPr>
            <p:sp>
              <p:nvSpPr>
                <p:cNvPr id="142" name="AutoShape 32"/>
                <p:cNvSpPr/>
                <p:nvPr/>
              </p:nvSpPr>
              <p:spPr>
                <a:xfrm>
                  <a:off x="2273400" y="20304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33"/>
                <p:cNvSpPr/>
                <p:nvPr/>
              </p:nvSpPr>
              <p:spPr>
                <a:xfrm>
                  <a:off x="2298600" y="21240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f497d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Group 62"/>
                <p:cNvGrpSpPr/>
                <p:nvPr/>
              </p:nvGrpSpPr>
              <p:grpSpPr>
                <a:xfrm>
                  <a:off x="1959120" y="2031840"/>
                  <a:ext cx="604800" cy="605160"/>
                  <a:chOff x="1959120" y="2031840"/>
                  <a:chExt cx="604800" cy="605160"/>
                </a:xfrm>
              </p:grpSpPr>
              <p:sp>
                <p:nvSpPr>
                  <p:cNvPr id="145" name="Oval 35"/>
                  <p:cNvSpPr/>
                  <p:nvPr/>
                </p:nvSpPr>
                <p:spPr>
                  <a:xfrm>
                    <a:off x="195912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Oval 36"/>
                  <p:cNvSpPr/>
                  <p:nvPr/>
                </p:nvSpPr>
                <p:spPr>
                  <a:xfrm>
                    <a:off x="2095560" y="21463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" name="Group 61"/>
                <p:cNvGrpSpPr/>
                <p:nvPr/>
              </p:nvGrpSpPr>
              <p:grpSpPr>
                <a:xfrm>
                  <a:off x="6567480" y="2031840"/>
                  <a:ext cx="604800" cy="605160"/>
                  <a:chOff x="6567480" y="2031840"/>
                  <a:chExt cx="604800" cy="605160"/>
                </a:xfrm>
              </p:grpSpPr>
              <p:sp>
                <p:nvSpPr>
                  <p:cNvPr id="148" name="Oval 39"/>
                  <p:cNvSpPr/>
                  <p:nvPr/>
                </p:nvSpPr>
                <p:spPr>
                  <a:xfrm>
                    <a:off x="656748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Oval 40"/>
                  <p:cNvSpPr/>
                  <p:nvPr/>
                </p:nvSpPr>
                <p:spPr>
                  <a:xfrm>
                    <a:off x="6694560" y="216540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0" name="TextBox 44"/>
            <p:cNvSpPr/>
            <p:nvPr/>
          </p:nvSpPr>
          <p:spPr>
            <a:xfrm>
              <a:off x="3094560" y="211284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一、各时间节点安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组合 49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grpSp>
          <p:nvGrpSpPr>
            <p:cNvPr id="152" name="Group 81"/>
            <p:cNvGrpSpPr/>
            <p:nvPr/>
          </p:nvGrpSpPr>
          <p:grpSpPr>
            <a:xfrm>
              <a:off x="1984320" y="3311640"/>
              <a:ext cx="5229360" cy="623880"/>
              <a:chOff x="1984320" y="3311640"/>
              <a:chExt cx="5229360" cy="623880"/>
            </a:xfrm>
          </p:grpSpPr>
          <p:sp>
            <p:nvSpPr>
              <p:cNvPr id="153" name="AutoShape 6"/>
              <p:cNvSpPr/>
              <p:nvPr/>
            </p:nvSpPr>
            <p:spPr>
              <a:xfrm>
                <a:off x="2006640" y="3336840"/>
                <a:ext cx="520704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80"/>
              <p:cNvGrpSpPr/>
              <p:nvPr/>
            </p:nvGrpSpPr>
            <p:grpSpPr>
              <a:xfrm>
                <a:off x="1984320" y="3311640"/>
                <a:ext cx="5213520" cy="606240"/>
                <a:chOff x="1984320" y="3311640"/>
                <a:chExt cx="5213520" cy="606240"/>
              </a:xfrm>
            </p:grpSpPr>
            <p:sp>
              <p:nvSpPr>
                <p:cNvPr id="155" name="AutoShape 7"/>
                <p:cNvSpPr/>
                <p:nvPr/>
              </p:nvSpPr>
              <p:spPr>
                <a:xfrm>
                  <a:off x="2298600" y="331164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3185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8"/>
                <p:cNvSpPr/>
                <p:nvPr/>
              </p:nvSpPr>
              <p:spPr>
                <a:xfrm>
                  <a:off x="2324160" y="3405240"/>
                  <a:ext cx="4564080" cy="43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5968"/>
                    </a:gs>
                    <a:gs pos="100000">
                      <a:srgbClr val="1f497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Group 9"/>
                <p:cNvGrpSpPr/>
                <p:nvPr/>
              </p:nvGrpSpPr>
              <p:grpSpPr>
                <a:xfrm>
                  <a:off x="1984320" y="3313080"/>
                  <a:ext cx="604800" cy="604800"/>
                  <a:chOff x="1984320" y="3313080"/>
                  <a:chExt cx="604800" cy="604800"/>
                </a:xfrm>
              </p:grpSpPr>
              <p:sp>
                <p:nvSpPr>
                  <p:cNvPr id="158" name="Oval 10"/>
                  <p:cNvSpPr/>
                  <p:nvPr/>
                </p:nvSpPr>
                <p:spPr>
                  <a:xfrm>
                    <a:off x="1984320" y="3313080"/>
                    <a:ext cx="60480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Oval 11"/>
                  <p:cNvSpPr/>
                  <p:nvPr/>
                </p:nvSpPr>
                <p:spPr>
                  <a:xfrm>
                    <a:off x="2130840" y="34365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Group 13"/>
                <p:cNvGrpSpPr/>
                <p:nvPr/>
              </p:nvGrpSpPr>
              <p:grpSpPr>
                <a:xfrm>
                  <a:off x="6593040" y="3313080"/>
                  <a:ext cx="604800" cy="604800"/>
                  <a:chOff x="6593040" y="3313080"/>
                  <a:chExt cx="604800" cy="604800"/>
                </a:xfrm>
              </p:grpSpPr>
              <p:sp>
                <p:nvSpPr>
                  <p:cNvPr id="161" name="Oval 14"/>
                  <p:cNvSpPr/>
                  <p:nvPr/>
                </p:nvSpPr>
                <p:spPr>
                  <a:xfrm>
                    <a:off x="6593040" y="3313080"/>
                    <a:ext cx="60480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Oval 15"/>
                  <p:cNvSpPr/>
                  <p:nvPr/>
                </p:nvSpPr>
                <p:spPr>
                  <a:xfrm>
                    <a:off x="6689160" y="3447360"/>
                    <a:ext cx="33444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3" name="TextBox 45"/>
            <p:cNvSpPr/>
            <p:nvPr/>
          </p:nvSpPr>
          <p:spPr>
            <a:xfrm>
              <a:off x="2611440" y="3405240"/>
              <a:ext cx="4296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二、各环节操作流程及注意事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组合 44"/>
          <p:cNvGrpSpPr/>
          <p:nvPr/>
        </p:nvGrpSpPr>
        <p:grpSpPr>
          <a:xfrm>
            <a:off x="1962000" y="4518000"/>
            <a:ext cx="5229000" cy="623880"/>
            <a:chOff x="1962000" y="4518000"/>
            <a:chExt cx="5229000" cy="623880"/>
          </a:xfrm>
        </p:grpSpPr>
        <p:grpSp>
          <p:nvGrpSpPr>
            <p:cNvPr id="165" name="Group 64"/>
            <p:cNvGrpSpPr/>
            <p:nvPr/>
          </p:nvGrpSpPr>
          <p:grpSpPr>
            <a:xfrm>
              <a:off x="1962000" y="4518000"/>
              <a:ext cx="5229000" cy="623880"/>
              <a:chOff x="1962000" y="4518000"/>
              <a:chExt cx="5229000" cy="623880"/>
            </a:xfrm>
          </p:grpSpPr>
          <p:sp>
            <p:nvSpPr>
              <p:cNvPr id="166" name="AutoShape 30"/>
              <p:cNvSpPr/>
              <p:nvPr/>
            </p:nvSpPr>
            <p:spPr>
              <a:xfrm>
                <a:off x="1983960" y="45435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Group 63"/>
              <p:cNvGrpSpPr/>
              <p:nvPr/>
            </p:nvGrpSpPr>
            <p:grpSpPr>
              <a:xfrm>
                <a:off x="1962000" y="4518000"/>
                <a:ext cx="5213160" cy="606600"/>
                <a:chOff x="1962000" y="4518000"/>
                <a:chExt cx="5213160" cy="606600"/>
              </a:xfrm>
            </p:grpSpPr>
            <p:sp>
              <p:nvSpPr>
                <p:cNvPr id="168" name="AutoShape 32"/>
                <p:cNvSpPr/>
                <p:nvPr/>
              </p:nvSpPr>
              <p:spPr>
                <a:xfrm>
                  <a:off x="2276280" y="45180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b7de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33"/>
                <p:cNvSpPr/>
                <p:nvPr/>
              </p:nvSpPr>
              <p:spPr>
                <a:xfrm>
                  <a:off x="2301480" y="46116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" name="Group 62"/>
                <p:cNvGrpSpPr/>
                <p:nvPr/>
              </p:nvGrpSpPr>
              <p:grpSpPr>
                <a:xfrm>
                  <a:off x="1962000" y="4519440"/>
                  <a:ext cx="604800" cy="605160"/>
                  <a:chOff x="1962000" y="4519440"/>
                  <a:chExt cx="604800" cy="605160"/>
                </a:xfrm>
              </p:grpSpPr>
              <p:sp>
                <p:nvSpPr>
                  <p:cNvPr id="171" name="Oval 35"/>
                  <p:cNvSpPr/>
                  <p:nvPr/>
                </p:nvSpPr>
                <p:spPr>
                  <a:xfrm>
                    <a:off x="1962000" y="451944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Oval 36"/>
                  <p:cNvSpPr/>
                  <p:nvPr/>
                </p:nvSpPr>
                <p:spPr>
                  <a:xfrm>
                    <a:off x="2128680" y="466416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" name="Group 61"/>
                <p:cNvGrpSpPr/>
                <p:nvPr/>
              </p:nvGrpSpPr>
              <p:grpSpPr>
                <a:xfrm>
                  <a:off x="6570360" y="4519440"/>
                  <a:ext cx="604800" cy="605160"/>
                  <a:chOff x="6570360" y="4519440"/>
                  <a:chExt cx="604800" cy="605160"/>
                </a:xfrm>
              </p:grpSpPr>
              <p:sp>
                <p:nvSpPr>
                  <p:cNvPr id="174" name="Oval 39"/>
                  <p:cNvSpPr/>
                  <p:nvPr/>
                </p:nvSpPr>
                <p:spPr>
                  <a:xfrm>
                    <a:off x="6570360" y="451944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Oval 40"/>
                  <p:cNvSpPr/>
                  <p:nvPr/>
                </p:nvSpPr>
                <p:spPr>
                  <a:xfrm>
                    <a:off x="6676560" y="4653000"/>
                    <a:ext cx="33372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6" name="TextBox 44"/>
            <p:cNvSpPr/>
            <p:nvPr/>
          </p:nvSpPr>
          <p:spPr>
            <a:xfrm>
              <a:off x="3362040" y="460044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三、常见问题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1307880"/>
            <a:ext cx="8286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表论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填写论文信息时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项目均须填写，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要填全，不能只填标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项目，其中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刊物名称”要写全称，不能简写。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" descr="C:\Users\syn\AppData\Roaming\Tencent\Users\398705640\QQ\WinTemp\RichOle\5}DAR0M$7HOC((R{IMKWG}5.png"/>
          <p:cNvPicPr/>
          <p:nvPr/>
        </p:nvPicPr>
        <p:blipFill>
          <a:blip r:embed="rId1"/>
          <a:stretch/>
        </p:blipFill>
        <p:spPr>
          <a:xfrm>
            <a:off x="903240" y="2503440"/>
            <a:ext cx="6651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50920" y="1307880"/>
            <a:ext cx="82864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表论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按照第一作者、第二作者、第三作者的顺序依次录入，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能领域作者排名填写实际贡献度排名，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098720" y="2130480"/>
            <a:ext cx="6308640" cy="2598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793800" y="5460840"/>
            <a:ext cx="6848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250920" y="1307880"/>
            <a:ext cx="82864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论文起止时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起止时间”指从开始进入学位论文课题的研究开始，至完成论文撰写为止。如从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4.9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一入学开始论文相关课题研究，至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7.4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撰写完毕，则“论文起止时间”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4.9-2017.4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7920" y="5605560"/>
            <a:ext cx="9136080" cy="1269720"/>
            <a:chOff x="7920" y="5605560"/>
            <a:chExt cx="9136080" cy="1269720"/>
          </a:xfrm>
        </p:grpSpPr>
        <p:sp>
          <p:nvSpPr>
            <p:cNvPr id="258" name="Rectangle 5"/>
            <p:cNvSpPr/>
            <p:nvPr/>
          </p:nvSpPr>
          <p:spPr>
            <a:xfrm>
              <a:off x="7920" y="5605560"/>
              <a:ext cx="9136080" cy="1263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1f497d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Group 6"/>
            <p:cNvGrpSpPr/>
            <p:nvPr/>
          </p:nvGrpSpPr>
          <p:grpSpPr>
            <a:xfrm>
              <a:off x="307800" y="5607000"/>
              <a:ext cx="8421840" cy="1268280"/>
              <a:chOff x="307800" y="5607000"/>
              <a:chExt cx="8421840" cy="1268280"/>
            </a:xfrm>
          </p:grpSpPr>
          <p:sp>
            <p:nvSpPr>
              <p:cNvPr id="260" name="Rectangle 7"/>
              <p:cNvSpPr/>
              <p:nvPr/>
            </p:nvSpPr>
            <p:spPr>
              <a:xfrm>
                <a:off x="30780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8"/>
              <p:cNvSpPr/>
              <p:nvPr/>
            </p:nvSpPr>
            <p:spPr>
              <a:xfrm>
                <a:off x="78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9"/>
              <p:cNvSpPr/>
              <p:nvPr/>
            </p:nvSpPr>
            <p:spPr>
              <a:xfrm>
                <a:off x="134928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0"/>
              <p:cNvSpPr/>
              <p:nvPr/>
            </p:nvSpPr>
            <p:spPr>
              <a:xfrm>
                <a:off x="182556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11"/>
              <p:cNvSpPr/>
              <p:nvPr/>
            </p:nvSpPr>
            <p:spPr>
              <a:xfrm>
                <a:off x="23907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2"/>
              <p:cNvSpPr/>
              <p:nvPr/>
            </p:nvSpPr>
            <p:spPr>
              <a:xfrm>
                <a:off x="286704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13"/>
              <p:cNvSpPr/>
              <p:nvPr/>
            </p:nvSpPr>
            <p:spPr>
              <a:xfrm>
                <a:off x="343224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14"/>
              <p:cNvSpPr/>
              <p:nvPr/>
            </p:nvSpPr>
            <p:spPr>
              <a:xfrm>
                <a:off x="390852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15"/>
              <p:cNvSpPr/>
              <p:nvPr/>
            </p:nvSpPr>
            <p:spPr>
              <a:xfrm>
                <a:off x="447372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6"/>
              <p:cNvSpPr/>
              <p:nvPr/>
            </p:nvSpPr>
            <p:spPr>
              <a:xfrm>
                <a:off x="495000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17"/>
              <p:cNvSpPr/>
              <p:nvPr/>
            </p:nvSpPr>
            <p:spPr>
              <a:xfrm>
                <a:off x="551484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18"/>
              <p:cNvSpPr/>
              <p:nvPr/>
            </p:nvSpPr>
            <p:spPr>
              <a:xfrm>
                <a:off x="599112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19"/>
              <p:cNvSpPr/>
              <p:nvPr/>
            </p:nvSpPr>
            <p:spPr>
              <a:xfrm>
                <a:off x="6556320" y="5613480"/>
                <a:ext cx="9072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20"/>
              <p:cNvSpPr/>
              <p:nvPr/>
            </p:nvSpPr>
            <p:spPr>
              <a:xfrm>
                <a:off x="7032600" y="5613480"/>
                <a:ext cx="27000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Rectangle 21"/>
              <p:cNvSpPr/>
              <p:nvPr/>
            </p:nvSpPr>
            <p:spPr>
              <a:xfrm>
                <a:off x="759780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22"/>
              <p:cNvSpPr/>
              <p:nvPr/>
            </p:nvSpPr>
            <p:spPr>
              <a:xfrm>
                <a:off x="807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23"/>
              <p:cNvSpPr/>
              <p:nvPr/>
            </p:nvSpPr>
            <p:spPr>
              <a:xfrm>
                <a:off x="863928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矩形 37"/>
          <p:cNvSpPr/>
          <p:nvPr/>
        </p:nvSpPr>
        <p:spPr>
          <a:xfrm>
            <a:off x="708120" y="2044800"/>
            <a:ext cx="753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任何问题，请及时与我联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邮箱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10-625609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问题可直接与国科大网络中心联系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10-882566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组合 4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grpSp>
          <p:nvGrpSpPr>
            <p:cNvPr id="179" name="Group 64"/>
            <p:cNvGrpSpPr/>
            <p:nvPr/>
          </p:nvGrpSpPr>
          <p:grpSpPr>
            <a:xfrm>
              <a:off x="1959120" y="2030400"/>
              <a:ext cx="5229000" cy="623880"/>
              <a:chOff x="1959120" y="2030400"/>
              <a:chExt cx="5229000" cy="623880"/>
            </a:xfrm>
          </p:grpSpPr>
          <p:sp>
            <p:nvSpPr>
              <p:cNvPr id="180" name="AutoShape 30"/>
              <p:cNvSpPr/>
              <p:nvPr/>
            </p:nvSpPr>
            <p:spPr>
              <a:xfrm>
                <a:off x="1981080" y="20559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Group 63"/>
              <p:cNvGrpSpPr/>
              <p:nvPr/>
            </p:nvGrpSpPr>
            <p:grpSpPr>
              <a:xfrm>
                <a:off x="1959120" y="2030400"/>
                <a:ext cx="5213160" cy="606600"/>
                <a:chOff x="1959120" y="2030400"/>
                <a:chExt cx="5213160" cy="606600"/>
              </a:xfrm>
            </p:grpSpPr>
            <p:sp>
              <p:nvSpPr>
                <p:cNvPr id="182" name="AutoShape 32"/>
                <p:cNvSpPr/>
                <p:nvPr/>
              </p:nvSpPr>
              <p:spPr>
                <a:xfrm>
                  <a:off x="2273400" y="20304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33"/>
                <p:cNvSpPr/>
                <p:nvPr/>
              </p:nvSpPr>
              <p:spPr>
                <a:xfrm>
                  <a:off x="2298600" y="21240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f497d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" name="Group 62"/>
                <p:cNvGrpSpPr/>
                <p:nvPr/>
              </p:nvGrpSpPr>
              <p:grpSpPr>
                <a:xfrm>
                  <a:off x="1959120" y="2031840"/>
                  <a:ext cx="604800" cy="605160"/>
                  <a:chOff x="1959120" y="2031840"/>
                  <a:chExt cx="604800" cy="605160"/>
                </a:xfrm>
              </p:grpSpPr>
              <p:sp>
                <p:nvSpPr>
                  <p:cNvPr id="185" name="Oval 35"/>
                  <p:cNvSpPr/>
                  <p:nvPr/>
                </p:nvSpPr>
                <p:spPr>
                  <a:xfrm>
                    <a:off x="195912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Oval 36"/>
                  <p:cNvSpPr/>
                  <p:nvPr/>
                </p:nvSpPr>
                <p:spPr>
                  <a:xfrm>
                    <a:off x="2095560" y="21463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Group 61"/>
                <p:cNvGrpSpPr/>
                <p:nvPr/>
              </p:nvGrpSpPr>
              <p:grpSpPr>
                <a:xfrm>
                  <a:off x="6567480" y="2031840"/>
                  <a:ext cx="604800" cy="605160"/>
                  <a:chOff x="6567480" y="2031840"/>
                  <a:chExt cx="604800" cy="605160"/>
                </a:xfrm>
              </p:grpSpPr>
              <p:sp>
                <p:nvSpPr>
                  <p:cNvPr id="188" name="Oval 39"/>
                  <p:cNvSpPr/>
                  <p:nvPr/>
                </p:nvSpPr>
                <p:spPr>
                  <a:xfrm>
                    <a:off x="656748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Oval 40"/>
                  <p:cNvSpPr/>
                  <p:nvPr/>
                </p:nvSpPr>
                <p:spPr>
                  <a:xfrm>
                    <a:off x="6694560" y="216540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0" name="TextBox 44"/>
            <p:cNvSpPr/>
            <p:nvPr/>
          </p:nvSpPr>
          <p:spPr>
            <a:xfrm>
              <a:off x="3094200" y="211284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一、各时间节点安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时间节点安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88840" y="1940040"/>
          <a:ext cx="7383600" cy="3378240"/>
        </p:xfrm>
        <a:graphic>
          <a:graphicData uri="http://schemas.openxmlformats.org/drawingml/2006/table">
            <a:tbl>
              <a:tblPr/>
              <a:tblGrid>
                <a:gridCol w="4884840"/>
                <a:gridCol w="2498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环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截止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申请（培养指导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资格审查：课程学分、必修环节学分（开题报告、中期考核、学术报告和社会实践）、发表文章、学位论文完成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17.4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送审学位论文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两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聘请答辩委员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一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组织答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填报学位申请信息（学位管理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相关材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组合 49"/>
          <p:cNvGrpSpPr/>
          <p:nvPr/>
        </p:nvGrpSpPr>
        <p:grpSpPr>
          <a:xfrm>
            <a:off x="1967040" y="2025720"/>
            <a:ext cx="5228640" cy="623880"/>
            <a:chOff x="1967040" y="2025720"/>
            <a:chExt cx="5228640" cy="623880"/>
          </a:xfrm>
        </p:grpSpPr>
        <p:grpSp>
          <p:nvGrpSpPr>
            <p:cNvPr id="195" name="Group 81"/>
            <p:cNvGrpSpPr/>
            <p:nvPr/>
          </p:nvGrpSpPr>
          <p:grpSpPr>
            <a:xfrm>
              <a:off x="1967040" y="2025720"/>
              <a:ext cx="5228640" cy="623880"/>
              <a:chOff x="1967040" y="2025720"/>
              <a:chExt cx="5228640" cy="623880"/>
            </a:xfrm>
          </p:grpSpPr>
          <p:sp>
            <p:nvSpPr>
              <p:cNvPr id="196" name="AutoShape 6"/>
              <p:cNvSpPr/>
              <p:nvPr/>
            </p:nvSpPr>
            <p:spPr>
              <a:xfrm>
                <a:off x="1989000" y="2050920"/>
                <a:ext cx="520668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Group 80"/>
              <p:cNvGrpSpPr/>
              <p:nvPr/>
            </p:nvGrpSpPr>
            <p:grpSpPr>
              <a:xfrm>
                <a:off x="1967040" y="2025720"/>
                <a:ext cx="5212800" cy="606240"/>
                <a:chOff x="1967040" y="2025720"/>
                <a:chExt cx="5212800" cy="606240"/>
              </a:xfrm>
            </p:grpSpPr>
            <p:sp>
              <p:nvSpPr>
                <p:cNvPr id="198" name="AutoShape 7"/>
                <p:cNvSpPr/>
                <p:nvPr/>
              </p:nvSpPr>
              <p:spPr>
                <a:xfrm>
                  <a:off x="2280960" y="2025720"/>
                  <a:ext cx="458748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3185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8"/>
                <p:cNvSpPr/>
                <p:nvPr/>
              </p:nvSpPr>
              <p:spPr>
                <a:xfrm>
                  <a:off x="2306520" y="2119320"/>
                  <a:ext cx="4563720" cy="43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5968"/>
                    </a:gs>
                    <a:gs pos="100000">
                      <a:srgbClr val="1f497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Group 9"/>
                <p:cNvGrpSpPr/>
                <p:nvPr/>
              </p:nvGrpSpPr>
              <p:grpSpPr>
                <a:xfrm>
                  <a:off x="1967040" y="2027160"/>
                  <a:ext cx="604440" cy="604800"/>
                  <a:chOff x="1967040" y="2027160"/>
                  <a:chExt cx="604440" cy="604800"/>
                </a:xfrm>
              </p:grpSpPr>
              <p:sp>
                <p:nvSpPr>
                  <p:cNvPr id="201" name="Oval 10"/>
                  <p:cNvSpPr/>
                  <p:nvPr/>
                </p:nvSpPr>
                <p:spPr>
                  <a:xfrm>
                    <a:off x="1967040" y="2027160"/>
                    <a:ext cx="60444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Oval 11"/>
                  <p:cNvSpPr/>
                  <p:nvPr/>
                </p:nvSpPr>
                <p:spPr>
                  <a:xfrm>
                    <a:off x="2113560" y="2150640"/>
                    <a:ext cx="33372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Group 13"/>
                <p:cNvGrpSpPr/>
                <p:nvPr/>
              </p:nvGrpSpPr>
              <p:grpSpPr>
                <a:xfrm>
                  <a:off x="6575400" y="2027160"/>
                  <a:ext cx="604440" cy="604800"/>
                  <a:chOff x="6575400" y="2027160"/>
                  <a:chExt cx="604440" cy="604800"/>
                </a:xfrm>
              </p:grpSpPr>
              <p:sp>
                <p:nvSpPr>
                  <p:cNvPr id="204" name="Oval 14"/>
                  <p:cNvSpPr/>
                  <p:nvPr/>
                </p:nvSpPr>
                <p:spPr>
                  <a:xfrm>
                    <a:off x="6575400" y="2027160"/>
                    <a:ext cx="60444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Oval 15"/>
                  <p:cNvSpPr/>
                  <p:nvPr/>
                </p:nvSpPr>
                <p:spPr>
                  <a:xfrm>
                    <a:off x="6671520" y="216144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6" name="TextBox 45"/>
            <p:cNvSpPr/>
            <p:nvPr/>
          </p:nvSpPr>
          <p:spPr>
            <a:xfrm>
              <a:off x="2593800" y="2119320"/>
              <a:ext cx="429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二、各环节操作流程及注意事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69720" y="1457280"/>
            <a:ext cx="85932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要求的课程体系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开题报告、中期考核、学术报告和社会实践，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公开发表学术论文要求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学位论文初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（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http://sep.ucas.ac.cn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指导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次维护各模块信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模块具体要求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学位申请者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69360" y="1457280"/>
            <a:ext cx="83948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需提交的材料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生成的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式两份，双面打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各模块信息需填写完整，开题报告、中期考核、学术报告和社会实践均已获得学分，并需要有导师、王丽老师签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实质性贡献者的发表论文首页复印件或接收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能领域同学需提供一份如下格式的说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杂志名称，年卷期，页码）的实质性贡献者或第一责任人，特此说明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人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69360" y="1456920"/>
            <a:ext cx="8533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（一般由课题秘书担任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、所级审核通过答辩申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评阅专家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在线评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一、聘请评阅专家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69360" y="1457280"/>
            <a:ext cx="8385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截止时间为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前两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含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的导师不能作为评阅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过程中如有一位评阅人持否定意见，则再增聘两位评阅人进行评阅。如累计有两位评阅人持否定意见，本次学位申请无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书双面打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06:15:06Z</dcterms:created>
  <dc:creator>孙亚宁</dc:creator>
  <dc:description/>
  <dc:language>en-US</dc:language>
  <cp:lastModifiedBy>孙亚宁</cp:lastModifiedBy>
  <dcterms:modified xsi:type="dcterms:W3CDTF">2017-03-02T07:09:13Z</dcterms:modified>
  <cp:revision>155</cp:revision>
  <dc:subject/>
  <dc:title>PowerPoint TEMPLATE</dc:title>
</cp:coreProperties>
</file>