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975A-3B8C-413C-B71A-C4B23299710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0D8C-5750-4BC9-B106-937B187B68D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11EE-49EE-4891-A0EB-3A1F3E8711A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4980-751D-4DF0-9544-1A9818DA368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6137-BF37-4BF5-B720-A2DDC237DBA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0930-7F53-4022-BA75-060135AA950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223A-42DA-4ABB-8E9F-E753B919949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0620-573A-4453-88DC-E2277FB2A58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1269-F301-49B7-9990-003E4972217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428C-2F6A-423B-83DA-0B80C7288E9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9D78-1580-43C4-AFFE-36881EB482A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621D-9815-4AB0-B389-86ADF4F0345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B9F0-F726-4C2A-99B4-943FCF004B9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622F-A205-4165-9324-3594064B37C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F8F8-0F31-43E6-A2DA-933D0415F3C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390F-68E1-4D61-AC50-78EF8487F37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66D1-21FA-45B8-86C7-1B6D5A5B818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E06D-C56B-45AA-AE43-070C0EF87DE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D1B5-17BD-4265-9EEB-D31FED0B0D7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EF0-B5ED-45DA-BC07-E0610A9C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357-D75A-41C8-93B8-00F0FF31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DD2-9108-4435-984E-1D9DCBC9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737-49C2-44B8-A90B-019BBC4D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3D6B-BC89-43AA-9751-D9025371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6DD6-300F-48E3-851A-EA776FC7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0A8C-BFD7-4F7C-A397-D124752C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C1E5-A645-41FB-B6EF-6DBCA004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3712-D439-47B1-84AA-04CBB3F9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0E0F-FF23-4C5A-84A1-53D78413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4CEC-2114-460B-933B-2E85A6C9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8EF-675C-45A1-BB9E-77299CF6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4800-5DD1-4D5B-AB50-9F927E80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AA43-F894-4CAC-9BEC-5621FE84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706B-FFCB-4E1D-8690-7B36C4AA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F4E1-3358-47DF-A0ED-2EB9FD57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1EF5-5534-4D7C-97DF-026D2614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0664-CD8A-42C7-BA24-2BAFC008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222E-0723-4343-A7D5-0CAF81F8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E715-26F3-46E7-8F1C-BF38833F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E30A2-44D3-491D-83E0-D34DF15B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6A70-1D65-491B-AA8D-84DECCB3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69B-A814-46A6-9BCD-429F9965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6A037-CC72-4E82-82B8-4B3B8881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AFEC-AC97-45C8-935D-57E5066D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4764-EA11-4931-82E2-98278161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93DCB-7B69-43DB-99AF-F36B7866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D172D-40D2-4A8D-AE67-5AD04EF1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42DB-460C-4721-9534-C1BC1EAB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5DACE-836F-4426-B74F-24D84216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689-BB65-4389-BE1C-B86D49A0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F85-C983-48E0-97DD-9FDA016E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F76-3DD6-41C8-9982-226A2F14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AE2-D493-460D-8948-CFB275FD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0BB-070A-4232-8763-88A66A03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8C8-E55A-4505-8F73-FA5EBDD7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9CCE-CCAE-4398-A7DB-2F3DCE390404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90"/>
          <p:cNvSpPr/>
          <p:nvPr/>
        </p:nvSpPr>
        <p:spPr>
          <a:xfrm>
            <a:off x="2438280" y="1176480"/>
            <a:ext cx="6705720" cy="13968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40CA-AD35-4CEA-96BC-FA06C45D4D04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Freeform 90"/>
          <p:cNvSpPr/>
          <p:nvPr/>
        </p:nvSpPr>
        <p:spPr>
          <a:xfrm rot="10800000">
            <a:off x="-360" y="1009080"/>
            <a:ext cx="7265880" cy="120600"/>
          </a:xfrm>
          <a:custGeom>
            <a:avLst/>
            <a:gdLst>
              <a:gd name="textAreaLeft" fmla="*/ 0 w 7265880"/>
              <a:gd name="textAreaRight" fmla="*/ 7266240 w 7265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3A52-43D7-410A-B8D8-8C11A6D25053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ep.ucas.ac.cn/" TargetMode="External"/><Relationship Id="rId2" Type="http://schemas.openxmlformats.org/officeDocument/2006/relationships/hyperlink" Target="file:///&#23398;&#20301;&#30003;&#35831;&#32773;&#12289;&#31572;&#36777;&#31192;&#20070;&#32593;&#19978;&#25805;&#20316;&#25351;&#21335;/1-&#23398;&#20301;&#30003;&#35831;&#32773;&#32593;&#19978;&#25805;&#20316;&#25351;&#21335;/&#23398;&#20301;&#30003;&#35831;&#32773;&#32593;&#19978;&#25805;&#20316;&#25351;&#21335;.do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2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0680" y="1887120"/>
            <a:ext cx="7993080" cy="14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论文答辩及学位申请流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460760" y="3940200"/>
            <a:ext cx="343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论物理所研究生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17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评阅人均返回评阅意见且全部同意组织答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级审核通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答辩委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二、聘请答辩委员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少在答辩时间前一天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成员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；一般应包含本单位及外单位专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含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；答辩委员会主席应由博士生指导教师担任；成员中博士生指导教师一般不少于三分之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的评阅人一般应参加该论文答辩委员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、答辩秘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流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会议室（老楼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，新楼找庄辞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贴答辩通知（下载统一模板填写，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齐如下材料至研究生部盖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（学位申请人系统生成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答辩秘书系统下载打印所有评阅人评阅书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所网页下载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单面打印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52280" y="363600"/>
            <a:ext cx="6483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3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必须完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天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取横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领答辩酬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半小时布置答辩会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开始前把以下材料交答辩委员会主席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程序（所网页下载，填写信息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所有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委员会决议初稿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位申请人事先拟好内容，请导师先过一遍，电子版及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纸质版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认真做好答辩记录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会休会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助答辩委员会主席发表决票和收表决票；及时整理“答辩委员会决议”并找主席签字；提醒答辩委员会成员在《中国科学院大学论文答辩情况和学位授予决议书》上签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结束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放酬金，合影留念，并挑选一张合影发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答辩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细信息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秘书兼记录人职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报或同步各模块信息（请先阅读左侧最下的“填报说明”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情况：先同步，再据实填写剩余各项内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导信息：自学籍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息：据实填写各项内容。其中学习方式为全脱产，学习年限为实际年限，如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统考博士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延期半年）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简历：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69720" y="1457280"/>
            <a:ext cx="85060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程学习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教务管理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修环节～论文答辩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模块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题报告、中期考核、学术报告及社会实践均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网上提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一在学位管理系统再提交一遍最终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确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信息填报后，需要做“信息确认”封存数据，确认后学生不能再修改数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学位论文在评阅、答辩及初审后若做了修改，应将详细的修改情况填报到系统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69720" y="1457280"/>
            <a:ext cx="84664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材料列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按照撰写规定撰写，新版封皮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实质性贡献者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学位论文评阅书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评阅人的评阅书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论文答辩情况和学位授予决议书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面打印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委员会表决票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回收件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业生登记表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双面打印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上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-7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材料请勿装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交答辩相关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组合 44"/>
          <p:cNvGrpSpPr/>
          <p:nvPr/>
        </p:nvGrpSpPr>
        <p:grpSpPr>
          <a:xfrm>
            <a:off x="1962000" y="2025720"/>
            <a:ext cx="5229000" cy="623880"/>
            <a:chOff x="1962000" y="2025720"/>
            <a:chExt cx="5229000" cy="623880"/>
          </a:xfrm>
        </p:grpSpPr>
        <p:grpSp>
          <p:nvGrpSpPr>
            <p:cNvPr id="233" name="Group 64"/>
            <p:cNvGrpSpPr/>
            <p:nvPr/>
          </p:nvGrpSpPr>
          <p:grpSpPr>
            <a:xfrm>
              <a:off x="1962000" y="2025720"/>
              <a:ext cx="5229000" cy="623880"/>
              <a:chOff x="1962000" y="2025720"/>
              <a:chExt cx="5229000" cy="623880"/>
            </a:xfrm>
          </p:grpSpPr>
          <p:sp>
            <p:nvSpPr>
              <p:cNvPr id="234" name="AutoShape 30"/>
              <p:cNvSpPr/>
              <p:nvPr/>
            </p:nvSpPr>
            <p:spPr>
              <a:xfrm>
                <a:off x="1983960" y="205128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Group 63"/>
              <p:cNvGrpSpPr/>
              <p:nvPr/>
            </p:nvGrpSpPr>
            <p:grpSpPr>
              <a:xfrm>
                <a:off x="1962000" y="2025720"/>
                <a:ext cx="5213160" cy="606600"/>
                <a:chOff x="1962000" y="2025720"/>
                <a:chExt cx="5213160" cy="606600"/>
              </a:xfrm>
            </p:grpSpPr>
            <p:sp>
              <p:nvSpPr>
                <p:cNvPr id="236" name="AutoShape 32"/>
                <p:cNvSpPr/>
                <p:nvPr/>
              </p:nvSpPr>
              <p:spPr>
                <a:xfrm>
                  <a:off x="2276280" y="202572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b7de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Rectangle 33"/>
                <p:cNvSpPr/>
                <p:nvPr/>
              </p:nvSpPr>
              <p:spPr>
                <a:xfrm>
                  <a:off x="2301480" y="211932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Group 62"/>
                <p:cNvGrpSpPr/>
                <p:nvPr/>
              </p:nvGrpSpPr>
              <p:grpSpPr>
                <a:xfrm>
                  <a:off x="1962000" y="2027160"/>
                  <a:ext cx="604800" cy="605160"/>
                  <a:chOff x="1962000" y="2027160"/>
                  <a:chExt cx="604800" cy="605160"/>
                </a:xfrm>
              </p:grpSpPr>
              <p:sp>
                <p:nvSpPr>
                  <p:cNvPr id="239" name="Oval 35"/>
                  <p:cNvSpPr/>
                  <p:nvPr/>
                </p:nvSpPr>
                <p:spPr>
                  <a:xfrm>
                    <a:off x="1962000" y="202716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Oval 36"/>
                  <p:cNvSpPr/>
                  <p:nvPr/>
                </p:nvSpPr>
                <p:spPr>
                  <a:xfrm>
                    <a:off x="2128680" y="217188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1"/>
                <p:cNvGrpSpPr/>
                <p:nvPr/>
              </p:nvGrpSpPr>
              <p:grpSpPr>
                <a:xfrm>
                  <a:off x="6570360" y="2027160"/>
                  <a:ext cx="604800" cy="605160"/>
                  <a:chOff x="6570360" y="2027160"/>
                  <a:chExt cx="604800" cy="605160"/>
                </a:xfrm>
              </p:grpSpPr>
              <p:sp>
                <p:nvSpPr>
                  <p:cNvPr id="242" name="Oval 39"/>
                  <p:cNvSpPr/>
                  <p:nvPr/>
                </p:nvSpPr>
                <p:spPr>
                  <a:xfrm>
                    <a:off x="6570360" y="202716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Oval 40"/>
                  <p:cNvSpPr/>
                  <p:nvPr/>
                </p:nvSpPr>
                <p:spPr>
                  <a:xfrm>
                    <a:off x="6676560" y="2160720"/>
                    <a:ext cx="33372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4" name="TextBox 44"/>
            <p:cNvSpPr/>
            <p:nvPr/>
          </p:nvSpPr>
          <p:spPr>
            <a:xfrm>
              <a:off x="3362040" y="210816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三、常见问题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50560" y="1307880"/>
            <a:ext cx="8753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答辩申请日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申请日期”是指提出答辩申请的日期，而不是答辩那天的日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主要简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大学填起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以下示例填写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漏掉在我所攻读学位这段时间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奖惩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在我所攻读学位期间的奖惩信息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请填“无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不要空着不填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必修环节学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定要查看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必修环节的开题报告、中期考核、学术报告及社会实践是否都有学分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一项没有学分则答辩申请不能通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" descr="0f89f84f9e3df8096981a24c5e885a31"/>
          <p:cNvPicPr/>
          <p:nvPr/>
        </p:nvPicPr>
        <p:blipFill>
          <a:blip r:embed="rId1"/>
          <a:stretch/>
        </p:blipFill>
        <p:spPr>
          <a:xfrm>
            <a:off x="1465200" y="2962440"/>
            <a:ext cx="5124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39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40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42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45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Oval 36"/>
                  <p:cNvSpPr/>
                  <p:nvPr/>
                </p:nvSpPr>
                <p:spPr>
                  <a:xfrm>
                    <a:off x="2095560" y="21463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48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Oval 40"/>
                  <p:cNvSpPr/>
                  <p:nvPr/>
                </p:nvSpPr>
                <p:spPr>
                  <a:xfrm>
                    <a:off x="6694560" y="216540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0" name="TextBox 44"/>
            <p:cNvSpPr/>
            <p:nvPr/>
          </p:nvSpPr>
          <p:spPr>
            <a:xfrm>
              <a:off x="309456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组合 49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grpSp>
          <p:nvGrpSpPr>
            <p:cNvPr id="152" name="Group 81"/>
            <p:cNvGrpSpPr/>
            <p:nvPr/>
          </p:nvGrpSpPr>
          <p:grpSpPr>
            <a:xfrm>
              <a:off x="1984320" y="3311640"/>
              <a:ext cx="5229360" cy="623880"/>
              <a:chOff x="1984320" y="3311640"/>
              <a:chExt cx="5229360" cy="623880"/>
            </a:xfrm>
          </p:grpSpPr>
          <p:sp>
            <p:nvSpPr>
              <p:cNvPr id="153" name="AutoShape 6"/>
              <p:cNvSpPr/>
              <p:nvPr/>
            </p:nvSpPr>
            <p:spPr>
              <a:xfrm>
                <a:off x="2006640" y="3336840"/>
                <a:ext cx="520704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80"/>
              <p:cNvGrpSpPr/>
              <p:nvPr/>
            </p:nvGrpSpPr>
            <p:grpSpPr>
              <a:xfrm>
                <a:off x="1984320" y="3311640"/>
                <a:ext cx="5213520" cy="606240"/>
                <a:chOff x="1984320" y="3311640"/>
                <a:chExt cx="5213520" cy="606240"/>
              </a:xfrm>
            </p:grpSpPr>
            <p:sp>
              <p:nvSpPr>
                <p:cNvPr id="155" name="AutoShape 7"/>
                <p:cNvSpPr/>
                <p:nvPr/>
              </p:nvSpPr>
              <p:spPr>
                <a:xfrm>
                  <a:off x="2298600" y="331164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318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8"/>
                <p:cNvSpPr/>
                <p:nvPr/>
              </p:nvSpPr>
              <p:spPr>
                <a:xfrm>
                  <a:off x="2324160" y="3405240"/>
                  <a:ext cx="456408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5968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Group 9"/>
                <p:cNvGrpSpPr/>
                <p:nvPr/>
              </p:nvGrpSpPr>
              <p:grpSpPr>
                <a:xfrm>
                  <a:off x="1984320" y="3313080"/>
                  <a:ext cx="604800" cy="604800"/>
                  <a:chOff x="1984320" y="3313080"/>
                  <a:chExt cx="604800" cy="604800"/>
                </a:xfrm>
              </p:grpSpPr>
              <p:sp>
                <p:nvSpPr>
                  <p:cNvPr id="158" name="Oval 10"/>
                  <p:cNvSpPr/>
                  <p:nvPr/>
                </p:nvSpPr>
                <p:spPr>
                  <a:xfrm>
                    <a:off x="1984320" y="3313080"/>
                    <a:ext cx="60480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Oval 11"/>
                  <p:cNvSpPr/>
                  <p:nvPr/>
                </p:nvSpPr>
                <p:spPr>
                  <a:xfrm>
                    <a:off x="2130840" y="34365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Group 13"/>
                <p:cNvGrpSpPr/>
                <p:nvPr/>
              </p:nvGrpSpPr>
              <p:grpSpPr>
                <a:xfrm>
                  <a:off x="6593040" y="3313080"/>
                  <a:ext cx="604800" cy="604800"/>
                  <a:chOff x="6593040" y="3313080"/>
                  <a:chExt cx="604800" cy="604800"/>
                </a:xfrm>
              </p:grpSpPr>
              <p:sp>
                <p:nvSpPr>
                  <p:cNvPr id="161" name="Oval 14"/>
                  <p:cNvSpPr/>
                  <p:nvPr/>
                </p:nvSpPr>
                <p:spPr>
                  <a:xfrm>
                    <a:off x="6593040" y="3313080"/>
                    <a:ext cx="60480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Oval 15"/>
                  <p:cNvSpPr/>
                  <p:nvPr/>
                </p:nvSpPr>
                <p:spPr>
                  <a:xfrm>
                    <a:off x="6689160" y="3447360"/>
                    <a:ext cx="33444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3" name="TextBox 45"/>
            <p:cNvSpPr/>
            <p:nvPr/>
          </p:nvSpPr>
          <p:spPr>
            <a:xfrm>
              <a:off x="2611440" y="3405240"/>
              <a:ext cx="4296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组合 44"/>
          <p:cNvGrpSpPr/>
          <p:nvPr/>
        </p:nvGrpSpPr>
        <p:grpSpPr>
          <a:xfrm>
            <a:off x="1962000" y="4518000"/>
            <a:ext cx="5229000" cy="623880"/>
            <a:chOff x="1962000" y="4518000"/>
            <a:chExt cx="5229000" cy="623880"/>
          </a:xfrm>
        </p:grpSpPr>
        <p:grpSp>
          <p:nvGrpSpPr>
            <p:cNvPr id="165" name="Group 64"/>
            <p:cNvGrpSpPr/>
            <p:nvPr/>
          </p:nvGrpSpPr>
          <p:grpSpPr>
            <a:xfrm>
              <a:off x="1962000" y="4518000"/>
              <a:ext cx="5229000" cy="623880"/>
              <a:chOff x="1962000" y="4518000"/>
              <a:chExt cx="5229000" cy="623880"/>
            </a:xfrm>
          </p:grpSpPr>
          <p:sp>
            <p:nvSpPr>
              <p:cNvPr id="166" name="AutoShape 30"/>
              <p:cNvSpPr/>
              <p:nvPr/>
            </p:nvSpPr>
            <p:spPr>
              <a:xfrm>
                <a:off x="1983960" y="45435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63"/>
              <p:cNvGrpSpPr/>
              <p:nvPr/>
            </p:nvGrpSpPr>
            <p:grpSpPr>
              <a:xfrm>
                <a:off x="1962000" y="4518000"/>
                <a:ext cx="5213160" cy="606600"/>
                <a:chOff x="1962000" y="4518000"/>
                <a:chExt cx="5213160" cy="606600"/>
              </a:xfrm>
            </p:grpSpPr>
            <p:sp>
              <p:nvSpPr>
                <p:cNvPr id="168" name="AutoShape 32"/>
                <p:cNvSpPr/>
                <p:nvPr/>
              </p:nvSpPr>
              <p:spPr>
                <a:xfrm>
                  <a:off x="2276280" y="45180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b7de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33"/>
                <p:cNvSpPr/>
                <p:nvPr/>
              </p:nvSpPr>
              <p:spPr>
                <a:xfrm>
                  <a:off x="2301480" y="46116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" name="Group 62"/>
                <p:cNvGrpSpPr/>
                <p:nvPr/>
              </p:nvGrpSpPr>
              <p:grpSpPr>
                <a:xfrm>
                  <a:off x="1962000" y="4519440"/>
                  <a:ext cx="604800" cy="605160"/>
                  <a:chOff x="1962000" y="4519440"/>
                  <a:chExt cx="604800" cy="605160"/>
                </a:xfrm>
              </p:grpSpPr>
              <p:sp>
                <p:nvSpPr>
                  <p:cNvPr id="171" name="Oval 35"/>
                  <p:cNvSpPr/>
                  <p:nvPr/>
                </p:nvSpPr>
                <p:spPr>
                  <a:xfrm>
                    <a:off x="1962000" y="451944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Oval 36"/>
                  <p:cNvSpPr/>
                  <p:nvPr/>
                </p:nvSpPr>
                <p:spPr>
                  <a:xfrm>
                    <a:off x="2128680" y="466416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Group 61"/>
                <p:cNvGrpSpPr/>
                <p:nvPr/>
              </p:nvGrpSpPr>
              <p:grpSpPr>
                <a:xfrm>
                  <a:off x="6570360" y="4519440"/>
                  <a:ext cx="604800" cy="605160"/>
                  <a:chOff x="6570360" y="4519440"/>
                  <a:chExt cx="604800" cy="605160"/>
                </a:xfrm>
              </p:grpSpPr>
              <p:sp>
                <p:nvSpPr>
                  <p:cNvPr id="174" name="Oval 39"/>
                  <p:cNvSpPr/>
                  <p:nvPr/>
                </p:nvSpPr>
                <p:spPr>
                  <a:xfrm>
                    <a:off x="6570360" y="4519440"/>
                    <a:ext cx="604800" cy="605160"/>
                  </a:xfrm>
                  <a:prstGeom prst="ellipse">
                    <a:avLst/>
                  </a:prstGeom>
                  <a:solidFill>
                    <a:srgbClr val="b7de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Oval 40"/>
                  <p:cNvSpPr/>
                  <p:nvPr/>
                </p:nvSpPr>
                <p:spPr>
                  <a:xfrm>
                    <a:off x="6676560" y="4653000"/>
                    <a:ext cx="33372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6" name="TextBox 44"/>
            <p:cNvSpPr/>
            <p:nvPr/>
          </p:nvSpPr>
          <p:spPr>
            <a:xfrm>
              <a:off x="3362040" y="460044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三、常见问题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1307880"/>
            <a:ext cx="8286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表论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填写论文信息时，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项目均须填写，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要填全，不能只填标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项目，其中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刊物名称”要写全称，不能简写。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" descr="C:\Users\syn\AppData\Roaming\Tencent\Users\398705640\QQ\WinTemp\RichOle\5}DAR0M$7HOC((R{IMKWG}5.png"/>
          <p:cNvPicPr/>
          <p:nvPr/>
        </p:nvPicPr>
        <p:blipFill>
          <a:blip r:embed="rId1"/>
          <a:stretch/>
        </p:blipFill>
        <p:spPr>
          <a:xfrm>
            <a:off x="903240" y="2503440"/>
            <a:ext cx="6651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50920" y="1307880"/>
            <a:ext cx="82864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表论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按照第一作者、第二作者、第三作者的顺序依次录入，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能领域作者排名填写实际贡献度排名，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1098720" y="2130480"/>
            <a:ext cx="6308640" cy="2598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793800" y="5460840"/>
            <a:ext cx="6848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250920" y="1307880"/>
            <a:ext cx="82864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论文起止时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起止时间”指从开始进入学位论文课题的研究开始，至完成论文撰写为止。如从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4.9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一入学开始论文相关课题研究，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7.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撰写完毕，则“论文起止时间”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4.9-2017.4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258" name="Rectangle 5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1f497d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6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260" name="Rectangle 7"/>
              <p:cNvSpPr/>
              <p:nvPr/>
            </p:nvSpPr>
            <p:spPr>
              <a:xfrm>
                <a:off x="30780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8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9"/>
              <p:cNvSpPr/>
              <p:nvPr/>
            </p:nvSpPr>
            <p:spPr>
              <a:xfrm>
                <a:off x="13492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0"/>
              <p:cNvSpPr/>
              <p:nvPr/>
            </p:nvSpPr>
            <p:spPr>
              <a:xfrm>
                <a:off x="18255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11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2"/>
              <p:cNvSpPr/>
              <p:nvPr/>
            </p:nvSpPr>
            <p:spPr>
              <a:xfrm>
                <a:off x="28670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13"/>
              <p:cNvSpPr/>
              <p:nvPr/>
            </p:nvSpPr>
            <p:spPr>
              <a:xfrm>
                <a:off x="34322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14"/>
              <p:cNvSpPr/>
              <p:nvPr/>
            </p:nvSpPr>
            <p:spPr>
              <a:xfrm>
                <a:off x="39085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15"/>
              <p:cNvSpPr/>
              <p:nvPr/>
            </p:nvSpPr>
            <p:spPr>
              <a:xfrm>
                <a:off x="447372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6"/>
              <p:cNvSpPr/>
              <p:nvPr/>
            </p:nvSpPr>
            <p:spPr>
              <a:xfrm>
                <a:off x="495000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17"/>
              <p:cNvSpPr/>
              <p:nvPr/>
            </p:nvSpPr>
            <p:spPr>
              <a:xfrm>
                <a:off x="55148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18"/>
              <p:cNvSpPr/>
              <p:nvPr/>
            </p:nvSpPr>
            <p:spPr>
              <a:xfrm>
                <a:off x="59911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19"/>
              <p:cNvSpPr/>
              <p:nvPr/>
            </p:nvSpPr>
            <p:spPr>
              <a:xfrm>
                <a:off x="6556320" y="5613480"/>
                <a:ext cx="9072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20"/>
              <p:cNvSpPr/>
              <p:nvPr/>
            </p:nvSpPr>
            <p:spPr>
              <a:xfrm>
                <a:off x="7032600" y="5613480"/>
                <a:ext cx="27000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21"/>
              <p:cNvSpPr/>
              <p:nvPr/>
            </p:nvSpPr>
            <p:spPr>
              <a:xfrm>
                <a:off x="759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22"/>
              <p:cNvSpPr/>
              <p:nvPr/>
            </p:nvSpPr>
            <p:spPr>
              <a:xfrm>
                <a:off x="807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23"/>
              <p:cNvSpPr/>
              <p:nvPr/>
            </p:nvSpPr>
            <p:spPr>
              <a:xfrm>
                <a:off x="863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矩形 37"/>
          <p:cNvSpPr/>
          <p:nvPr/>
        </p:nvSpPr>
        <p:spPr>
          <a:xfrm>
            <a:off x="708120" y="2044800"/>
            <a:ext cx="75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任何问题，请及时与我联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邮箱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10-625609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问题可直接与国科大网络中心联系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10-882566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79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80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82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85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Oval 36"/>
                  <p:cNvSpPr/>
                  <p:nvPr/>
                </p:nvSpPr>
                <p:spPr>
                  <a:xfrm>
                    <a:off x="2095560" y="21463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88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Oval 40"/>
                  <p:cNvSpPr/>
                  <p:nvPr/>
                </p:nvSpPr>
                <p:spPr>
                  <a:xfrm>
                    <a:off x="6694560" y="216540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0" name="TextBox 44"/>
            <p:cNvSpPr/>
            <p:nvPr/>
          </p:nvSpPr>
          <p:spPr>
            <a:xfrm>
              <a:off x="309420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时间节点安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88840" y="1940040"/>
          <a:ext cx="7383600" cy="3378240"/>
        </p:xfrm>
        <a:graphic>
          <a:graphicData uri="http://schemas.openxmlformats.org/drawingml/2006/table">
            <a:tbl>
              <a:tblPr/>
              <a:tblGrid>
                <a:gridCol w="4884840"/>
                <a:gridCol w="2498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截止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申请（培养指导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资格审查：课程学分、必修环节学分（开题报告、中期考核、学术报告和社会实践）、发表文章、学位论文完成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17.4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送审学位论文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两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聘请答辩委员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一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组织答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填报学位申请信息（学位管理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相关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组合 49"/>
          <p:cNvGrpSpPr/>
          <p:nvPr/>
        </p:nvGrpSpPr>
        <p:grpSpPr>
          <a:xfrm>
            <a:off x="1967040" y="2025720"/>
            <a:ext cx="5228640" cy="623880"/>
            <a:chOff x="1967040" y="2025720"/>
            <a:chExt cx="5228640" cy="623880"/>
          </a:xfrm>
        </p:grpSpPr>
        <p:grpSp>
          <p:nvGrpSpPr>
            <p:cNvPr id="195" name="Group 81"/>
            <p:cNvGrpSpPr/>
            <p:nvPr/>
          </p:nvGrpSpPr>
          <p:grpSpPr>
            <a:xfrm>
              <a:off x="1967040" y="2025720"/>
              <a:ext cx="5228640" cy="623880"/>
              <a:chOff x="1967040" y="2025720"/>
              <a:chExt cx="5228640" cy="623880"/>
            </a:xfrm>
          </p:grpSpPr>
          <p:sp>
            <p:nvSpPr>
              <p:cNvPr id="196" name="AutoShape 6"/>
              <p:cNvSpPr/>
              <p:nvPr/>
            </p:nvSpPr>
            <p:spPr>
              <a:xfrm>
                <a:off x="1989000" y="2050920"/>
                <a:ext cx="520668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Group 80"/>
              <p:cNvGrpSpPr/>
              <p:nvPr/>
            </p:nvGrpSpPr>
            <p:grpSpPr>
              <a:xfrm>
                <a:off x="1967040" y="2025720"/>
                <a:ext cx="5212800" cy="606240"/>
                <a:chOff x="1967040" y="2025720"/>
                <a:chExt cx="5212800" cy="606240"/>
              </a:xfrm>
            </p:grpSpPr>
            <p:sp>
              <p:nvSpPr>
                <p:cNvPr id="198" name="AutoShape 7"/>
                <p:cNvSpPr/>
                <p:nvPr/>
              </p:nvSpPr>
              <p:spPr>
                <a:xfrm>
                  <a:off x="2280960" y="2025720"/>
                  <a:ext cx="458748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318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8"/>
                <p:cNvSpPr/>
                <p:nvPr/>
              </p:nvSpPr>
              <p:spPr>
                <a:xfrm>
                  <a:off x="2306520" y="2119320"/>
                  <a:ext cx="456372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215968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Group 9"/>
                <p:cNvGrpSpPr/>
                <p:nvPr/>
              </p:nvGrpSpPr>
              <p:grpSpPr>
                <a:xfrm>
                  <a:off x="1967040" y="2027160"/>
                  <a:ext cx="604440" cy="604800"/>
                  <a:chOff x="1967040" y="2027160"/>
                  <a:chExt cx="604440" cy="604800"/>
                </a:xfrm>
              </p:grpSpPr>
              <p:sp>
                <p:nvSpPr>
                  <p:cNvPr id="201" name="Oval 10"/>
                  <p:cNvSpPr/>
                  <p:nvPr/>
                </p:nvSpPr>
                <p:spPr>
                  <a:xfrm>
                    <a:off x="1967040" y="2027160"/>
                    <a:ext cx="60444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Oval 11"/>
                  <p:cNvSpPr/>
                  <p:nvPr/>
                </p:nvSpPr>
                <p:spPr>
                  <a:xfrm>
                    <a:off x="2113560" y="2150640"/>
                    <a:ext cx="33372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Group 13"/>
                <p:cNvGrpSpPr/>
                <p:nvPr/>
              </p:nvGrpSpPr>
              <p:grpSpPr>
                <a:xfrm>
                  <a:off x="6575400" y="2027160"/>
                  <a:ext cx="604440" cy="604800"/>
                  <a:chOff x="6575400" y="2027160"/>
                  <a:chExt cx="604440" cy="604800"/>
                </a:xfrm>
              </p:grpSpPr>
              <p:sp>
                <p:nvSpPr>
                  <p:cNvPr id="204" name="Oval 14"/>
                  <p:cNvSpPr/>
                  <p:nvPr/>
                </p:nvSpPr>
                <p:spPr>
                  <a:xfrm>
                    <a:off x="6575400" y="2027160"/>
                    <a:ext cx="604440" cy="604800"/>
                  </a:xfrm>
                  <a:prstGeom prst="ellipse">
                    <a:avLst/>
                  </a:prstGeom>
                  <a:solidFill>
                    <a:srgbClr val="318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Oval 15"/>
                  <p:cNvSpPr/>
                  <p:nvPr/>
                </p:nvSpPr>
                <p:spPr>
                  <a:xfrm>
                    <a:off x="6671520" y="216144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6" name="TextBox 45"/>
            <p:cNvSpPr/>
            <p:nvPr/>
          </p:nvSpPr>
          <p:spPr>
            <a:xfrm>
              <a:off x="2593800" y="2119320"/>
              <a:ext cx="429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69720" y="1457280"/>
            <a:ext cx="85932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要求的课程体系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开题报告、中期考核、学术报告和社会实践，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公开发表学术论文要求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学位论文初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（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http://sep.ucas.ac.cn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指导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次维护各模块信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模块具体要求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学位申请者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69360" y="1457280"/>
            <a:ext cx="83948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需提交的材料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式两份，双面打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各模块信息需填写完整，开题报告、中期考核、学术报告和社会实践均已获得学分，并需要有导师、王丽老师签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实质性贡献者的发表论文首页复印件或接收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能领域同学需提供一份如下格式的说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杂志名称，年卷期，页码）的实质性贡献者或第一责任人，特此说明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人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69360" y="1456920"/>
            <a:ext cx="8533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（一般由课题秘书担任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、所级审核通过答辩申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评阅专家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在线评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一、聘请评阅专家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69360" y="1457280"/>
            <a:ext cx="8385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截止时间为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前两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含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的导师不能作为评阅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过程中如有一位评阅人持否定意见，则再增聘两位评阅人进行评阅。如累计有两位评阅人持否定意见，本次学位申请无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书双面打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6:15:06Z</dcterms:created>
  <dc:creator>孙亚宁</dc:creator>
  <dc:description/>
  <dc:language>en-US</dc:language>
  <cp:lastModifiedBy>孙亚宁</cp:lastModifiedBy>
  <dcterms:modified xsi:type="dcterms:W3CDTF">2017-03-02T07:09:13Z</dcterms:modified>
  <cp:revision>155</cp:revision>
  <dc:subject/>
  <dc:title>PowerPoint TEMPLATE</dc:title>
</cp:coreProperties>
</file>