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B5D0-45B3-4520-B7EA-47B02CA506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7437-0DA7-4A24-A6FC-DCF30E2CB4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7FD-45DF-4A93-B476-2153AE22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5F0-7FE5-4554-8173-9AF0B318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FE6-3C7B-4DB1-A0A7-A7C30917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18C-24C4-4EB1-AEC5-9D997AC3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26DE-0258-4D32-9F4D-3D2D7348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1126-6095-4473-8DAE-AC6077E4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4DCB-5114-4467-B477-7B74CC38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E020-D385-4875-B5FD-FBF9A2C4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8BAF-82F0-4E8E-AD10-F3544743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40ED-B020-47B8-92BE-0225083D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3006-C117-48C4-A9F0-F12DBDD1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3A7-F7D2-4CA5-91D7-68B56D5D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C85D-9AAE-45AE-A932-A92039E9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2CEE-3E35-4A3E-8792-47F6BE25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4C0A-34FB-4C27-B060-0461023D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0DC6-58A1-4FB7-90E1-4839024D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C27A-D98B-453B-8F52-AF8EA024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806C-F875-4EC5-BD4D-380A3568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A05F2-EE52-4B05-8B32-32F14236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C2164-2D28-462A-B59A-4BB301C8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3BC62-F24F-4185-9181-4C79B755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9B80-12E4-4AA4-9A13-27BB7D90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FB7-8F68-460B-8642-0ECB1C5C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6DA2-0183-4377-8371-DBB7571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CE6C-543C-4CD5-AAE8-786B2514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3890-A6A5-418E-ADA4-23F9C0A8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8BEB-E51A-42B3-B114-F4B915C2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F2AD-C577-49E4-B14B-372AAB01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2DEC0-7BB9-48E0-B25A-3D1201F2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6D10-BD95-4D28-A47A-EDC8B5BD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84184-AA90-4279-9985-CED34117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7DE1F-8B9E-49DE-85BB-EE95870C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BF1A6-1C6F-4545-8D91-F050F855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0D3-76B9-49CC-8CFC-93F2B033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01DF3-FE41-4068-87C2-CAC60357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36764-921C-4E61-BCD6-27A0E39B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187A4-E1BA-499E-A558-FD9379F3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BA567-120C-4D4A-8B94-9AECA96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1A00A-AD85-426C-998F-126F8847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D2C9-4CD5-4ECD-87C9-37848087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3918-72D9-4734-9480-77B14903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A78F6-B486-4458-B1AD-FE78835C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9CE17-8458-459F-9069-61BD07C1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FE73F-54E4-48F6-9B2E-E1D14B5E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0EC-15A1-4724-9C1A-4EADA7A7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9328D-6246-4264-829C-5ED2BCEA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41CCA-E5E4-4F84-B089-8ABA6234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067FC-7ADD-492C-80C2-569DE08D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6CB47-8FBD-42B3-8331-2FD89D0D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64747-3CAA-467B-856F-18EB0BE8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DA792-0401-4140-A098-A1AC0F5D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B5993-5D9A-4C48-B348-F9D8B7F0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7C09F-C6E2-4FBD-BC74-94CDA887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C1D24-43BB-4394-975B-ACA68B8E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2B556-F6B8-483B-A3AA-F04CD8FF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387-7CFE-486C-8291-9E436D82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402E0-1B18-43CB-AF4D-8DF22923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1CDA0-BAB5-46A8-9E8D-125BDE15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7C19B-6CA3-4B9D-BEA4-19D51E0E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585ED-DA2D-46C0-AA4E-A65CB784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08ADC-0294-48DA-90AA-80B2D40D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C3F2C-4AEB-468C-9234-0D2C894B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35707-B722-4282-BAF2-B9A22087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16300-5DC3-4BC0-A429-71BC7015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6FDEF-6010-4E31-B035-FFBE92A6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6E028-0FB3-4E54-B364-31ED89D2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044-1F4F-4135-84DD-FA83162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76AEF-2DFC-474E-BC88-7F3BF569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63E9D-4D75-41D8-A861-505E1EF3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B1D21-4DE7-4D5E-A10F-62331A82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17BBA-4734-4334-AE02-D5FD7409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3617E-F1A7-40DD-88BD-311D9AFC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DCC58-F6A0-4598-862D-EBAD2D6A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F3220-DF8B-484D-850E-D5B9ED94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1E5B9-4D67-4F16-A6A1-18291A70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FAE61-76B6-4A80-A362-5F9FECD7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76049-B811-4019-8C50-BC905A1C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89E-C11B-4F40-8FF3-62DAEFE6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16FF0-AAE9-4511-8E06-4CDE8884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545C6-68F8-489F-A503-25531180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AB347-5668-4420-9659-FCCDE8C5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3F492-73B4-4CB4-BD2D-76D51834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39C74-9C76-4888-A9E7-9E916377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ED3A7-E3E9-490B-8183-7F7794BB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D0FF9-4BB7-429A-A182-EA9189A7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47110-CE12-449E-B38C-6F732C71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F771F-E3A2-407E-8398-335F7E3B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B0C87-F86A-48D6-89ED-C1500EC6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6B4-5EC5-4075-9AF8-A3F9B6EC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FE99F-B058-40F2-9752-48A1F1BB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3DB4D-4458-41E4-A205-451AE0DE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1ACF5-044E-42DE-9424-4992B78E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8A400-F7BE-41C6-B958-35D41DBE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C09F2-ED1E-4EF6-BECE-1CE4178F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9554F-5691-4DEB-B2CB-23DF963B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9AAD7-6FAD-4029-8810-F5FEDC03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CD9A-8099-43BE-9541-BBC9114994C3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6E23-4E5F-4906-843F-7ABE5A96CE30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E2D3-FA67-436F-8FC6-7713F816403F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985E-37DA-4250-80F6-E7CB2EB0FA5B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800B-29D0-48AF-BA38-AC296D1EB85E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65BE-9364-4739-892A-3F5F921A7AF2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5751-7FF9-47A9-A0C7-A1770E0BEE36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0AA8-B41E-451D-BDFD-DBE776F7FBB6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标题 1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089920" cy="1839960"/>
          </a:xfrm>
          <a:prstGeom prst="rect">
            <a:avLst/>
          </a:prstGeom>
          <a:ln w="0">
            <a:noFill/>
          </a:ln>
        </p:spPr>
      </p:pic>
      <p:pic>
        <p:nvPicPr>
          <p:cNvPr id="378" name="标题 1" descr=""/>
          <p:cNvPicPr/>
          <p:nvPr/>
        </p:nvPicPr>
        <p:blipFill>
          <a:blip r:embed="rId2"/>
          <a:stretch/>
        </p:blipFill>
        <p:spPr>
          <a:xfrm>
            <a:off x="6004080" y="5310360"/>
            <a:ext cx="312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1" descr=""/>
          <p:cNvPicPr/>
          <p:nvPr/>
        </p:nvPicPr>
        <p:blipFill>
          <a:blip r:embed="rId1"/>
          <a:stretch/>
        </p:blipFill>
        <p:spPr>
          <a:xfrm>
            <a:off x="347760" y="755640"/>
            <a:ext cx="8345520" cy="1890720"/>
          </a:xfrm>
          <a:prstGeom prst="rect">
            <a:avLst/>
          </a:prstGeom>
          <a:ln w="0">
            <a:noFill/>
          </a:ln>
        </p:spPr>
      </p:pic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80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78000" y="2276640"/>
            <a:ext cx="8370720" cy="3956040"/>
          </a:xfrm>
          <a:prstGeom prst="rect">
            <a:avLst/>
          </a:prstGeom>
          <a:ln w="0">
            <a:noFill/>
          </a:ln>
        </p:spPr>
      </p:pic>
      <p:pic>
        <p:nvPicPr>
          <p:cNvPr id="408" name="标题 1" descr=""/>
          <p:cNvPicPr/>
          <p:nvPr/>
        </p:nvPicPr>
        <p:blipFill>
          <a:blip r:embed="rId2"/>
          <a:stretch/>
        </p:blipFill>
        <p:spPr>
          <a:xfrm>
            <a:off x="347760" y="396720"/>
            <a:ext cx="8515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标题 1" descr=""/>
          <p:cNvPicPr/>
          <p:nvPr/>
        </p:nvPicPr>
        <p:blipFill>
          <a:blip r:embed="rId1"/>
          <a:stretch/>
        </p:blipFill>
        <p:spPr>
          <a:xfrm>
            <a:off x="347760" y="25560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250920" y="1892160"/>
            <a:ext cx="8642160" cy="110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74440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04640" y="2425680"/>
            <a:ext cx="8704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46040" y="2781360"/>
            <a:ext cx="8229600" cy="1987560"/>
          </a:xfrm>
          <a:prstGeom prst="rect">
            <a:avLst/>
          </a:prstGeom>
          <a:ln w="0">
            <a:noFill/>
          </a:ln>
        </p:spPr>
      </p:pic>
      <p:pic>
        <p:nvPicPr>
          <p:cNvPr id="416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96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88920" y="2781360"/>
            <a:ext cx="894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标题 1" descr=""/>
          <p:cNvPicPr/>
          <p:nvPr/>
        </p:nvPicPr>
        <p:blipFill>
          <a:blip r:embed="rId1"/>
          <a:stretch/>
        </p:blipFill>
        <p:spPr>
          <a:xfrm>
            <a:off x="347760" y="-176040"/>
            <a:ext cx="8381880" cy="1882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457440" cy="1951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3457440" cy="19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2627280" y="4869000"/>
            <a:ext cx="3457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339640" y="1955880"/>
            <a:ext cx="5986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评阅专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答辩委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新增专家至专家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论文评阅专家操作指南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标题 2" descr=""/>
          <p:cNvPicPr/>
          <p:nvPr/>
        </p:nvPicPr>
        <p:blipFill>
          <a:blip r:embed="rId1"/>
          <a:stretch/>
        </p:blipFill>
        <p:spPr>
          <a:xfrm>
            <a:off x="249120" y="1494000"/>
            <a:ext cx="8444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标题 2" descr=""/>
          <p:cNvPicPr/>
          <p:nvPr/>
        </p:nvPicPr>
        <p:blipFill>
          <a:blip r:embed="rId1"/>
          <a:stretch/>
        </p:blipFill>
        <p:spPr>
          <a:xfrm>
            <a:off x="249120" y="585720"/>
            <a:ext cx="9077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标题 1" descr=""/>
          <p:cNvPicPr/>
          <p:nvPr/>
        </p:nvPicPr>
        <p:blipFill>
          <a:blip r:embed="rId2"/>
          <a:stretch/>
        </p:blipFill>
        <p:spPr>
          <a:xfrm>
            <a:off x="285840" y="1407960"/>
            <a:ext cx="8381880" cy="1238400"/>
          </a:xfrm>
          <a:prstGeom prst="rect">
            <a:avLst/>
          </a:prstGeom>
          <a:ln w="0">
            <a:noFill/>
          </a:ln>
        </p:spPr>
      </p:pic>
      <p:pic>
        <p:nvPicPr>
          <p:cNvPr id="383" name="标题 1" descr=""/>
          <p:cNvPicPr/>
          <p:nvPr/>
        </p:nvPicPr>
        <p:blipFill>
          <a:blip r:embed="rId3"/>
          <a:stretch/>
        </p:blipFill>
        <p:spPr>
          <a:xfrm>
            <a:off x="334800" y="4297320"/>
            <a:ext cx="83455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8464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4360" y="982800"/>
            <a:ext cx="8891640" cy="2301840"/>
          </a:xfrm>
          <a:prstGeom prst="rect">
            <a:avLst/>
          </a:prstGeom>
          <a:ln w="0">
            <a:noFill/>
          </a:ln>
        </p:spPr>
      </p:pic>
      <p:pic>
        <p:nvPicPr>
          <p:cNvPr id="386" name="标题 1" descr=""/>
          <p:cNvPicPr/>
          <p:nvPr/>
        </p:nvPicPr>
        <p:blipFill>
          <a:blip r:embed="rId2"/>
          <a:stretch/>
        </p:blipFill>
        <p:spPr>
          <a:xfrm>
            <a:off x="334800" y="34322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标题 1" descr=""/>
          <p:cNvPicPr/>
          <p:nvPr/>
        </p:nvPicPr>
        <p:blipFill>
          <a:blip r:embed="rId1"/>
          <a:stretch/>
        </p:blipFill>
        <p:spPr>
          <a:xfrm>
            <a:off x="1438200" y="4432320"/>
            <a:ext cx="640080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syn\教育\毕业与就业\毕业\2014\冬毕\研究生论文答辩及学位申请网上操作指南\截图\图片3.png"/>
          <p:cNvPicPr/>
          <p:nvPr/>
        </p:nvPicPr>
        <p:blipFill>
          <a:blip r:embed="rId2"/>
          <a:stretch/>
        </p:blipFill>
        <p:spPr>
          <a:xfrm>
            <a:off x="1604880" y="692280"/>
            <a:ext cx="593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标题 1" descr=""/>
          <p:cNvPicPr/>
          <p:nvPr/>
        </p:nvPicPr>
        <p:blipFill>
          <a:blip r:embed="rId1"/>
          <a:stretch/>
        </p:blipFill>
        <p:spPr>
          <a:xfrm>
            <a:off x="365040" y="4591080"/>
            <a:ext cx="8510760" cy="1650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syn\教育\毕业与就业\毕业\2014\冬毕\研究生论文答辩及学位申请网上操作指南\截图\图片4.png"/>
          <p:cNvPicPr/>
          <p:nvPr/>
        </p:nvPicPr>
        <p:blipFill>
          <a:blip r:embed="rId2"/>
          <a:stretch/>
        </p:blipFill>
        <p:spPr>
          <a:xfrm>
            <a:off x="1908000" y="457200"/>
            <a:ext cx="5365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1908000" y="2262240"/>
            <a:ext cx="5437440" cy="4046400"/>
          </a:xfrm>
          <a:prstGeom prst="rect">
            <a:avLst/>
          </a:prstGeom>
          <a:ln w="0">
            <a:noFill/>
          </a:ln>
        </p:spPr>
      </p:pic>
      <p:pic>
        <p:nvPicPr>
          <p:cNvPr id="392" name="标题 1" descr=""/>
          <p:cNvPicPr/>
          <p:nvPr/>
        </p:nvPicPr>
        <p:blipFill>
          <a:blip r:embed="rId2"/>
          <a:stretch/>
        </p:blipFill>
        <p:spPr>
          <a:xfrm>
            <a:off x="317520" y="487440"/>
            <a:ext cx="850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51600" cy="3187800"/>
          </a:xfrm>
          <a:prstGeom prst="rect">
            <a:avLst/>
          </a:prstGeom>
          <a:ln w="0">
            <a:noFill/>
          </a:ln>
        </p:spPr>
      </p:pic>
      <p:pic>
        <p:nvPicPr>
          <p:cNvPr id="394" name="标题 1" descr=""/>
          <p:cNvPicPr/>
          <p:nvPr/>
        </p:nvPicPr>
        <p:blipFill>
          <a:blip r:embed="rId2"/>
          <a:stretch/>
        </p:blipFill>
        <p:spPr>
          <a:xfrm>
            <a:off x="347760" y="36360"/>
            <a:ext cx="8345520" cy="1159200"/>
          </a:xfrm>
          <a:prstGeom prst="rect">
            <a:avLst/>
          </a:prstGeom>
          <a:ln w="0">
            <a:noFill/>
          </a:ln>
        </p:spPr>
      </p:pic>
      <p:pic>
        <p:nvPicPr>
          <p:cNvPr id="395" name="标题 1" descr=""/>
          <p:cNvPicPr/>
          <p:nvPr/>
        </p:nvPicPr>
        <p:blipFill>
          <a:blip r:embed="rId3"/>
          <a:stretch/>
        </p:blipFill>
        <p:spPr>
          <a:xfrm>
            <a:off x="360360" y="3938760"/>
            <a:ext cx="834552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4"/>
          <a:stretch/>
        </p:blipFill>
        <p:spPr>
          <a:xfrm>
            <a:off x="539640" y="4832280"/>
            <a:ext cx="7375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标题 1" descr=""/>
          <p:cNvPicPr/>
          <p:nvPr/>
        </p:nvPicPr>
        <p:blipFill>
          <a:blip r:embed="rId1"/>
          <a:stretch/>
        </p:blipFill>
        <p:spPr>
          <a:xfrm>
            <a:off x="347760" y="1285920"/>
            <a:ext cx="8381880" cy="1585800"/>
          </a:xfrm>
          <a:prstGeom prst="rect">
            <a:avLst/>
          </a:prstGeom>
          <a:ln w="0">
            <a:noFill/>
          </a:ln>
        </p:spPr>
      </p:pic>
      <p:pic>
        <p:nvPicPr>
          <p:cNvPr id="398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807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54:26Z</dcterms:created>
  <dc:creator>syn</dc:creator>
  <dc:description/>
  <dc:language>en-US</dc:language>
  <cp:lastModifiedBy>孙亚宁</cp:lastModifiedBy>
  <dcterms:modified xsi:type="dcterms:W3CDTF">2015-03-10T10:01:10Z</dcterms:modified>
  <cp:revision>27</cp:revision>
  <dc:subject/>
  <dc:title>幻灯片 1</dc:title>
</cp:coreProperties>
</file>