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57F0-D585-4A6C-8171-C6D26A845BD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0046-6AA3-43B6-93C8-9552B7CCFC5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36B1-B78C-4D2F-9F57-EAFB653250E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4D6D-5E0F-4824-9474-8D6AD551FFB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83AE-9B9A-403F-990B-E87ED204D0B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C881-B354-4933-AD22-14CD0E2FFEE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A522-2981-4931-A2BE-BB787850CCA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511F-17FB-4B90-8384-61C461BA1DE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AE24-1AAA-4197-9C10-6D4C0285BA1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9DAA-97C4-4F8F-982B-03F6A796484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4390-40A9-4E63-BB61-4EFFD0A9FE1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D070-7177-47C7-9279-0BADC209B58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FB5A-93A6-4AC4-BA0D-3801F30F192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9002-93D8-435C-83EA-B04F8F595D7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EE2A-FA36-492A-A240-244F417E445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9191-FA1D-42B6-9504-0DAF4744E2D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F929-0524-437C-98AC-9B6E18BDE7B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3CAD-EBC8-44D3-AA5A-0D8630020B8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C810-5025-41BB-A7E0-6AE145AEBA4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EC8-B99D-4B23-93A1-A0383625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D13-4131-425D-BE01-003BFBEC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4D9-5D4C-4368-A250-2E7D9F19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375-CADD-41AF-83DE-E117C1D6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DE43-F7A4-4E45-8E7F-4B8CBADB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BA37-6D6D-4449-B69F-67AB953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A14F-E3D3-45C4-9ECD-CCD0E90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2B69-AF30-4FBD-A394-6C4DF19C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B84C-D550-4D70-BF75-0007DB5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BD14-B0DE-44A2-956C-CA37802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13BA-1CD9-422E-BAC4-FDCB37CE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B72-53B0-4C12-84CF-E23540C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B2E0-77CA-4726-9148-5FF044C4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B90F-4B92-42CD-B33A-A5984B0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3824-2BED-4E81-9C0D-F7D8DAC2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E8CC-0CC1-46C6-B718-E284D9E7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F4B7-4CE3-4DDF-914A-574A31C8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DE95-C880-4E35-A0A8-30B55C6E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B856-DD62-457B-9FA8-1FB016A5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1CCF-8A9D-4A7F-A630-15B531A9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212B8-E5E4-461B-9010-73218044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20B8-4DAE-4D13-A486-7FF0F7F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128-20BF-4592-84C4-B93F9166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07EE-A828-4BC0-84A5-E4A74461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1FE7-9FAB-4A41-9438-270DE176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5F79-E5D9-4395-BC1A-092EAFA7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830F9-048E-44A1-9AF8-0C4A1A08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F0BE-AEBE-4328-A149-C28D4B1A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C8EC-C2FF-43B6-A55D-73669C39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ABAB-B00A-4A99-8A09-4FD95C25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17F-BA33-4CF1-AE05-A625BBB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F96-7398-433A-AEB0-621E867D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1C4-5320-45EB-B6FE-43A9EF47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E78-FEFA-42D1-B489-F4D85836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922-D7DF-4199-AE45-3016ED57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592-D0D0-4CD7-8FDC-D9413CA7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F9F-5AC1-4FDE-99CC-0A7D3D2AFE10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ECF9-C69E-4FE6-AD7C-2A15A10DF4A5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5AF3-7C8C-45C4-B957-709CCB3BF5D9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23398;&#20301;&#30003;&#35831;&#32773;&#12289;&#31572;&#36777;&#31192;&#20070;&#32593;&#19978;&#25805;&#20316;&#25351;&#21335;/1-&#23398;&#20301;&#30003;&#35831;&#32773;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2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6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少在答辩时间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，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所网页下载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面打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.3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式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。申请学位年月一般应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69720" y="1457280"/>
            <a:ext cx="84664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面打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上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-7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材料请勿装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组合 44"/>
          <p:cNvGrpSpPr/>
          <p:nvPr/>
        </p:nvGrpSpPr>
        <p:grpSpPr>
          <a:xfrm>
            <a:off x="1962000" y="2025720"/>
            <a:ext cx="5229000" cy="623880"/>
            <a:chOff x="1962000" y="2025720"/>
            <a:chExt cx="5229000" cy="623880"/>
          </a:xfrm>
        </p:grpSpPr>
        <p:grpSp>
          <p:nvGrpSpPr>
            <p:cNvPr id="233" name="Group 64"/>
            <p:cNvGrpSpPr/>
            <p:nvPr/>
          </p:nvGrpSpPr>
          <p:grpSpPr>
            <a:xfrm>
              <a:off x="1962000" y="2025720"/>
              <a:ext cx="5229000" cy="623880"/>
              <a:chOff x="1962000" y="2025720"/>
              <a:chExt cx="5229000" cy="623880"/>
            </a:xfrm>
          </p:grpSpPr>
          <p:sp>
            <p:nvSpPr>
              <p:cNvPr id="234" name="AutoShape 30"/>
              <p:cNvSpPr/>
              <p:nvPr/>
            </p:nvSpPr>
            <p:spPr>
              <a:xfrm>
                <a:off x="1983960" y="205128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Group 63"/>
              <p:cNvGrpSpPr/>
              <p:nvPr/>
            </p:nvGrpSpPr>
            <p:grpSpPr>
              <a:xfrm>
                <a:off x="1962000" y="2025720"/>
                <a:ext cx="5213160" cy="606600"/>
                <a:chOff x="1962000" y="2025720"/>
                <a:chExt cx="5213160" cy="606600"/>
              </a:xfrm>
            </p:grpSpPr>
            <p:sp>
              <p:nvSpPr>
                <p:cNvPr id="236" name="AutoShape 32"/>
                <p:cNvSpPr/>
                <p:nvPr/>
              </p:nvSpPr>
              <p:spPr>
                <a:xfrm>
                  <a:off x="2276280" y="202572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33"/>
                <p:cNvSpPr/>
                <p:nvPr/>
              </p:nvSpPr>
              <p:spPr>
                <a:xfrm>
                  <a:off x="2301480" y="211932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Group 62"/>
                <p:cNvGrpSpPr/>
                <p:nvPr/>
              </p:nvGrpSpPr>
              <p:grpSpPr>
                <a:xfrm>
                  <a:off x="1962000" y="2027160"/>
                  <a:ext cx="604800" cy="605160"/>
                  <a:chOff x="1962000" y="2027160"/>
                  <a:chExt cx="604800" cy="605160"/>
                </a:xfrm>
              </p:grpSpPr>
              <p:sp>
                <p:nvSpPr>
                  <p:cNvPr id="239" name="Oval 35"/>
                  <p:cNvSpPr/>
                  <p:nvPr/>
                </p:nvSpPr>
                <p:spPr>
                  <a:xfrm>
                    <a:off x="196200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Oval 36"/>
                  <p:cNvSpPr/>
                  <p:nvPr/>
                </p:nvSpPr>
                <p:spPr>
                  <a:xfrm>
                    <a:off x="2128680" y="217188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1"/>
                <p:cNvGrpSpPr/>
                <p:nvPr/>
              </p:nvGrpSpPr>
              <p:grpSpPr>
                <a:xfrm>
                  <a:off x="6570360" y="2027160"/>
                  <a:ext cx="604800" cy="605160"/>
                  <a:chOff x="6570360" y="2027160"/>
                  <a:chExt cx="604800" cy="605160"/>
                </a:xfrm>
              </p:grpSpPr>
              <p:sp>
                <p:nvSpPr>
                  <p:cNvPr id="242" name="Oval 39"/>
                  <p:cNvSpPr/>
                  <p:nvPr/>
                </p:nvSpPr>
                <p:spPr>
                  <a:xfrm>
                    <a:off x="657036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Oval 40"/>
                  <p:cNvSpPr/>
                  <p:nvPr/>
                </p:nvSpPr>
                <p:spPr>
                  <a:xfrm>
                    <a:off x="6676560" y="216072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4" name="TextBox 44"/>
            <p:cNvSpPr/>
            <p:nvPr/>
          </p:nvSpPr>
          <p:spPr>
            <a:xfrm>
              <a:off x="3362040" y="210816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560" y="1307880"/>
            <a:ext cx="8753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答辩申请日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日期”是指提出答辩申请的日期，而不是答辩那天的日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主要简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大学填起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以下示例填写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漏掉在我所攻读学位这段时间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奖惩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在我所攻读学位期间的奖惩信息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请填“无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要空着不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必修环节学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要查看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必修环节的开题报告、中期考核、学术报告及社会实践是否都有学分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一项没有学分则答辩申请不能通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0f89f84f9e3df8096981a24c5e885a31"/>
          <p:cNvPicPr/>
          <p:nvPr/>
        </p:nvPicPr>
        <p:blipFill>
          <a:blip r:embed="rId1"/>
          <a:stretch/>
        </p:blipFill>
        <p:spPr>
          <a:xfrm>
            <a:off x="1465200" y="2962440"/>
            <a:ext cx="5124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3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4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4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4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4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0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组合 49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52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53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55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58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11"/>
                  <p:cNvSpPr/>
                  <p:nvPr/>
                </p:nvSpPr>
                <p:spPr>
                  <a:xfrm>
                    <a:off x="2130840" y="34365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61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Oval 15"/>
                  <p:cNvSpPr/>
                  <p:nvPr/>
                </p:nvSpPr>
                <p:spPr>
                  <a:xfrm>
                    <a:off x="6689160" y="3447360"/>
                    <a:ext cx="33444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3" name="TextBox 45"/>
            <p:cNvSpPr/>
            <p:nvPr/>
          </p:nvSpPr>
          <p:spPr>
            <a:xfrm>
              <a:off x="2611440" y="3405240"/>
              <a:ext cx="4296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组合 44"/>
          <p:cNvGrpSpPr/>
          <p:nvPr/>
        </p:nvGrpSpPr>
        <p:grpSpPr>
          <a:xfrm>
            <a:off x="1962000" y="4518000"/>
            <a:ext cx="5229000" cy="623880"/>
            <a:chOff x="1962000" y="4518000"/>
            <a:chExt cx="5229000" cy="623880"/>
          </a:xfrm>
        </p:grpSpPr>
        <p:grpSp>
          <p:nvGrpSpPr>
            <p:cNvPr id="165" name="Group 64"/>
            <p:cNvGrpSpPr/>
            <p:nvPr/>
          </p:nvGrpSpPr>
          <p:grpSpPr>
            <a:xfrm>
              <a:off x="1962000" y="4518000"/>
              <a:ext cx="5229000" cy="623880"/>
              <a:chOff x="1962000" y="4518000"/>
              <a:chExt cx="5229000" cy="623880"/>
            </a:xfrm>
          </p:grpSpPr>
          <p:sp>
            <p:nvSpPr>
              <p:cNvPr id="166" name="AutoShape 30"/>
              <p:cNvSpPr/>
              <p:nvPr/>
            </p:nvSpPr>
            <p:spPr>
              <a:xfrm>
                <a:off x="1983960" y="45435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63"/>
              <p:cNvGrpSpPr/>
              <p:nvPr/>
            </p:nvGrpSpPr>
            <p:grpSpPr>
              <a:xfrm>
                <a:off x="1962000" y="4518000"/>
                <a:ext cx="5213160" cy="606600"/>
                <a:chOff x="1962000" y="4518000"/>
                <a:chExt cx="5213160" cy="606600"/>
              </a:xfrm>
            </p:grpSpPr>
            <p:sp>
              <p:nvSpPr>
                <p:cNvPr id="168" name="AutoShape 32"/>
                <p:cNvSpPr/>
                <p:nvPr/>
              </p:nvSpPr>
              <p:spPr>
                <a:xfrm>
                  <a:off x="2276280" y="45180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33"/>
                <p:cNvSpPr/>
                <p:nvPr/>
              </p:nvSpPr>
              <p:spPr>
                <a:xfrm>
                  <a:off x="2301480" y="46116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Group 62"/>
                <p:cNvGrpSpPr/>
                <p:nvPr/>
              </p:nvGrpSpPr>
              <p:grpSpPr>
                <a:xfrm>
                  <a:off x="1962000" y="4519440"/>
                  <a:ext cx="604800" cy="605160"/>
                  <a:chOff x="1962000" y="4519440"/>
                  <a:chExt cx="604800" cy="605160"/>
                </a:xfrm>
              </p:grpSpPr>
              <p:sp>
                <p:nvSpPr>
                  <p:cNvPr id="171" name="Oval 35"/>
                  <p:cNvSpPr/>
                  <p:nvPr/>
                </p:nvSpPr>
                <p:spPr>
                  <a:xfrm>
                    <a:off x="196200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Oval 36"/>
                  <p:cNvSpPr/>
                  <p:nvPr/>
                </p:nvSpPr>
                <p:spPr>
                  <a:xfrm>
                    <a:off x="2128680" y="466416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Group 61"/>
                <p:cNvGrpSpPr/>
                <p:nvPr/>
              </p:nvGrpSpPr>
              <p:grpSpPr>
                <a:xfrm>
                  <a:off x="6570360" y="4519440"/>
                  <a:ext cx="604800" cy="605160"/>
                  <a:chOff x="6570360" y="4519440"/>
                  <a:chExt cx="604800" cy="605160"/>
                </a:xfrm>
              </p:grpSpPr>
              <p:sp>
                <p:nvSpPr>
                  <p:cNvPr id="174" name="Oval 39"/>
                  <p:cNvSpPr/>
                  <p:nvPr/>
                </p:nvSpPr>
                <p:spPr>
                  <a:xfrm>
                    <a:off x="657036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Oval 40"/>
                  <p:cNvSpPr/>
                  <p:nvPr/>
                </p:nvSpPr>
                <p:spPr>
                  <a:xfrm>
                    <a:off x="6676560" y="465300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6" name="TextBox 44"/>
            <p:cNvSpPr/>
            <p:nvPr/>
          </p:nvSpPr>
          <p:spPr>
            <a:xfrm>
              <a:off x="3362040" y="46004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1307880"/>
            <a:ext cx="828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填写论文信息时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项目均须填写，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要填全，不能只填标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项目，其中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刊物名称”要写全称，不能简写。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C:\Users\syn\AppData\Roaming\Tencent\Users\398705640\QQ\WinTemp\RichOle\5}DAR0M$7HOC((R{IMKWG}5.png"/>
          <p:cNvPicPr/>
          <p:nvPr/>
        </p:nvPicPr>
        <p:blipFill>
          <a:blip r:embed="rId1"/>
          <a:stretch/>
        </p:blipFill>
        <p:spPr>
          <a:xfrm>
            <a:off x="903240" y="2503440"/>
            <a:ext cx="6651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照第一作者、第二作者、第三作者的顺序依次录入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能领域作者排名填写实际贡献度排名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098720" y="2130480"/>
            <a:ext cx="6308640" cy="259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793800" y="5460840"/>
            <a:ext cx="6848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论文起止时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起止时间”指从开始进入学位论文课题的研究开始，至完成论文撰写为止。如从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.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一入学开始论文相关课题研究，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6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撰写完毕，则“论文起止时间”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.9-2016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58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60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矩形 37"/>
          <p:cNvSpPr/>
          <p:nvPr/>
        </p:nvSpPr>
        <p:spPr>
          <a:xfrm>
            <a:off x="708120" y="2044800"/>
            <a:ext cx="75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问题可直接与国科大网络中心联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10-88256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7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8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8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8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8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0" name="TextBox 44"/>
            <p:cNvSpPr/>
            <p:nvPr/>
          </p:nvSpPr>
          <p:spPr>
            <a:xfrm>
              <a:off x="309420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88840" y="1940040"/>
          <a:ext cx="7383600" cy="337824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课程学分、必修环节学分（开题报告、中期考核、学术报告和社会实践）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6.1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组合 49"/>
          <p:cNvGrpSpPr/>
          <p:nvPr/>
        </p:nvGrpSpPr>
        <p:grpSpPr>
          <a:xfrm>
            <a:off x="1967040" y="2025720"/>
            <a:ext cx="5228640" cy="623880"/>
            <a:chOff x="1967040" y="2025720"/>
            <a:chExt cx="5228640" cy="623880"/>
          </a:xfrm>
        </p:grpSpPr>
        <p:grpSp>
          <p:nvGrpSpPr>
            <p:cNvPr id="195" name="Group 81"/>
            <p:cNvGrpSpPr/>
            <p:nvPr/>
          </p:nvGrpSpPr>
          <p:grpSpPr>
            <a:xfrm>
              <a:off x="1967040" y="2025720"/>
              <a:ext cx="5228640" cy="623880"/>
              <a:chOff x="1967040" y="2025720"/>
              <a:chExt cx="5228640" cy="623880"/>
            </a:xfrm>
          </p:grpSpPr>
          <p:sp>
            <p:nvSpPr>
              <p:cNvPr id="196" name="AutoShape 6"/>
              <p:cNvSpPr/>
              <p:nvPr/>
            </p:nvSpPr>
            <p:spPr>
              <a:xfrm>
                <a:off x="1989000" y="2050920"/>
                <a:ext cx="520668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Group 80"/>
              <p:cNvGrpSpPr/>
              <p:nvPr/>
            </p:nvGrpSpPr>
            <p:grpSpPr>
              <a:xfrm>
                <a:off x="1967040" y="2025720"/>
                <a:ext cx="5212800" cy="606240"/>
                <a:chOff x="1967040" y="2025720"/>
                <a:chExt cx="5212800" cy="606240"/>
              </a:xfrm>
            </p:grpSpPr>
            <p:sp>
              <p:nvSpPr>
                <p:cNvPr id="198" name="AutoShape 7"/>
                <p:cNvSpPr/>
                <p:nvPr/>
              </p:nvSpPr>
              <p:spPr>
                <a:xfrm>
                  <a:off x="2280960" y="2025720"/>
                  <a:ext cx="458748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8"/>
                <p:cNvSpPr/>
                <p:nvPr/>
              </p:nvSpPr>
              <p:spPr>
                <a:xfrm>
                  <a:off x="2306520" y="2119320"/>
                  <a:ext cx="456372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Group 9"/>
                <p:cNvGrpSpPr/>
                <p:nvPr/>
              </p:nvGrpSpPr>
              <p:grpSpPr>
                <a:xfrm>
                  <a:off x="1967040" y="2027160"/>
                  <a:ext cx="604440" cy="604800"/>
                  <a:chOff x="1967040" y="2027160"/>
                  <a:chExt cx="604440" cy="604800"/>
                </a:xfrm>
              </p:grpSpPr>
              <p:sp>
                <p:nvSpPr>
                  <p:cNvPr id="201" name="Oval 10"/>
                  <p:cNvSpPr/>
                  <p:nvPr/>
                </p:nvSpPr>
                <p:spPr>
                  <a:xfrm>
                    <a:off x="196704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Oval 11"/>
                  <p:cNvSpPr/>
                  <p:nvPr/>
                </p:nvSpPr>
                <p:spPr>
                  <a:xfrm>
                    <a:off x="2113560" y="2150640"/>
                    <a:ext cx="33372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Group 13"/>
                <p:cNvGrpSpPr/>
                <p:nvPr/>
              </p:nvGrpSpPr>
              <p:grpSpPr>
                <a:xfrm>
                  <a:off x="6575400" y="2027160"/>
                  <a:ext cx="604440" cy="604800"/>
                  <a:chOff x="6575400" y="2027160"/>
                  <a:chExt cx="604440" cy="604800"/>
                </a:xfrm>
              </p:grpSpPr>
              <p:sp>
                <p:nvSpPr>
                  <p:cNvPr id="204" name="Oval 14"/>
                  <p:cNvSpPr/>
                  <p:nvPr/>
                </p:nvSpPr>
                <p:spPr>
                  <a:xfrm>
                    <a:off x="657540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Oval 15"/>
                  <p:cNvSpPr/>
                  <p:nvPr/>
                </p:nvSpPr>
                <p:spPr>
                  <a:xfrm>
                    <a:off x="6671520" y="216144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6" name="TextBox 45"/>
            <p:cNvSpPr/>
            <p:nvPr/>
          </p:nvSpPr>
          <p:spPr>
            <a:xfrm>
              <a:off x="2593800" y="2119320"/>
              <a:ext cx="429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王丽老师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实质性贡献者或第一责任人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截止时间为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前两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6-09-30T01:46:23Z</dcterms:modified>
  <cp:revision>149</cp:revision>
  <dc:subject/>
  <dc:title>PowerPoint TEMPLATE</dc:title>
</cp:coreProperties>
</file>