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BD90-5750-42AF-B64A-0E9531A859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3A23-0188-4947-BA4F-5456F109C4E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B77-789B-4ADB-84DC-8C53B5F0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9D3-9F96-430A-9A64-6DF59452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EDA-07AA-44FE-B401-0EB85AA3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7C3-1002-42F0-A09A-1EF18820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5465-309D-426C-9F88-AE12800E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2009-929C-4590-B2CC-528D20AB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6E04-CFA4-4CE4-A99C-FEB34764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EEFD-6B87-4FA8-8492-8EAE68E7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0966-CB84-47E0-8F40-85785EA0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E8EC-41B8-48DD-AD75-7F10C96B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F79D-D957-4512-B763-66932CCF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38A-EBD6-4BBF-9C35-D803E56C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2198-60B3-44B3-BCEE-155142E3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BF59-FE1E-4A36-A017-F8987817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4F90-D6DC-489C-B0F2-62DA59A0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BCB9-E2F3-4A60-8CF7-28B12E4F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ED9A-A252-4B4B-80E3-B7E04C11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465C9-8E77-43E4-BE8A-D606ED8D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C936-92A3-43FE-AE11-E7990671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D540D-2809-4CE6-8458-45895C04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6B9A-0DB0-443D-9C8B-77E2C7F7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DDE26-B8C2-432A-8487-94F8036E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5F7-DADE-4872-9B45-1E230528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40443-9B67-4A5F-AECD-617962AE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089E7-3265-4953-826B-31DE1417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B28AF-3353-4215-A1BA-EF960C79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4BA9C-0C53-4C9F-8D03-134BB381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8C07-28D7-4EB8-A1C7-A390B5A4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E26AF-C596-4E7D-AE8B-1EAD8602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DB9F7-3AB2-4574-A738-4D39A528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E2C36-3849-4C94-8CC5-31125CBB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3E8F1-FC74-4757-88CC-E8B10229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B432-D74B-4C1B-8733-8FB838F5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683-F765-443E-BD60-D12304FA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A2D32-465A-45A3-B798-6BC47435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76FFB-7ED7-4102-A08D-8B7A5E9B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E8F17-F92F-4643-B78C-2381AB10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F988F-E3AF-467A-A2A4-83691CFA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D417D-2526-4482-B8C4-A408B215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8C448-EA83-4105-A0A7-ED729E6B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956F1-793D-423F-BD3D-EA0821DC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41F08-10D4-4ADA-80C3-73554900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91091-EFDE-4079-843E-37007954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A38DB-FC1A-46B8-B38B-7B0A51BD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16A-1823-4C8A-8647-BAC08DED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2BA3A-06C0-4454-9FD3-F38B9106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601FA-2C50-4466-B4C8-2E6DAA6A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42788-8863-4846-A00A-C7387ED1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B49A1-BC4B-41BF-8A54-A03995BF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B8A36-4EBA-4110-A195-5A1E27F7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444A8-9753-4327-B340-4409424C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4375B-63AB-497E-A1C1-C5A3A621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98E7F-4A8E-4D5C-93A3-16AEF42F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ECB74-F15D-4B42-B4E4-F45A2740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521B1-F8D9-4047-ABFB-9D30B66E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AA5-FDE1-4985-986B-EF724E68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4CAE2-0EB5-4CDE-8772-EF34B796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3C05A-EFE2-4E2B-B575-C32B86E6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85E09-C11B-44A4-B6E4-ECED814B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218FA-8C38-4B2C-949F-57D37BE1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D0660-DC38-42F1-A8B7-6F1358BB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4347C-5F66-4785-95DA-9E9EC6F4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E9DF0-9C8A-4C38-AEA3-3E66DE04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1D2FB-DC46-483A-933D-BD6A7ABE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CB5BB-4535-4B97-B610-48DCBF7E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DC04F-1DB6-401B-ADE4-4C9CC2EA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CB2-E30F-4A2D-912D-A6C68D7B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AFB16-E906-4266-8A8C-B95BF686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80133-85AE-4E12-88D2-232B7C19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27414-EA5D-4D77-8A91-EF3B732D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20016-08C5-4B38-9406-3FC00B4B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124D6-D1B2-458B-9E90-99AD3697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F02EC-487E-43CD-8491-BE8DFC4F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2A9FB-FF1B-4383-9522-E394D5F8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8FD53-F3D2-4CB7-8DC6-F35B3300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AAA4E-8B1A-4B84-959E-CBB7C510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21984-FD76-4132-A936-9719439A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0E2-46B8-47A6-97D2-84E85CBB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B2023-F787-4EA1-BCAB-D0D148D2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DF8A0-092A-4E45-9A6F-68FACC95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ECC34-971F-4CDA-8A58-0EAAA83E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444AB-1779-4062-9287-52700AFA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67D8D-8EC6-4EB4-9E68-C49AFDF0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744FE-D6C7-46F7-BED1-CA21DB50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75C7A-755F-4D4C-9105-10FF414C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09A4A-E903-4B42-9788-37BF49DA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B356B-4B72-4931-961B-B533F6F5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FE755-15BA-4443-B9F5-004121B3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7C6-107A-47C2-A76A-D1EE1C61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91DC0-D415-4747-AE5D-C263DB5B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190EC-AB28-44FC-A913-0708566E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F0877-1025-4901-A6E2-977ADC56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BA309-DF26-4694-9462-0F8F8987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ECEC5-A72C-403E-ABE1-D2EE8BCC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45441-A881-4D62-B890-E0E73B3F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EBA4F-1722-45E1-831A-1CDF1FDA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D396-D4E3-46E9-8EFC-8B1930660C96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FF2E-F157-47A0-84F5-0C0E1922414E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FB7F-93E3-4F9F-8910-C02D211EB927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AA71-04BD-4D74-96E1-4D62B5A7AC13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C14E-7343-4BEF-AA46-91963ED7F317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35AF-7D51-4BF7-A95D-598AC087B76E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400B-04F6-4BA5-AC17-676AA51CF0CD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6CB5-3054-4D9B-A593-114EFE84EAE4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标题 1" descr=""/>
          <p:cNvPicPr/>
          <p:nvPr/>
        </p:nvPicPr>
        <p:blipFill>
          <a:blip r:embed="rId1"/>
          <a:stretch/>
        </p:blipFill>
        <p:spPr>
          <a:xfrm>
            <a:off x="-6480" y="1122480"/>
            <a:ext cx="8089920" cy="1839960"/>
          </a:xfrm>
          <a:prstGeom prst="rect">
            <a:avLst/>
          </a:prstGeom>
          <a:ln w="0">
            <a:noFill/>
          </a:ln>
        </p:spPr>
      </p:pic>
      <p:pic>
        <p:nvPicPr>
          <p:cNvPr id="378" name="标题 1" descr=""/>
          <p:cNvPicPr/>
          <p:nvPr/>
        </p:nvPicPr>
        <p:blipFill>
          <a:blip r:embed="rId2"/>
          <a:stretch/>
        </p:blipFill>
        <p:spPr>
          <a:xfrm>
            <a:off x="6004080" y="5310360"/>
            <a:ext cx="31208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标题 1" descr=""/>
          <p:cNvPicPr/>
          <p:nvPr/>
        </p:nvPicPr>
        <p:blipFill>
          <a:blip r:embed="rId1"/>
          <a:stretch/>
        </p:blipFill>
        <p:spPr>
          <a:xfrm>
            <a:off x="347760" y="755640"/>
            <a:ext cx="8345520" cy="1890720"/>
          </a:xfrm>
          <a:prstGeom prst="rect">
            <a:avLst/>
          </a:prstGeom>
          <a:ln w="0">
            <a:noFill/>
          </a:ln>
        </p:spPr>
      </p:pic>
      <p:pic>
        <p:nvPicPr>
          <p:cNvPr id="405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8037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78000" y="2276640"/>
            <a:ext cx="8370720" cy="3956040"/>
          </a:xfrm>
          <a:prstGeom prst="rect">
            <a:avLst/>
          </a:prstGeom>
          <a:ln w="0">
            <a:noFill/>
          </a:ln>
        </p:spPr>
      </p:pic>
      <p:pic>
        <p:nvPicPr>
          <p:cNvPr id="408" name="标题 1" descr=""/>
          <p:cNvPicPr/>
          <p:nvPr/>
        </p:nvPicPr>
        <p:blipFill>
          <a:blip r:embed="rId2"/>
          <a:stretch/>
        </p:blipFill>
        <p:spPr>
          <a:xfrm>
            <a:off x="347760" y="396720"/>
            <a:ext cx="85150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标题 1" descr=""/>
          <p:cNvPicPr/>
          <p:nvPr/>
        </p:nvPicPr>
        <p:blipFill>
          <a:blip r:embed="rId1"/>
          <a:stretch/>
        </p:blipFill>
        <p:spPr>
          <a:xfrm>
            <a:off x="347760" y="25560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250920" y="1892160"/>
            <a:ext cx="8642160" cy="1105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744408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13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404640" y="2425680"/>
            <a:ext cx="8704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446040" y="2781360"/>
            <a:ext cx="8229600" cy="1987560"/>
          </a:xfrm>
          <a:prstGeom prst="rect">
            <a:avLst/>
          </a:prstGeom>
          <a:ln w="0">
            <a:noFill/>
          </a:ln>
        </p:spPr>
      </p:pic>
      <p:pic>
        <p:nvPicPr>
          <p:cNvPr id="416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1961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88920" y="2781360"/>
            <a:ext cx="894708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标题 1" descr=""/>
          <p:cNvPicPr/>
          <p:nvPr/>
        </p:nvPicPr>
        <p:blipFill>
          <a:blip r:embed="rId1"/>
          <a:stretch/>
        </p:blipFill>
        <p:spPr>
          <a:xfrm>
            <a:off x="347760" y="-176040"/>
            <a:ext cx="8381880" cy="1882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2627280" y="981000"/>
            <a:ext cx="3457440" cy="1951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3457440" cy="1942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2627280" y="4869000"/>
            <a:ext cx="34574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339640" y="1955880"/>
            <a:ext cx="5986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评阅专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答辩委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新增专家至专家库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论文评阅专家操作指南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标题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标题 2" descr=""/>
          <p:cNvPicPr/>
          <p:nvPr/>
        </p:nvPicPr>
        <p:blipFill>
          <a:blip r:embed="rId1"/>
          <a:stretch/>
        </p:blipFill>
        <p:spPr>
          <a:xfrm>
            <a:off x="249120" y="1494000"/>
            <a:ext cx="84441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标题 2" descr=""/>
          <p:cNvPicPr/>
          <p:nvPr/>
        </p:nvPicPr>
        <p:blipFill>
          <a:blip r:embed="rId1"/>
          <a:stretch/>
        </p:blipFill>
        <p:spPr>
          <a:xfrm>
            <a:off x="249120" y="585720"/>
            <a:ext cx="90774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82" name="标题 1" descr=""/>
          <p:cNvPicPr/>
          <p:nvPr/>
        </p:nvPicPr>
        <p:blipFill>
          <a:blip r:embed="rId2"/>
          <a:stretch/>
        </p:blipFill>
        <p:spPr>
          <a:xfrm>
            <a:off x="285840" y="1407960"/>
            <a:ext cx="8381880" cy="1238400"/>
          </a:xfrm>
          <a:prstGeom prst="rect">
            <a:avLst/>
          </a:prstGeom>
          <a:ln w="0">
            <a:noFill/>
          </a:ln>
        </p:spPr>
      </p:pic>
      <p:pic>
        <p:nvPicPr>
          <p:cNvPr id="383" name="标题 1" descr=""/>
          <p:cNvPicPr/>
          <p:nvPr/>
        </p:nvPicPr>
        <p:blipFill>
          <a:blip r:embed="rId3"/>
          <a:stretch/>
        </p:blipFill>
        <p:spPr>
          <a:xfrm>
            <a:off x="334800" y="4297320"/>
            <a:ext cx="834552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4"/>
          <a:stretch/>
        </p:blipFill>
        <p:spPr>
          <a:xfrm>
            <a:off x="324000" y="3068640"/>
            <a:ext cx="8464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44360" y="982800"/>
            <a:ext cx="8891640" cy="2301840"/>
          </a:xfrm>
          <a:prstGeom prst="rect">
            <a:avLst/>
          </a:prstGeom>
          <a:ln w="0">
            <a:noFill/>
          </a:ln>
        </p:spPr>
      </p:pic>
      <p:pic>
        <p:nvPicPr>
          <p:cNvPr id="386" name="标题 1" descr=""/>
          <p:cNvPicPr/>
          <p:nvPr/>
        </p:nvPicPr>
        <p:blipFill>
          <a:blip r:embed="rId2"/>
          <a:stretch/>
        </p:blipFill>
        <p:spPr>
          <a:xfrm>
            <a:off x="334800" y="34322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标题 1" descr=""/>
          <p:cNvPicPr/>
          <p:nvPr/>
        </p:nvPicPr>
        <p:blipFill>
          <a:blip r:embed="rId1"/>
          <a:stretch/>
        </p:blipFill>
        <p:spPr>
          <a:xfrm>
            <a:off x="1438200" y="4432320"/>
            <a:ext cx="6400800" cy="1150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syn\教育\毕业与就业\毕业\2014\冬毕\研究生论文答辩及学位申请网上操作指南\截图\图片3.png"/>
          <p:cNvPicPr/>
          <p:nvPr/>
        </p:nvPicPr>
        <p:blipFill>
          <a:blip r:embed="rId2"/>
          <a:stretch/>
        </p:blipFill>
        <p:spPr>
          <a:xfrm>
            <a:off x="1604880" y="692280"/>
            <a:ext cx="5934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标题 1" descr=""/>
          <p:cNvPicPr/>
          <p:nvPr/>
        </p:nvPicPr>
        <p:blipFill>
          <a:blip r:embed="rId1"/>
          <a:stretch/>
        </p:blipFill>
        <p:spPr>
          <a:xfrm>
            <a:off x="365040" y="4591080"/>
            <a:ext cx="8510760" cy="1650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syn\教育\毕业与就业\毕业\2014\冬毕\研究生论文答辩及学位申请网上操作指南\截图\图片4.png"/>
          <p:cNvPicPr/>
          <p:nvPr/>
        </p:nvPicPr>
        <p:blipFill>
          <a:blip r:embed="rId2"/>
          <a:stretch/>
        </p:blipFill>
        <p:spPr>
          <a:xfrm>
            <a:off x="1908000" y="457200"/>
            <a:ext cx="5365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1908000" y="2262240"/>
            <a:ext cx="5437440" cy="4046400"/>
          </a:xfrm>
          <a:prstGeom prst="rect">
            <a:avLst/>
          </a:prstGeom>
          <a:ln w="0">
            <a:noFill/>
          </a:ln>
        </p:spPr>
      </p:pic>
      <p:pic>
        <p:nvPicPr>
          <p:cNvPr id="392" name="标题 1" descr=""/>
          <p:cNvPicPr/>
          <p:nvPr/>
        </p:nvPicPr>
        <p:blipFill>
          <a:blip r:embed="rId2"/>
          <a:stretch/>
        </p:blipFill>
        <p:spPr>
          <a:xfrm>
            <a:off x="317520" y="487440"/>
            <a:ext cx="85089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51600" cy="3187800"/>
          </a:xfrm>
          <a:prstGeom prst="rect">
            <a:avLst/>
          </a:prstGeom>
          <a:ln w="0">
            <a:noFill/>
          </a:ln>
        </p:spPr>
      </p:pic>
      <p:pic>
        <p:nvPicPr>
          <p:cNvPr id="394" name="标题 1" descr=""/>
          <p:cNvPicPr/>
          <p:nvPr/>
        </p:nvPicPr>
        <p:blipFill>
          <a:blip r:embed="rId2"/>
          <a:stretch/>
        </p:blipFill>
        <p:spPr>
          <a:xfrm>
            <a:off x="347760" y="36360"/>
            <a:ext cx="8345520" cy="1159200"/>
          </a:xfrm>
          <a:prstGeom prst="rect">
            <a:avLst/>
          </a:prstGeom>
          <a:ln w="0">
            <a:noFill/>
          </a:ln>
        </p:spPr>
      </p:pic>
      <p:pic>
        <p:nvPicPr>
          <p:cNvPr id="395" name="标题 1" descr=""/>
          <p:cNvPicPr/>
          <p:nvPr/>
        </p:nvPicPr>
        <p:blipFill>
          <a:blip r:embed="rId3"/>
          <a:stretch/>
        </p:blipFill>
        <p:spPr>
          <a:xfrm>
            <a:off x="360360" y="3938760"/>
            <a:ext cx="8345520" cy="1150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4"/>
          <a:stretch/>
        </p:blipFill>
        <p:spPr>
          <a:xfrm>
            <a:off x="539640" y="4832280"/>
            <a:ext cx="73756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标题 1" descr=""/>
          <p:cNvPicPr/>
          <p:nvPr/>
        </p:nvPicPr>
        <p:blipFill>
          <a:blip r:embed="rId1"/>
          <a:stretch/>
        </p:blipFill>
        <p:spPr>
          <a:xfrm>
            <a:off x="347760" y="1285920"/>
            <a:ext cx="8381880" cy="1585800"/>
          </a:xfrm>
          <a:prstGeom prst="rect">
            <a:avLst/>
          </a:prstGeom>
          <a:ln w="0">
            <a:noFill/>
          </a:ln>
        </p:spPr>
      </p:pic>
      <p:pic>
        <p:nvPicPr>
          <p:cNvPr id="398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88074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6:54:26Z</dcterms:created>
  <dc:creator>syn</dc:creator>
  <dc:description/>
  <dc:language>en-US</dc:language>
  <cp:lastModifiedBy>孙亚宁</cp:lastModifiedBy>
  <dcterms:modified xsi:type="dcterms:W3CDTF">2015-03-10T10:01:10Z</dcterms:modified>
  <cp:revision>27</cp:revision>
  <dc:subject/>
  <dc:title>幻灯片 1</dc:title>
</cp:coreProperties>
</file>