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6A6E-3E76-4FEC-AA2F-E7CBF1A894A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6B8-5F70-4302-B845-B5A3267D41C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D044-5CA4-4FF5-A24A-74E0145535C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DF85-5860-4278-A816-68756CE77E8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2D46-0A2E-4E35-8642-D3075CC5EBD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7649-CD38-4A14-9340-F86F537425C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E3ED-E871-4295-B2B1-760FAE22153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B944-F70A-405F-A3D4-19DA837400C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39E-71E0-4C33-988F-7D865357A45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754-7335-4C6C-9449-78D865691D1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4D0-2CF2-4A71-B1CA-7F97D2AAA8D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9153-41B4-4401-A4B8-3C2830B32E8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52A8-EDBA-40BE-9E2C-C8B8879681A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267D-E35A-49D9-8627-DA5D439CB84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7463-255D-420D-8A71-9DD0E309FF3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931-F6B0-4582-ACBF-DEE405637CA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65B4-2698-4A89-83A3-8D7B7065356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7069-6C55-424C-AE55-11D7B23B8A9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5A87-6A02-45EE-A337-1ACD78D40C9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60C-5EA3-4E0C-AEB8-3602F4A0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9AE-8221-4029-B3BA-DFAACD21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89E-3874-4DF3-8797-2F027693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E26-91CC-4853-AFF4-505F5C31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3D90-74D9-46C8-B275-B5F124FD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3B45-5457-4D2E-BDF0-93B0E016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339E-6F64-4B9B-BF28-35B74101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486A-8B74-4F41-88F4-9074ACBE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77E5-9B7A-445E-B689-C10FD7E3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BA12-5041-4978-8378-69E75999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BACA-E211-4D5D-B401-A01CA8C7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04E-9ABB-41F4-8747-B41FBE1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5DF1-283F-46AE-B166-D213EBF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9C34-6838-406A-8C89-F6EDAB0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D631-CB80-4811-A0D9-BEB32CB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A718-B684-4F1D-A220-36C03D75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9A9C-851D-4AAC-A29B-EB4DD0C2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52C3-2814-4844-8C6A-332D760E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BEB4-B9FE-46D7-9D6D-5989983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A646-1878-4042-8EA2-3EFBDBF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18DF-B17E-49C1-BDE3-99DBC14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3FE8-0645-4496-A422-AD762CB0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57B-0843-4637-A78B-B9E2150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14DC-7F42-4B49-BC0F-BB288923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9B44-14EE-4674-BF50-00DD5E2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3112-1902-44E3-AFD6-EBA7B30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22DD-3CBC-4644-94A8-1AA044D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4D71-46B9-4628-A876-7CB20951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E5C7-301C-45CE-9ED3-BD293AFE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0596-2312-4792-BC0F-883D3EC6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32B-F202-4E42-AA59-0B2A98A8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4E0-399E-4D06-9D59-12E62AD8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94F-0F99-411B-9774-6656A853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98D-C389-485C-B54C-2C56477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CA8-3B25-4D68-A933-5230FA7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E0D-A1A4-4CD3-8948-F8312F65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08DE-4E28-48AA-BB4E-385353BB0D5B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34E8-287C-4033-9EF3-CFC47CE382F9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99DB-E6F7-4220-A116-676DAA58AE71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23398;&#20301;&#30003;&#35831;&#32773;&#12289;&#31572;&#36777;&#31192;&#20070;&#32593;&#19978;&#25805;&#20316;&#25351;&#21335;/1-&#23398;&#20301;&#30003;&#35831;&#32773;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2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6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所网页下载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3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式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。申请学位年月一般应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69720" y="1457280"/>
            <a:ext cx="84664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上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-7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材料请勿装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组合 44"/>
          <p:cNvGrpSpPr/>
          <p:nvPr/>
        </p:nvGrpSpPr>
        <p:grpSpPr>
          <a:xfrm>
            <a:off x="1962000" y="2025720"/>
            <a:ext cx="5229000" cy="623880"/>
            <a:chOff x="1962000" y="2025720"/>
            <a:chExt cx="5229000" cy="623880"/>
          </a:xfrm>
        </p:grpSpPr>
        <p:grpSp>
          <p:nvGrpSpPr>
            <p:cNvPr id="233" name="Group 64"/>
            <p:cNvGrpSpPr/>
            <p:nvPr/>
          </p:nvGrpSpPr>
          <p:grpSpPr>
            <a:xfrm>
              <a:off x="1962000" y="2025720"/>
              <a:ext cx="5229000" cy="623880"/>
              <a:chOff x="1962000" y="2025720"/>
              <a:chExt cx="5229000" cy="623880"/>
            </a:xfrm>
          </p:grpSpPr>
          <p:sp>
            <p:nvSpPr>
              <p:cNvPr id="234" name="AutoShape 30"/>
              <p:cNvSpPr/>
              <p:nvPr/>
            </p:nvSpPr>
            <p:spPr>
              <a:xfrm>
                <a:off x="1983960" y="205128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Group 63"/>
              <p:cNvGrpSpPr/>
              <p:nvPr/>
            </p:nvGrpSpPr>
            <p:grpSpPr>
              <a:xfrm>
                <a:off x="1962000" y="2025720"/>
                <a:ext cx="5213160" cy="606600"/>
                <a:chOff x="1962000" y="2025720"/>
                <a:chExt cx="5213160" cy="606600"/>
              </a:xfrm>
            </p:grpSpPr>
            <p:sp>
              <p:nvSpPr>
                <p:cNvPr id="236" name="AutoShape 32"/>
                <p:cNvSpPr/>
                <p:nvPr/>
              </p:nvSpPr>
              <p:spPr>
                <a:xfrm>
                  <a:off x="2276280" y="202572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33"/>
                <p:cNvSpPr/>
                <p:nvPr/>
              </p:nvSpPr>
              <p:spPr>
                <a:xfrm>
                  <a:off x="2301480" y="211932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Group 62"/>
                <p:cNvGrpSpPr/>
                <p:nvPr/>
              </p:nvGrpSpPr>
              <p:grpSpPr>
                <a:xfrm>
                  <a:off x="1962000" y="2027160"/>
                  <a:ext cx="604800" cy="605160"/>
                  <a:chOff x="1962000" y="2027160"/>
                  <a:chExt cx="604800" cy="605160"/>
                </a:xfrm>
              </p:grpSpPr>
              <p:sp>
                <p:nvSpPr>
                  <p:cNvPr id="239" name="Oval 35"/>
                  <p:cNvSpPr/>
                  <p:nvPr/>
                </p:nvSpPr>
                <p:spPr>
                  <a:xfrm>
                    <a:off x="196200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Oval 36"/>
                  <p:cNvSpPr/>
                  <p:nvPr/>
                </p:nvSpPr>
                <p:spPr>
                  <a:xfrm>
                    <a:off x="2128680" y="217188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1"/>
                <p:cNvGrpSpPr/>
                <p:nvPr/>
              </p:nvGrpSpPr>
              <p:grpSpPr>
                <a:xfrm>
                  <a:off x="6570360" y="2027160"/>
                  <a:ext cx="604800" cy="605160"/>
                  <a:chOff x="6570360" y="2027160"/>
                  <a:chExt cx="604800" cy="605160"/>
                </a:xfrm>
              </p:grpSpPr>
              <p:sp>
                <p:nvSpPr>
                  <p:cNvPr id="242" name="Oval 39"/>
                  <p:cNvSpPr/>
                  <p:nvPr/>
                </p:nvSpPr>
                <p:spPr>
                  <a:xfrm>
                    <a:off x="657036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Oval 40"/>
                  <p:cNvSpPr/>
                  <p:nvPr/>
                </p:nvSpPr>
                <p:spPr>
                  <a:xfrm>
                    <a:off x="6676560" y="216072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4" name="TextBox 44"/>
            <p:cNvSpPr/>
            <p:nvPr/>
          </p:nvSpPr>
          <p:spPr>
            <a:xfrm>
              <a:off x="3362040" y="210816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560" y="1307880"/>
            <a:ext cx="8753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答辩申请日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日期”是指提出答辩申请的日期，而不是答辩那天的日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要简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大学填起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以下示例填写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漏掉在我所攻读学位这段时间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奖惩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在我所攻读学位期间的奖惩信息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请填“无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要空着不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必修环节学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要查看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必修环节的开题报告、中期考核、学术报告及社会实践是否都有学分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一项没有学分则答辩申请不能通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0f89f84f9e3df8096981a24c5e885a31"/>
          <p:cNvPicPr/>
          <p:nvPr/>
        </p:nvPicPr>
        <p:blipFill>
          <a:blip r:embed="rId1"/>
          <a:stretch/>
        </p:blipFill>
        <p:spPr>
          <a:xfrm>
            <a:off x="1465200" y="2962440"/>
            <a:ext cx="5124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3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4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4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4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4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0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组合 49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52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53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55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58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11"/>
                  <p:cNvSpPr/>
                  <p:nvPr/>
                </p:nvSpPr>
                <p:spPr>
                  <a:xfrm>
                    <a:off x="2130840" y="34365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61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Oval 15"/>
                  <p:cNvSpPr/>
                  <p:nvPr/>
                </p:nvSpPr>
                <p:spPr>
                  <a:xfrm>
                    <a:off x="6689160" y="3447360"/>
                    <a:ext cx="33444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3" name="TextBox 45"/>
            <p:cNvSpPr/>
            <p:nvPr/>
          </p:nvSpPr>
          <p:spPr>
            <a:xfrm>
              <a:off x="2611440" y="3405240"/>
              <a:ext cx="4296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组合 44"/>
          <p:cNvGrpSpPr/>
          <p:nvPr/>
        </p:nvGrpSpPr>
        <p:grpSpPr>
          <a:xfrm>
            <a:off x="1962000" y="4518000"/>
            <a:ext cx="5229000" cy="623880"/>
            <a:chOff x="1962000" y="4518000"/>
            <a:chExt cx="5229000" cy="623880"/>
          </a:xfrm>
        </p:grpSpPr>
        <p:grpSp>
          <p:nvGrpSpPr>
            <p:cNvPr id="165" name="Group 64"/>
            <p:cNvGrpSpPr/>
            <p:nvPr/>
          </p:nvGrpSpPr>
          <p:grpSpPr>
            <a:xfrm>
              <a:off x="1962000" y="4518000"/>
              <a:ext cx="5229000" cy="623880"/>
              <a:chOff x="1962000" y="4518000"/>
              <a:chExt cx="5229000" cy="623880"/>
            </a:xfrm>
          </p:grpSpPr>
          <p:sp>
            <p:nvSpPr>
              <p:cNvPr id="166" name="AutoShape 30"/>
              <p:cNvSpPr/>
              <p:nvPr/>
            </p:nvSpPr>
            <p:spPr>
              <a:xfrm>
                <a:off x="1983960" y="45435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63"/>
              <p:cNvGrpSpPr/>
              <p:nvPr/>
            </p:nvGrpSpPr>
            <p:grpSpPr>
              <a:xfrm>
                <a:off x="1962000" y="4518000"/>
                <a:ext cx="5213160" cy="606600"/>
                <a:chOff x="1962000" y="4518000"/>
                <a:chExt cx="5213160" cy="606600"/>
              </a:xfrm>
            </p:grpSpPr>
            <p:sp>
              <p:nvSpPr>
                <p:cNvPr id="168" name="AutoShape 32"/>
                <p:cNvSpPr/>
                <p:nvPr/>
              </p:nvSpPr>
              <p:spPr>
                <a:xfrm>
                  <a:off x="2276280" y="45180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33"/>
                <p:cNvSpPr/>
                <p:nvPr/>
              </p:nvSpPr>
              <p:spPr>
                <a:xfrm>
                  <a:off x="2301480" y="46116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Group 62"/>
                <p:cNvGrpSpPr/>
                <p:nvPr/>
              </p:nvGrpSpPr>
              <p:grpSpPr>
                <a:xfrm>
                  <a:off x="1962000" y="4519440"/>
                  <a:ext cx="604800" cy="605160"/>
                  <a:chOff x="1962000" y="4519440"/>
                  <a:chExt cx="604800" cy="605160"/>
                </a:xfrm>
              </p:grpSpPr>
              <p:sp>
                <p:nvSpPr>
                  <p:cNvPr id="171" name="Oval 35"/>
                  <p:cNvSpPr/>
                  <p:nvPr/>
                </p:nvSpPr>
                <p:spPr>
                  <a:xfrm>
                    <a:off x="196200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Oval 36"/>
                  <p:cNvSpPr/>
                  <p:nvPr/>
                </p:nvSpPr>
                <p:spPr>
                  <a:xfrm>
                    <a:off x="2128680" y="466416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Group 61"/>
                <p:cNvGrpSpPr/>
                <p:nvPr/>
              </p:nvGrpSpPr>
              <p:grpSpPr>
                <a:xfrm>
                  <a:off x="6570360" y="4519440"/>
                  <a:ext cx="604800" cy="605160"/>
                  <a:chOff x="6570360" y="4519440"/>
                  <a:chExt cx="604800" cy="605160"/>
                </a:xfrm>
              </p:grpSpPr>
              <p:sp>
                <p:nvSpPr>
                  <p:cNvPr id="174" name="Oval 39"/>
                  <p:cNvSpPr/>
                  <p:nvPr/>
                </p:nvSpPr>
                <p:spPr>
                  <a:xfrm>
                    <a:off x="657036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Oval 40"/>
                  <p:cNvSpPr/>
                  <p:nvPr/>
                </p:nvSpPr>
                <p:spPr>
                  <a:xfrm>
                    <a:off x="6676560" y="465300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" name="TextBox 44"/>
            <p:cNvSpPr/>
            <p:nvPr/>
          </p:nvSpPr>
          <p:spPr>
            <a:xfrm>
              <a:off x="3362040" y="46004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1307880"/>
            <a:ext cx="828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填写论文信息时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项目均须填写，且要填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能只填标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项目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C:\Users\syn\AppData\Roaming\Tencent\Users\398705640\QQ\WinTemp\RichOle\5}DAR0M$7HOC((R{IMKWG}5.png"/>
          <p:cNvPicPr/>
          <p:nvPr/>
        </p:nvPicPr>
        <p:blipFill>
          <a:blip r:embed="rId1"/>
          <a:stretch/>
        </p:blipFill>
        <p:spPr>
          <a:xfrm>
            <a:off x="903240" y="2503440"/>
            <a:ext cx="665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照第一作者、第二作者、第三作者的顺序依次录入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能领域作者排名填写实际贡献度排名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098720" y="2130480"/>
            <a:ext cx="6308640" cy="259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793800" y="5460840"/>
            <a:ext cx="6848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论文起止时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起止时间”指从开始进入学位论文课题的研究开始，至完成论文撰写为止。如从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一入学开始论文相关课题研究，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6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撰写完毕，则“论文起止时间”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9-2016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58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60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7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8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8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8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8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" name="TextBox 44"/>
            <p:cNvSpPr/>
            <p:nvPr/>
          </p:nvSpPr>
          <p:spPr>
            <a:xfrm>
              <a:off x="309420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8840" y="1940040"/>
          <a:ext cx="7383600" cy="337824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课程学分、必修环节学分（开题报告、中期考核、学术报告和社会实践）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6.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组合 49"/>
          <p:cNvGrpSpPr/>
          <p:nvPr/>
        </p:nvGrpSpPr>
        <p:grpSpPr>
          <a:xfrm>
            <a:off x="1967040" y="2025720"/>
            <a:ext cx="5228640" cy="623880"/>
            <a:chOff x="1967040" y="2025720"/>
            <a:chExt cx="5228640" cy="623880"/>
          </a:xfrm>
        </p:grpSpPr>
        <p:grpSp>
          <p:nvGrpSpPr>
            <p:cNvPr id="195" name="Group 81"/>
            <p:cNvGrpSpPr/>
            <p:nvPr/>
          </p:nvGrpSpPr>
          <p:grpSpPr>
            <a:xfrm>
              <a:off x="1967040" y="2025720"/>
              <a:ext cx="5228640" cy="623880"/>
              <a:chOff x="1967040" y="2025720"/>
              <a:chExt cx="5228640" cy="623880"/>
            </a:xfrm>
          </p:grpSpPr>
          <p:sp>
            <p:nvSpPr>
              <p:cNvPr id="196" name="AutoShape 6"/>
              <p:cNvSpPr/>
              <p:nvPr/>
            </p:nvSpPr>
            <p:spPr>
              <a:xfrm>
                <a:off x="1989000" y="2050920"/>
                <a:ext cx="520668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80"/>
              <p:cNvGrpSpPr/>
              <p:nvPr/>
            </p:nvGrpSpPr>
            <p:grpSpPr>
              <a:xfrm>
                <a:off x="1967040" y="2025720"/>
                <a:ext cx="5212800" cy="606240"/>
                <a:chOff x="1967040" y="2025720"/>
                <a:chExt cx="5212800" cy="606240"/>
              </a:xfrm>
            </p:grpSpPr>
            <p:sp>
              <p:nvSpPr>
                <p:cNvPr id="198" name="AutoShape 7"/>
                <p:cNvSpPr/>
                <p:nvPr/>
              </p:nvSpPr>
              <p:spPr>
                <a:xfrm>
                  <a:off x="2280960" y="2025720"/>
                  <a:ext cx="458748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8"/>
                <p:cNvSpPr/>
                <p:nvPr/>
              </p:nvSpPr>
              <p:spPr>
                <a:xfrm>
                  <a:off x="2306520" y="2119320"/>
                  <a:ext cx="456372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Group 9"/>
                <p:cNvGrpSpPr/>
                <p:nvPr/>
              </p:nvGrpSpPr>
              <p:grpSpPr>
                <a:xfrm>
                  <a:off x="1967040" y="2027160"/>
                  <a:ext cx="604440" cy="604800"/>
                  <a:chOff x="1967040" y="2027160"/>
                  <a:chExt cx="604440" cy="604800"/>
                </a:xfrm>
              </p:grpSpPr>
              <p:sp>
                <p:nvSpPr>
                  <p:cNvPr id="201" name="Oval 10"/>
                  <p:cNvSpPr/>
                  <p:nvPr/>
                </p:nvSpPr>
                <p:spPr>
                  <a:xfrm>
                    <a:off x="196704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Oval 11"/>
                  <p:cNvSpPr/>
                  <p:nvPr/>
                </p:nvSpPr>
                <p:spPr>
                  <a:xfrm>
                    <a:off x="2113560" y="2150640"/>
                    <a:ext cx="33372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13"/>
                <p:cNvGrpSpPr/>
                <p:nvPr/>
              </p:nvGrpSpPr>
              <p:grpSpPr>
                <a:xfrm>
                  <a:off x="6575400" y="2027160"/>
                  <a:ext cx="604440" cy="604800"/>
                  <a:chOff x="6575400" y="2027160"/>
                  <a:chExt cx="604440" cy="604800"/>
                </a:xfrm>
              </p:grpSpPr>
              <p:sp>
                <p:nvSpPr>
                  <p:cNvPr id="204" name="Oval 14"/>
                  <p:cNvSpPr/>
                  <p:nvPr/>
                </p:nvSpPr>
                <p:spPr>
                  <a:xfrm>
                    <a:off x="657540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Oval 15"/>
                  <p:cNvSpPr/>
                  <p:nvPr/>
                </p:nvSpPr>
                <p:spPr>
                  <a:xfrm>
                    <a:off x="6671520" y="216144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" name="TextBox 45"/>
            <p:cNvSpPr/>
            <p:nvPr/>
          </p:nvSpPr>
          <p:spPr>
            <a:xfrm>
              <a:off x="2593800" y="2119320"/>
              <a:ext cx="429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实质性贡献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6-03-07T04:15:11Z</dcterms:modified>
  <cp:revision>145</cp:revision>
  <dc:subject/>
  <dc:title>PowerPoint TEMPLATE</dc:title>
</cp:coreProperties>
</file>