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7C60-7B20-45B3-B540-2FF257CAC45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4FA3-0EBD-48D0-B08C-9692565579B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3528-89D2-4B28-84B0-7759372E18D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824B-39B8-4EA1-9260-014313D796F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F52F-5006-430B-ADF4-9A374D0BF69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A859-F3BC-46C1-B9A4-9CCB176327A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423-1F2B-4C54-807A-923668D0166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8209-B3CA-4113-B09A-8004FF27D83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566D-55BF-42F9-88E5-DFC8839804A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E671-6FB5-4BEE-9947-BF6036B5AF8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DA84-CFB9-4C37-B965-2634662C33C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3C07-FC89-4652-B5C9-EECBF9D339A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2F2A-E0B6-411D-A2AE-4942D14414D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C63B-DCB0-4089-A2CF-6E838432E52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A0FE-B4A2-4AE7-9C49-EE035793D4B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BD71-8B44-4BD9-B6F3-705D1216642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0CF7-000A-440F-99F1-C5747D354DE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E7AC-4D00-4BA3-AB28-24414733704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C1C8-D7A7-4B34-B0F1-5C4AE35D80D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9E4-7BD5-435D-AEBC-E6111C87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273-91D4-4DE6-AD8B-F247C82A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A7D-53F4-487E-A695-05F6B7D2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BB9-620D-4E68-A1A1-C737D0EF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2765-9203-4C8D-A9F1-BB6D0530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E83B-AC52-4FD2-9999-17AA7622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2D34-F591-4034-A983-FA5672E8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12D5-3FB7-4661-8C4C-EAC12D8A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8B99-B477-41DC-8924-5F78A4AD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F5D2-2168-4DAA-89AC-B11D8957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27E5-6170-43B4-A765-21CE5688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867-0E0E-4489-9D7E-A33F2535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A7FA-B392-499B-BE72-12C54453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D28A-D3B7-4B0D-A956-4C25236D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231C-CD8D-4CB3-A5E7-93A68BE4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6957-CCF7-46F0-8491-E54620DE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415C-AB2E-46CE-8E06-B4E5AFEE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A9CB-A11E-4221-B798-34359AA8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AEFF-D95A-4E4E-A52E-BE7B8648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3C81-7B03-4A50-ACDE-E4CD2468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2E5C-2CF7-40D5-8F9D-D03AB56E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C606-6400-44E6-A3B2-D1294605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5EF-402B-488B-9801-7A5C0D03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03D2-575A-4CED-A7B1-D3569EB7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1281-37BF-4638-B4ED-60DDD264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2928-E751-4557-A691-51FD5C2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C657-6567-4FAE-88BD-7A6823B2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B7E2F-AB3A-4CDB-B393-308DE422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1133-C392-407F-920A-45CB4C48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54D1-F745-4F80-86F2-37359502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FA7-5A33-467A-A99A-B7967CAF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AF7-3850-4086-89F4-C8B9D0A1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765-7AFB-4680-A9EC-B2050433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F4E-7547-440E-A5C0-79CC4DDC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7A4-5160-45CF-9E1E-525FBEC2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A57-DC9E-4891-A832-328B07D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52BF-0D6C-4259-A1E3-8F88F168653D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2097-A1E0-4488-B87B-67408B7C746A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FA19-9DAB-487F-9114-BBFED8176049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23398;&#20301;&#30003;&#35831;&#32773;&#12289;&#31572;&#36777;&#31192;&#20070;&#32593;&#19978;&#25805;&#20316;&#25351;&#21335;/1-&#23398;&#20301;&#30003;&#35831;&#32773;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2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6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少在答辩时间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，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所网页下载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3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式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。申请学位年月一般应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69720" y="1457280"/>
            <a:ext cx="84664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（高能领域另附贡献说明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⑧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盘（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文件名：本人姓名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上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-7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材料请勿装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组合 44"/>
          <p:cNvGrpSpPr/>
          <p:nvPr/>
        </p:nvGrpSpPr>
        <p:grpSpPr>
          <a:xfrm>
            <a:off x="1962000" y="2025720"/>
            <a:ext cx="5229000" cy="623880"/>
            <a:chOff x="1962000" y="2025720"/>
            <a:chExt cx="5229000" cy="623880"/>
          </a:xfrm>
        </p:grpSpPr>
        <p:grpSp>
          <p:nvGrpSpPr>
            <p:cNvPr id="233" name="Group 64"/>
            <p:cNvGrpSpPr/>
            <p:nvPr/>
          </p:nvGrpSpPr>
          <p:grpSpPr>
            <a:xfrm>
              <a:off x="1962000" y="2025720"/>
              <a:ext cx="5229000" cy="623880"/>
              <a:chOff x="1962000" y="2025720"/>
              <a:chExt cx="5229000" cy="623880"/>
            </a:xfrm>
          </p:grpSpPr>
          <p:sp>
            <p:nvSpPr>
              <p:cNvPr id="234" name="AutoShape 30"/>
              <p:cNvSpPr/>
              <p:nvPr/>
            </p:nvSpPr>
            <p:spPr>
              <a:xfrm>
                <a:off x="1983960" y="205128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Group 63"/>
              <p:cNvGrpSpPr/>
              <p:nvPr/>
            </p:nvGrpSpPr>
            <p:grpSpPr>
              <a:xfrm>
                <a:off x="1962000" y="2025720"/>
                <a:ext cx="5213160" cy="606600"/>
                <a:chOff x="1962000" y="2025720"/>
                <a:chExt cx="5213160" cy="606600"/>
              </a:xfrm>
            </p:grpSpPr>
            <p:sp>
              <p:nvSpPr>
                <p:cNvPr id="236" name="AutoShape 32"/>
                <p:cNvSpPr/>
                <p:nvPr/>
              </p:nvSpPr>
              <p:spPr>
                <a:xfrm>
                  <a:off x="2276280" y="202572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33"/>
                <p:cNvSpPr/>
                <p:nvPr/>
              </p:nvSpPr>
              <p:spPr>
                <a:xfrm>
                  <a:off x="2301480" y="211932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Group 62"/>
                <p:cNvGrpSpPr/>
                <p:nvPr/>
              </p:nvGrpSpPr>
              <p:grpSpPr>
                <a:xfrm>
                  <a:off x="1962000" y="2027160"/>
                  <a:ext cx="604800" cy="605160"/>
                  <a:chOff x="1962000" y="2027160"/>
                  <a:chExt cx="604800" cy="605160"/>
                </a:xfrm>
              </p:grpSpPr>
              <p:sp>
                <p:nvSpPr>
                  <p:cNvPr id="239" name="Oval 35"/>
                  <p:cNvSpPr/>
                  <p:nvPr/>
                </p:nvSpPr>
                <p:spPr>
                  <a:xfrm>
                    <a:off x="196200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Oval 36"/>
                  <p:cNvSpPr/>
                  <p:nvPr/>
                </p:nvSpPr>
                <p:spPr>
                  <a:xfrm>
                    <a:off x="2128680" y="217188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1"/>
                <p:cNvGrpSpPr/>
                <p:nvPr/>
              </p:nvGrpSpPr>
              <p:grpSpPr>
                <a:xfrm>
                  <a:off x="6570360" y="2027160"/>
                  <a:ext cx="604800" cy="605160"/>
                  <a:chOff x="6570360" y="2027160"/>
                  <a:chExt cx="604800" cy="605160"/>
                </a:xfrm>
              </p:grpSpPr>
              <p:sp>
                <p:nvSpPr>
                  <p:cNvPr id="242" name="Oval 39"/>
                  <p:cNvSpPr/>
                  <p:nvPr/>
                </p:nvSpPr>
                <p:spPr>
                  <a:xfrm>
                    <a:off x="657036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Oval 40"/>
                  <p:cNvSpPr/>
                  <p:nvPr/>
                </p:nvSpPr>
                <p:spPr>
                  <a:xfrm>
                    <a:off x="6676560" y="216072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4" name="TextBox 44"/>
            <p:cNvSpPr/>
            <p:nvPr/>
          </p:nvSpPr>
          <p:spPr>
            <a:xfrm>
              <a:off x="3362040" y="210816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560" y="1307880"/>
            <a:ext cx="8753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答辩申请日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日期”是指提出答辩申请的日期，而不是答辩那天的日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主要简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大学填起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以下示例填写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漏掉在我所攻读学位这段时间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奖惩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在我所攻读学位期间的奖惩信息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请填“无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要空着不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必修环节学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要查看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必修环节的开题报告、中期考核、学术报告及社会实践是否都有学分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一项没有学分则答辩申请不能通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0f89f84f9e3df8096981a24c5e885a31"/>
          <p:cNvPicPr/>
          <p:nvPr/>
        </p:nvPicPr>
        <p:blipFill>
          <a:blip r:embed="rId1"/>
          <a:stretch/>
        </p:blipFill>
        <p:spPr>
          <a:xfrm>
            <a:off x="1465200" y="2962440"/>
            <a:ext cx="5124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3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4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4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4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4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0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组合 49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52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53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55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58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11"/>
                  <p:cNvSpPr/>
                  <p:nvPr/>
                </p:nvSpPr>
                <p:spPr>
                  <a:xfrm>
                    <a:off x="2130840" y="34365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61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Oval 15"/>
                  <p:cNvSpPr/>
                  <p:nvPr/>
                </p:nvSpPr>
                <p:spPr>
                  <a:xfrm>
                    <a:off x="6689160" y="3447360"/>
                    <a:ext cx="33444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3" name="TextBox 45"/>
            <p:cNvSpPr/>
            <p:nvPr/>
          </p:nvSpPr>
          <p:spPr>
            <a:xfrm>
              <a:off x="2611440" y="3405240"/>
              <a:ext cx="4296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组合 44"/>
          <p:cNvGrpSpPr/>
          <p:nvPr/>
        </p:nvGrpSpPr>
        <p:grpSpPr>
          <a:xfrm>
            <a:off x="1962000" y="4518000"/>
            <a:ext cx="5229000" cy="623880"/>
            <a:chOff x="1962000" y="4518000"/>
            <a:chExt cx="5229000" cy="623880"/>
          </a:xfrm>
        </p:grpSpPr>
        <p:grpSp>
          <p:nvGrpSpPr>
            <p:cNvPr id="165" name="Group 64"/>
            <p:cNvGrpSpPr/>
            <p:nvPr/>
          </p:nvGrpSpPr>
          <p:grpSpPr>
            <a:xfrm>
              <a:off x="1962000" y="4518000"/>
              <a:ext cx="5229000" cy="623880"/>
              <a:chOff x="1962000" y="4518000"/>
              <a:chExt cx="5229000" cy="623880"/>
            </a:xfrm>
          </p:grpSpPr>
          <p:sp>
            <p:nvSpPr>
              <p:cNvPr id="166" name="AutoShape 30"/>
              <p:cNvSpPr/>
              <p:nvPr/>
            </p:nvSpPr>
            <p:spPr>
              <a:xfrm>
                <a:off x="1983960" y="45435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63"/>
              <p:cNvGrpSpPr/>
              <p:nvPr/>
            </p:nvGrpSpPr>
            <p:grpSpPr>
              <a:xfrm>
                <a:off x="1962000" y="4518000"/>
                <a:ext cx="5213160" cy="606600"/>
                <a:chOff x="1962000" y="4518000"/>
                <a:chExt cx="5213160" cy="606600"/>
              </a:xfrm>
            </p:grpSpPr>
            <p:sp>
              <p:nvSpPr>
                <p:cNvPr id="168" name="AutoShape 32"/>
                <p:cNvSpPr/>
                <p:nvPr/>
              </p:nvSpPr>
              <p:spPr>
                <a:xfrm>
                  <a:off x="2276280" y="45180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33"/>
                <p:cNvSpPr/>
                <p:nvPr/>
              </p:nvSpPr>
              <p:spPr>
                <a:xfrm>
                  <a:off x="2301480" y="46116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Group 62"/>
                <p:cNvGrpSpPr/>
                <p:nvPr/>
              </p:nvGrpSpPr>
              <p:grpSpPr>
                <a:xfrm>
                  <a:off x="1962000" y="4519440"/>
                  <a:ext cx="604800" cy="605160"/>
                  <a:chOff x="1962000" y="4519440"/>
                  <a:chExt cx="604800" cy="605160"/>
                </a:xfrm>
              </p:grpSpPr>
              <p:sp>
                <p:nvSpPr>
                  <p:cNvPr id="171" name="Oval 35"/>
                  <p:cNvSpPr/>
                  <p:nvPr/>
                </p:nvSpPr>
                <p:spPr>
                  <a:xfrm>
                    <a:off x="196200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Oval 36"/>
                  <p:cNvSpPr/>
                  <p:nvPr/>
                </p:nvSpPr>
                <p:spPr>
                  <a:xfrm>
                    <a:off x="2128680" y="466416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Group 61"/>
                <p:cNvGrpSpPr/>
                <p:nvPr/>
              </p:nvGrpSpPr>
              <p:grpSpPr>
                <a:xfrm>
                  <a:off x="6570360" y="4519440"/>
                  <a:ext cx="604800" cy="605160"/>
                  <a:chOff x="6570360" y="4519440"/>
                  <a:chExt cx="604800" cy="605160"/>
                </a:xfrm>
              </p:grpSpPr>
              <p:sp>
                <p:nvSpPr>
                  <p:cNvPr id="174" name="Oval 39"/>
                  <p:cNvSpPr/>
                  <p:nvPr/>
                </p:nvSpPr>
                <p:spPr>
                  <a:xfrm>
                    <a:off x="657036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Oval 40"/>
                  <p:cNvSpPr/>
                  <p:nvPr/>
                </p:nvSpPr>
                <p:spPr>
                  <a:xfrm>
                    <a:off x="6676560" y="465300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6" name="TextBox 44"/>
            <p:cNvSpPr/>
            <p:nvPr/>
          </p:nvSpPr>
          <p:spPr>
            <a:xfrm>
              <a:off x="3362040" y="46004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1307880"/>
            <a:ext cx="828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填写论文信息时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项目均须填写，且要填全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能只填标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项目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C:\Users\syn\AppData\Roaming\Tencent\Users\398705640\QQ\WinTemp\RichOle\5}DAR0M$7HOC((R{IMKWG}5.png"/>
          <p:cNvPicPr/>
          <p:nvPr/>
        </p:nvPicPr>
        <p:blipFill>
          <a:blip r:embed="rId1"/>
          <a:stretch/>
        </p:blipFill>
        <p:spPr>
          <a:xfrm>
            <a:off x="903240" y="2503440"/>
            <a:ext cx="6651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照第一作者、第二作者、第三作者的顺序依次录入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能领域作者排名填写实际贡献度排名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098720" y="2130480"/>
            <a:ext cx="6308640" cy="259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793800" y="5460840"/>
            <a:ext cx="6848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论文起止时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起止时间”指从开始进入学位论文课题的研究开始，至完成论文撰写为止。如从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.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一入学开始论文相关课题研究，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6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撰写完毕，则“论文起止时间”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.9-2016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58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60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矩形 37"/>
          <p:cNvSpPr/>
          <p:nvPr/>
        </p:nvSpPr>
        <p:spPr>
          <a:xfrm>
            <a:off x="708120" y="2044800"/>
            <a:ext cx="75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问题可直接与国科大网络中心联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10-88256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7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8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8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8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8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0" name="TextBox 44"/>
            <p:cNvSpPr/>
            <p:nvPr/>
          </p:nvSpPr>
          <p:spPr>
            <a:xfrm>
              <a:off x="309420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88840" y="1940040"/>
          <a:ext cx="7383600" cy="337824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课程学分、必修环节学分（开题报告、中期考核、学术报告和社会实践）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6.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组合 49"/>
          <p:cNvGrpSpPr/>
          <p:nvPr/>
        </p:nvGrpSpPr>
        <p:grpSpPr>
          <a:xfrm>
            <a:off x="1967040" y="2025720"/>
            <a:ext cx="5228640" cy="623880"/>
            <a:chOff x="1967040" y="2025720"/>
            <a:chExt cx="5228640" cy="623880"/>
          </a:xfrm>
        </p:grpSpPr>
        <p:grpSp>
          <p:nvGrpSpPr>
            <p:cNvPr id="195" name="Group 81"/>
            <p:cNvGrpSpPr/>
            <p:nvPr/>
          </p:nvGrpSpPr>
          <p:grpSpPr>
            <a:xfrm>
              <a:off x="1967040" y="2025720"/>
              <a:ext cx="5228640" cy="623880"/>
              <a:chOff x="1967040" y="2025720"/>
              <a:chExt cx="5228640" cy="623880"/>
            </a:xfrm>
          </p:grpSpPr>
          <p:sp>
            <p:nvSpPr>
              <p:cNvPr id="196" name="AutoShape 6"/>
              <p:cNvSpPr/>
              <p:nvPr/>
            </p:nvSpPr>
            <p:spPr>
              <a:xfrm>
                <a:off x="1989000" y="2050920"/>
                <a:ext cx="520668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Group 80"/>
              <p:cNvGrpSpPr/>
              <p:nvPr/>
            </p:nvGrpSpPr>
            <p:grpSpPr>
              <a:xfrm>
                <a:off x="1967040" y="2025720"/>
                <a:ext cx="5212800" cy="606240"/>
                <a:chOff x="1967040" y="2025720"/>
                <a:chExt cx="5212800" cy="606240"/>
              </a:xfrm>
            </p:grpSpPr>
            <p:sp>
              <p:nvSpPr>
                <p:cNvPr id="198" name="AutoShape 7"/>
                <p:cNvSpPr/>
                <p:nvPr/>
              </p:nvSpPr>
              <p:spPr>
                <a:xfrm>
                  <a:off x="2280960" y="2025720"/>
                  <a:ext cx="458748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8"/>
                <p:cNvSpPr/>
                <p:nvPr/>
              </p:nvSpPr>
              <p:spPr>
                <a:xfrm>
                  <a:off x="2306520" y="2119320"/>
                  <a:ext cx="456372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Group 9"/>
                <p:cNvGrpSpPr/>
                <p:nvPr/>
              </p:nvGrpSpPr>
              <p:grpSpPr>
                <a:xfrm>
                  <a:off x="1967040" y="2027160"/>
                  <a:ext cx="604440" cy="604800"/>
                  <a:chOff x="1967040" y="2027160"/>
                  <a:chExt cx="604440" cy="604800"/>
                </a:xfrm>
              </p:grpSpPr>
              <p:sp>
                <p:nvSpPr>
                  <p:cNvPr id="201" name="Oval 10"/>
                  <p:cNvSpPr/>
                  <p:nvPr/>
                </p:nvSpPr>
                <p:spPr>
                  <a:xfrm>
                    <a:off x="196704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Oval 11"/>
                  <p:cNvSpPr/>
                  <p:nvPr/>
                </p:nvSpPr>
                <p:spPr>
                  <a:xfrm>
                    <a:off x="2113560" y="2150640"/>
                    <a:ext cx="33372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Group 13"/>
                <p:cNvGrpSpPr/>
                <p:nvPr/>
              </p:nvGrpSpPr>
              <p:grpSpPr>
                <a:xfrm>
                  <a:off x="6575400" y="2027160"/>
                  <a:ext cx="604440" cy="604800"/>
                  <a:chOff x="6575400" y="2027160"/>
                  <a:chExt cx="604440" cy="604800"/>
                </a:xfrm>
              </p:grpSpPr>
              <p:sp>
                <p:nvSpPr>
                  <p:cNvPr id="204" name="Oval 14"/>
                  <p:cNvSpPr/>
                  <p:nvPr/>
                </p:nvSpPr>
                <p:spPr>
                  <a:xfrm>
                    <a:off x="657540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Oval 15"/>
                  <p:cNvSpPr/>
                  <p:nvPr/>
                </p:nvSpPr>
                <p:spPr>
                  <a:xfrm>
                    <a:off x="6671520" y="216144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6" name="TextBox 45"/>
            <p:cNvSpPr/>
            <p:nvPr/>
          </p:nvSpPr>
          <p:spPr>
            <a:xfrm>
              <a:off x="2593800" y="2119320"/>
              <a:ext cx="429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室主任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实质性贡献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作者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截止时间为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前两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6-03-07T04:15:11Z</dcterms:modified>
  <cp:revision>145</cp:revision>
  <dc:subject/>
  <dc:title>PowerPoint TEMPLATE</dc:title>
</cp:coreProperties>
</file>