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5033-193E-4E0E-92F8-2FB8976488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174B-3139-4757-899B-051590E9E8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596-9429-4897-9615-7DAFA4A9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E4C-C687-41AC-A761-0D6D6F1E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AF0-314A-4470-B742-D8A03D5F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986-65D9-4756-983D-52B5ECC9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8564-26A6-4306-846D-BCEFF38E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454D-CB2A-48EE-A3E4-2EBFE1EA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5E4A-B533-4328-8857-9C4ABD09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6F29-3F55-47D2-BE78-B84E6F3E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2119-816E-47C2-96DA-A2D4F405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172B-FCCD-413F-84A8-10869B6B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3D28-403B-46EF-B302-A8B2AA70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16D-0B7A-4B3B-B995-DAEA619A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405A-8716-4E25-985F-BC16A09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489B-FBE3-4EDC-B8AC-E57A970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C3B8-3BF4-42EC-ABBE-5CDD1991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BF21-FCD6-4A30-BAB1-604C7A20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B9C6-9FAB-4FEF-B7BD-E2338104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4C88-D013-4F8F-9D05-BB0FB627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D389-285F-41E0-8BA3-0506F18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EFBF-FDC7-4843-840F-3676623F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96A5-83B9-4246-B0FA-7B141676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E893-80AC-4797-9DAC-9EAFAA9C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FAC-1F03-4792-96F9-4CC9260F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030B-38D5-4D22-ACEF-882F7EA7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0541-35BC-4672-9FB7-DC25D1FE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B473-DECA-4FBB-86EE-2FE1DCA7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D6ED-94A9-4F3A-ADB7-8E5B8B9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63E4-69E3-46A8-AB1A-1647CF8A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14A3-3C13-45AE-A279-D38C5B74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471F-B843-4F46-8867-F33A4B80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0927-81BA-4173-BFE1-EECAFE40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26EAB-B5B7-45F0-AE3D-9A3928F1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57E6-1C0B-49CA-8389-15D99A68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5C7-7C47-4462-A4CD-48E7FA52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CB8E-3DD3-428D-B786-BB41C1B0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7212-E28A-4541-B4D8-F3EFB2D8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65DC-B291-459A-B6FC-29E79B87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1016-3746-4C73-9799-DD4B23DD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BA2A-4D96-4B37-A184-950B10A4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980C-373A-472F-B5A5-6133719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C1226-62FF-4029-9A7C-CEC9BC65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603D-BEA4-4AE2-A1A6-CB663601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D5D7-2FEC-4835-BFAF-AEEF4EB0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8E8AD-5119-4EC3-A0D1-CE646B65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8AD-F929-49D3-BA56-31347600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3317A-F714-4FBF-A131-5A6E1ECA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CD34A-291A-492D-9804-345623E6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0837A-DC19-45D4-9339-7C18DED6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955DA-890F-4279-8A97-BB413304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73EE-FB13-4D4B-BB48-65F7EEF3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99C16-F8FA-498A-96E0-0AA8FE7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A9735-DE64-433B-BAE0-29FE5F1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9EEFB-7F07-4D2E-B115-2DDF9407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FEDC-0C76-459D-93FC-C8D809D9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7AA5F-7AB6-43DA-8D8B-CE316FA1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F4F-3C81-4944-8F28-616131AD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AB23-AE96-4A30-9550-AF19EDFC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DB327-F2EB-4E0F-9F78-25FDDE04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BD13E-13C4-437A-A809-1BC99ABB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2F51A-75B3-4AF7-B49E-85C3BF0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640A3-656C-4415-8EAC-C08FA2D1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5270A-17E5-4854-B8D7-FFCA803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84F7C-DD6B-4695-A159-F35C2008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E2D00-6B33-4FB8-91B9-186C07A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BC755-6FD3-4B73-9CA7-CA17436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A173B-8236-4A3F-9FE0-BEFA8D85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814-CA1D-451C-A58C-3F710A3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855D-2CB1-4B61-AC6F-A14E41B4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8A220-33E3-438C-A652-38876308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EE2C0-2755-41F0-AA28-8E4327BB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EBBD7-56E9-4609-AAAE-63D594BC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BC5F-2C5B-4414-BEB1-C79800B3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B454C-F8C2-4BFA-BD25-73307D17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3EEED-02CC-4FBC-93DE-83507DB9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09FE-A892-4001-B131-EFF1DA49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2A54D-65F7-47E9-9F01-38997C93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240E2-EFA0-4C9D-81B6-C50523AA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989-7426-4710-9DF1-044FB203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2191F-3D5C-4309-BBA9-73AEEBED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EFA99-1C14-4829-8CB7-A6BEE9CF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508C-6959-4C76-B5A5-8D37A2EB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65455-BFC1-4B56-80A8-F36B41D7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3DDAD-4741-4418-995B-BA065FA6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A325B-B0AD-492C-9E07-0F391C61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7848B-5394-4049-8B6B-521399C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7A85A-A123-4ED6-8BDF-E10D8DAB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27524-3B7F-46DB-A645-3EC3E97C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A8F3D-2D86-40F3-B3D3-4DBF61FC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CFC-EA8E-45BE-9113-D89E0839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AC928-06DD-4C67-BD55-E64BDAD2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BA8B9-C87B-40F3-A82F-056F705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7AABE-708A-47E5-B377-E47D19B0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C7443-E9DF-4594-B74D-0DDB8E77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FA398-DA84-46EF-8EA6-4F222219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68141-DF82-408C-B23E-2A59630C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E8253-1336-440B-B5F4-35501CBD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5741-B264-46DB-AD55-45CF0030FCCD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F42D-8647-4B5E-864E-A56AA8C3776A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F7AE-B539-4343-9BB6-5B04359FAC75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CAF7-6B4F-4BC9-8EE6-D3B6BC18AAD8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D828-8033-45B6-99DB-4F0A6F60C808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BF78-6D2F-479F-BEC5-D80C72FF160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BF33-6711-416F-9D2F-F1926ADA9933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8666-0967-4977-BF70-5915E0F8BBA3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907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5-03-10T10:01:10Z</dcterms:modified>
  <cp:revision>27</cp:revision>
  <dc:subject/>
  <dc:title>幻灯片 1</dc:title>
</cp:coreProperties>
</file>