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6D14-AE23-4A6A-B7C5-A579061F694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A80A-F51A-49B4-A6C6-C93557E2B8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E8F-18D0-4DB4-B4E6-1D95D917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99A-92FD-4A3A-AF3C-48F30D3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47B-AC26-4CB6-9D1E-F8560DA6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877-0179-4820-85E6-C8508686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AA6A-F78D-4347-811A-91A189BB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2B99-D230-4968-8CAD-BFB195A3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5E9C-E902-4176-9E7A-3771CF7C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A850-7BA1-4BBE-BF84-76E3E119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D73D-676E-4A3A-A034-08F9BAF7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6E51-A662-4AA9-A573-69892A66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65FF-6B29-4890-AD8E-6446348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F02-6DC6-437F-A2AC-756469A1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88BC-2265-4492-B62A-04FAE7E0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8F3D-77A9-490F-BF8E-7A1747DF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1057-893E-4189-AE60-865E6D3E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5479-DE74-42EC-AB2E-CF9BCAF2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9F39-87E2-4ADD-9DAC-566F4D9F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B1E0-1E66-46A6-9D87-188034E6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65A7-2271-4922-86FA-89E9992A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E142-556F-4905-A45B-CFC475C2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1A4C-391C-47DA-83CF-B4199FE8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8C33-6BF1-4577-AF62-9579AB03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0E3-4EB7-4684-A36C-9E1415C4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24C4A-C7B8-42CF-878B-33732986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72EA-FB39-4A3A-9B35-DA7A4C04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FD88B-BEA7-4CAB-9978-808E6ED1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6534-1029-4415-9324-93F67118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73DE-4B40-4804-9874-D82FE23B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27AC-CC1D-45EB-A577-B924598F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1F52-A869-481F-BB1B-542E9932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8C9F-3E3D-41A4-B8BA-1AF42D88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0F686-0F58-4335-A3D8-1A8A5C5D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7FF5E-0830-4B42-A8DD-33E145C7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BEF-0661-4DAB-8ABA-4619315D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F3106-C47E-43B1-BABC-24C67FB7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2B7D-4B32-4C50-B05A-BCA51799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A5F0-5F80-4D33-ABFD-404A584F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1FBA-2872-4D36-8E38-C5AFAB74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5812-DB1A-441A-AC24-D08D903F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BEB4-E3A6-43B5-8DF5-58CBE1A9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B4852-78C3-4423-B320-077732A3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7C97-9C08-4F33-9C31-55FC4B21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A783A-89A6-47A8-8CEA-54BF1C83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E0492-EDF9-4258-A63E-1491071C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0D9-AE2A-4D0C-88B1-65ED38C3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5A60-71D9-4D69-B73C-5FE3B498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6625-8518-400A-974F-79D4C9E6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82EB5-5DB7-4C48-8785-2C81674E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47045-049F-42D3-AABE-17D64553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A9F26-81CC-4061-AFFF-F86B2AE8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B6D52-61B2-487A-BC49-B91BD15D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5D4D3-D857-48BC-B1C2-8BB2A10D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AF4EE-FBAB-495E-825A-C4061DB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7ADD5-EC8D-4BFE-9EA5-F3DAD178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0789-59B0-4D65-99C4-A623887D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8CE-CED5-4CBE-B711-E237EA04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6AC76-B3C6-4B40-BE90-E5363BAD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FCD81-0CFA-4993-9095-E3D62CF5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D848-CF17-4623-880F-734A2762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60890-7339-40BF-9C25-71B53BA4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F9368-9661-4F48-BA69-87138B52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77D2A-7C5F-4134-9BB2-5AC9ED1E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FAB2-58B9-4606-9F67-C0E09CD6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34D66-A616-496E-9005-E0A92671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74A6A-7D00-4EFD-8CA5-89734E43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B0326-9321-4909-A98F-2D322AAA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AA2-842F-465D-9084-DDAFE20B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D67F4-398A-49D6-B75D-88B9395E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DC97A-FF22-41D3-81F3-4742D72C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DAE2C-F0CD-4D69-8764-67881DE8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5A034-FCD8-4E99-92AC-AA3FB499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BA3B3-EEE7-4A26-9DB0-1103E670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2BB4A-A464-4A0A-9376-08DDF3E2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E21BD-944E-4A7C-BAB5-087031B2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38ABC-39E4-413C-A819-257F2478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CFBE-EC55-4A91-A833-21C91536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747C7-2A7A-4970-88A1-B5CB602A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5D5-7A1B-4D58-B4CF-E9FDEF62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337C2-63BC-420E-9FA2-8CA2FE53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73664-5389-4886-8B35-60B415D4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ABCFF-A8DA-4D6F-AB63-3DB28FC0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3CB1-1D9F-407F-B67B-947E4DD7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5B43F-CE2F-4EA8-A3AF-03AF026B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EEC32-58A1-4D0E-8764-44B91B1E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C75C2-5D0D-4058-9F9B-831EB03E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AB69A-3100-45E3-B363-37C4CBB2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D8408-090E-456A-A05A-B632EA50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9A2CB-A97F-4469-8A05-4B1F515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E40-7098-4705-945A-2AFD81E5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331C6-8DC2-40E6-B25B-A0B201EE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DB1E3-C197-4F21-9CED-7C4A16EE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B010E-DA10-459B-A3FD-B8FC9160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A0E16-8C6A-4F61-B9E2-83FBDE2C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12709-33AF-4939-9FAA-9D5501C9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EE472-56BF-462B-8D63-6842DDA3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BF22C-40E6-4F15-9249-6E9C0AB4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5690-233E-4C83-B5FE-7C9FF3B82C57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7DC2-7900-49CF-A48F-A97C206445E7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62D0-7E42-4EE6-9D60-F7019EE427F4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A11A-03FA-4A74-8AC8-A6F54BBD31A6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C726-2FC9-476B-8C4B-16659C7B664E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05D0-F46C-47B1-A60E-4F049A9E524D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DF68-286E-47DD-8275-E43202D946FA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10E1-0D47-428D-928C-3B5BA6F4C257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标题 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089920" cy="1839960"/>
          </a:xfrm>
          <a:prstGeom prst="rect">
            <a:avLst/>
          </a:prstGeom>
          <a:ln w="0">
            <a:noFill/>
          </a:ln>
        </p:spPr>
      </p:pic>
      <p:pic>
        <p:nvPicPr>
          <p:cNvPr id="378" name="标题 1" descr=""/>
          <p:cNvPicPr/>
          <p:nvPr/>
        </p:nvPicPr>
        <p:blipFill>
          <a:blip r:embed="rId2"/>
          <a:stretch/>
        </p:blipFill>
        <p:spPr>
          <a:xfrm>
            <a:off x="6004080" y="5310360"/>
            <a:ext cx="312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1" descr=""/>
          <p:cNvPicPr/>
          <p:nvPr/>
        </p:nvPicPr>
        <p:blipFill>
          <a:blip r:embed="rId1"/>
          <a:stretch/>
        </p:blipFill>
        <p:spPr>
          <a:xfrm>
            <a:off x="347760" y="755640"/>
            <a:ext cx="8345520" cy="189072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78000" y="2276640"/>
            <a:ext cx="8370720" cy="395604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347760" y="396720"/>
            <a:ext cx="8515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标题 1" descr=""/>
          <p:cNvPicPr/>
          <p:nvPr/>
        </p:nvPicPr>
        <p:blipFill>
          <a:blip r:embed="rId1"/>
          <a:stretch/>
        </p:blipFill>
        <p:spPr>
          <a:xfrm>
            <a:off x="347760" y="25560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250920" y="1892160"/>
            <a:ext cx="8642160" cy="110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4440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04640" y="2425680"/>
            <a:ext cx="8704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46040" y="2781360"/>
            <a:ext cx="8229600" cy="1987560"/>
          </a:xfrm>
          <a:prstGeom prst="rect">
            <a:avLst/>
          </a:prstGeom>
          <a:ln w="0">
            <a:noFill/>
          </a:ln>
        </p:spPr>
      </p:pic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9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88920" y="2781360"/>
            <a:ext cx="894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347760" y="-176040"/>
            <a:ext cx="8381880" cy="1882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457440" cy="1951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3457440" cy="19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2627280" y="4869000"/>
            <a:ext cx="3457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339640" y="1955880"/>
            <a:ext cx="5986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评阅专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答辩委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新增专家至专家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论文评阅专家操作指南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2" descr=""/>
          <p:cNvPicPr/>
          <p:nvPr/>
        </p:nvPicPr>
        <p:blipFill>
          <a:blip r:embed="rId1"/>
          <a:stretch/>
        </p:blipFill>
        <p:spPr>
          <a:xfrm>
            <a:off x="249120" y="1494000"/>
            <a:ext cx="8444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907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标题 1" descr=""/>
          <p:cNvPicPr/>
          <p:nvPr/>
        </p:nvPicPr>
        <p:blipFill>
          <a:blip r:embed="rId2"/>
          <a:stretch/>
        </p:blipFill>
        <p:spPr>
          <a:xfrm>
            <a:off x="285840" y="1407960"/>
            <a:ext cx="8381880" cy="1238400"/>
          </a:xfrm>
          <a:prstGeom prst="rect">
            <a:avLst/>
          </a:prstGeom>
          <a:ln w="0">
            <a:noFill/>
          </a:ln>
        </p:spPr>
      </p:pic>
      <p:pic>
        <p:nvPicPr>
          <p:cNvPr id="383" name="标题 1" descr=""/>
          <p:cNvPicPr/>
          <p:nvPr/>
        </p:nvPicPr>
        <p:blipFill>
          <a:blip r:embed="rId3"/>
          <a:stretch/>
        </p:blipFill>
        <p:spPr>
          <a:xfrm>
            <a:off x="334800" y="4297320"/>
            <a:ext cx="83455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8464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4360" y="982800"/>
            <a:ext cx="8891640" cy="2301840"/>
          </a:xfrm>
          <a:prstGeom prst="rect">
            <a:avLst/>
          </a:prstGeom>
          <a:ln w="0">
            <a:noFill/>
          </a:ln>
        </p:spPr>
      </p:pic>
      <p:pic>
        <p:nvPicPr>
          <p:cNvPr id="386" name="标题 1" descr=""/>
          <p:cNvPicPr/>
          <p:nvPr/>
        </p:nvPicPr>
        <p:blipFill>
          <a:blip r:embed="rId2"/>
          <a:stretch/>
        </p:blipFill>
        <p:spPr>
          <a:xfrm>
            <a:off x="334800" y="34322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标题 1" descr=""/>
          <p:cNvPicPr/>
          <p:nvPr/>
        </p:nvPicPr>
        <p:blipFill>
          <a:blip r:embed="rId1"/>
          <a:stretch/>
        </p:blipFill>
        <p:spPr>
          <a:xfrm>
            <a:off x="1438200" y="4432320"/>
            <a:ext cx="640080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syn\教育\毕业与就业\毕业\2014\冬毕\研究生论文答辩及学位申请网上操作指南\截图\图片3.png"/>
          <p:cNvPicPr/>
          <p:nvPr/>
        </p:nvPicPr>
        <p:blipFill>
          <a:blip r:embed="rId2"/>
          <a:stretch/>
        </p:blipFill>
        <p:spPr>
          <a:xfrm>
            <a:off x="1604880" y="692280"/>
            <a:ext cx="593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标题 1" descr=""/>
          <p:cNvPicPr/>
          <p:nvPr/>
        </p:nvPicPr>
        <p:blipFill>
          <a:blip r:embed="rId1"/>
          <a:stretch/>
        </p:blipFill>
        <p:spPr>
          <a:xfrm>
            <a:off x="365040" y="4591080"/>
            <a:ext cx="8510760" cy="1650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syn\教育\毕业与就业\毕业\2014\冬毕\研究生论文答辩及学位申请网上操作指南\截图\图片4.png"/>
          <p:cNvPicPr/>
          <p:nvPr/>
        </p:nvPicPr>
        <p:blipFill>
          <a:blip r:embed="rId2"/>
          <a:stretch/>
        </p:blipFill>
        <p:spPr>
          <a:xfrm>
            <a:off x="1908000" y="457200"/>
            <a:ext cx="5365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1908000" y="2262240"/>
            <a:ext cx="5437440" cy="4046400"/>
          </a:xfrm>
          <a:prstGeom prst="rect">
            <a:avLst/>
          </a:prstGeom>
          <a:ln w="0">
            <a:noFill/>
          </a:ln>
        </p:spPr>
      </p:pic>
      <p:pic>
        <p:nvPicPr>
          <p:cNvPr id="392" name="标题 1" descr=""/>
          <p:cNvPicPr/>
          <p:nvPr/>
        </p:nvPicPr>
        <p:blipFill>
          <a:blip r:embed="rId2"/>
          <a:stretch/>
        </p:blipFill>
        <p:spPr>
          <a:xfrm>
            <a:off x="317520" y="487440"/>
            <a:ext cx="850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51600" cy="3187800"/>
          </a:xfrm>
          <a:prstGeom prst="rect">
            <a:avLst/>
          </a:prstGeom>
          <a:ln w="0">
            <a:noFill/>
          </a:ln>
        </p:spPr>
      </p:pic>
      <p:pic>
        <p:nvPicPr>
          <p:cNvPr id="394" name="标题 1" descr=""/>
          <p:cNvPicPr/>
          <p:nvPr/>
        </p:nvPicPr>
        <p:blipFill>
          <a:blip r:embed="rId2"/>
          <a:stretch/>
        </p:blipFill>
        <p:spPr>
          <a:xfrm>
            <a:off x="347760" y="36360"/>
            <a:ext cx="8345520" cy="1159200"/>
          </a:xfrm>
          <a:prstGeom prst="rect">
            <a:avLst/>
          </a:prstGeom>
          <a:ln w="0">
            <a:noFill/>
          </a:ln>
        </p:spPr>
      </p:pic>
      <p:pic>
        <p:nvPicPr>
          <p:cNvPr id="395" name="标题 1" descr=""/>
          <p:cNvPicPr/>
          <p:nvPr/>
        </p:nvPicPr>
        <p:blipFill>
          <a:blip r:embed="rId3"/>
          <a:stretch/>
        </p:blipFill>
        <p:spPr>
          <a:xfrm>
            <a:off x="360360" y="3938760"/>
            <a:ext cx="834552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539640" y="4832280"/>
            <a:ext cx="7375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347760" y="1285920"/>
            <a:ext cx="8381880" cy="1585800"/>
          </a:xfrm>
          <a:prstGeom prst="rect">
            <a:avLst/>
          </a:prstGeom>
          <a:ln w="0">
            <a:noFill/>
          </a:ln>
        </p:spPr>
      </p:pic>
      <p:pic>
        <p:nvPicPr>
          <p:cNvPr id="398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807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54:26Z</dcterms:created>
  <dc:creator>syn</dc:creator>
  <dc:description/>
  <dc:language>en-US</dc:language>
  <cp:lastModifiedBy>孙亚宁</cp:lastModifiedBy>
  <dcterms:modified xsi:type="dcterms:W3CDTF">2015-03-10T10:01:10Z</dcterms:modified>
  <cp:revision>27</cp:revision>
  <dc:subject/>
  <dc:title>幻灯片 1</dc:title>
</cp:coreProperties>
</file>