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11F5-2E09-4E78-A9D4-3DE69CDC397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48EC-DB8E-44F0-889D-DB3A655F1DB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86F7-FE37-489E-8760-7014674483C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44B1-DF6C-4E48-AE77-5A466B38F53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F195-1A65-4772-8CF1-0C0136187FA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7F09-FA79-419E-B584-B8EFB56C665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429B-FC43-4284-B68D-B339DE293F0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C523-E780-4E7D-B08A-F106DF976D7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BCBC-35D6-4418-B363-279624880B9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1F17-376D-4030-8A68-52B2A136ABA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0BA5-6FB9-4817-ADC7-CC7AE87F058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C2DA-09FC-411A-BF94-E2BEADE5D2F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2E39-03F0-426A-A60B-19BCF0BE226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0778-4F8B-4733-B7D7-75450C48696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A8AB-337E-49D1-B0BB-4DD9D626E03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4CD-42F4-4C93-935A-31E490B9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E08-3B9A-4C2A-8F3B-BC2A022C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4E2-A852-4159-A473-E6E05CC3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02E-CF71-4D09-997E-E3389199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DBCD-E07A-46C2-9349-F231087E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4DB6-E711-401E-BFEE-1F4EF056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1CAA-6EBF-4443-906A-DAE3E0EC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2998-D341-446B-BA82-6D0598C1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A2BE-751E-4F13-BC22-B7849533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8A1B-B4A0-4D11-9ED5-E4E1E3DC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BC01-EDEE-41AF-BC30-57A55183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A56-C3C2-411D-9134-8282DB29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1BBE-5DA6-49AE-9F21-3A5CCF86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A563-3E9A-4C5E-A021-06BDF384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5DA6-83A7-4AC2-9DB5-F6A06A7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064D-7617-443A-BB01-3E674C6A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8381-A666-489C-808F-4927561D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6982-566A-4F43-B9AF-22FE7388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B891C-EC76-4398-8353-50846F9B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6DE0-352E-4FEE-AECE-D8E456FF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2DEB-3A1A-4975-A6F2-1002162D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953D-231F-451E-8352-96FCC027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37C-2E01-4ACE-9D21-E6E5F498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2B5F-9AFC-4C93-8163-5FD1006B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0110-21A7-436C-AB1F-0729957B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BA2D-2BA6-430D-9C6A-95A7E23F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006F-A151-4546-89E0-F467B775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AEEF-B9BC-48C1-B6FC-33213029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ACE5-C2CE-4674-8331-540F9C41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FF208-2130-4DCA-B9BB-B0A85C1F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B72-910C-4906-B771-ED4B3DFF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96F-87D0-40B5-8867-04FFF04F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31A-E5D3-49E9-AAAC-E02EA8C4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8DC-97D2-45A9-874F-93D36CDF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855-4E38-46DC-A75B-C30BF92D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DE9-1575-4EBE-8BA7-4364C4E4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BB3D-14A4-41FA-A398-DE3C4A1A4237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0"/>
          <p:cNvSpPr/>
          <p:nvPr/>
        </p:nvSpPr>
        <p:spPr>
          <a:xfrm>
            <a:off x="2438280" y="117648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F059-8E0F-4844-98D0-1FF463607C73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Freeform 90"/>
          <p:cNvSpPr/>
          <p:nvPr/>
        </p:nvSpPr>
        <p:spPr>
          <a:xfrm rot="10800000">
            <a:off x="-360" y="1009080"/>
            <a:ext cx="7265880" cy="120600"/>
          </a:xfrm>
          <a:custGeom>
            <a:avLst/>
            <a:gdLst>
              <a:gd name="textAreaLeft" fmla="*/ 0 w 7265880"/>
              <a:gd name="textAreaRight" fmla="*/ 7266240 w 7265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5218-06FC-41F8-8261-50FB6924C5CC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ep.ucas.ac.cn/" TargetMode="External"/><Relationship Id="rId2" Type="http://schemas.openxmlformats.org/officeDocument/2006/relationships/hyperlink" Target="file:///&#23398;&#20301;&#30003;&#35831;&#32773;&#12289;&#31572;&#36777;&#31192;&#20070;&#32593;&#19978;&#25805;&#20316;&#25351;&#21335;/1-&#23398;&#20301;&#30003;&#35831;&#32773;&#32593;&#19978;&#25805;&#20316;&#25351;&#21335;/&#23398;&#20301;&#30003;&#35831;&#32773;&#32593;&#19978;&#25805;&#20316;&#25351;&#21335;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2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3" Type="http://schemas.openxmlformats.org/officeDocument/2006/relationships/hyperlink" Target="file:///&#23398;&#20301;&#30003;&#35831;&#32773;&#12289;&#31572;&#36777;&#31192;&#20070;&#32593;&#19978;&#25805;&#20316;&#25351;&#21335;/2-&#31572;&#36777;&#31192;&#20070;&#32593;&#19978;&#25805;&#20316;&#25351;&#21335;.ppt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0680" y="1887120"/>
            <a:ext cx="799308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论文答辩及学位申请流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60760" y="3940200"/>
            <a:ext cx="343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论物理所研究生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15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少在答辩时间前一天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成员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；一般应包含本单位及外单位专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；答辩委员会主席应由博士生指导教师担任；成员中博士生指导教师一般不少于三分之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的评阅人一般应参加该论文答辩委员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、答辩秘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会议室（老楼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，新楼找庄辞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贴答辩通知（下载统一模板填写，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如下材料至研究生部盖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（学位申请人系统生成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答辩秘书系统下载打印所有评阅人评阅书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所网页下载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52280" y="363600"/>
            <a:ext cx="6483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.3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必须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取横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领答辩酬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半小时布置答辩会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开始前把以下材料交答辩委员会主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程序（所网页下载，填写信息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所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决议初稿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位申请人事先拟好内容，请导师先过一遍，电子版及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纸质版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认真做好答辩记录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会休会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助答辩委员会主席发表决票和收表决票；及时整理“答辩委员会决议”并找主席签字；提醒答辩委员会成员在《中国科学院大学论文答辩情况和学位授予决议书》上签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结束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放酬金，合影留念，并挑选一张合影发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答辩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信息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秘书兼记录人职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报或同步各模块信息（请先阅读左侧最下的“填报说明”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情况：先同步，再据实填写剩余各项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导信息：自学籍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息：据实填写各项内容。其中学习方式为全脱产，学习年限为实际年限，如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统考博士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延期半年）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简历：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69720" y="1457280"/>
            <a:ext cx="85060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程学习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教务管理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修环节～论文答辩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模块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题报告、中期考核、学术报告及社会实践均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网上提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在学位管理系统再提交一遍最终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确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信息填报后，需要做“信息确认”封存数据，确认后学生不能再修改数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按照撰写规定撰写，新版封皮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学位论文评阅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评阅人的评阅书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论文答辩情况和学位授予决议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装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委员会表决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回收件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业生登记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⑧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盘（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文件名：本人姓名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交答辩相关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225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1f497d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227" name="Rectangle 7"/>
              <p:cNvSpPr/>
              <p:nvPr/>
            </p:nvSpPr>
            <p:spPr>
              <a:xfrm>
                <a:off x="30780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13492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0"/>
              <p:cNvSpPr/>
              <p:nvPr/>
            </p:nvSpPr>
            <p:spPr>
              <a:xfrm>
                <a:off x="18255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8670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3"/>
              <p:cNvSpPr/>
              <p:nvPr/>
            </p:nvSpPr>
            <p:spPr>
              <a:xfrm>
                <a:off x="34322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9085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447372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495000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55148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18"/>
              <p:cNvSpPr/>
              <p:nvPr/>
            </p:nvSpPr>
            <p:spPr>
              <a:xfrm>
                <a:off x="59911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19"/>
              <p:cNvSpPr/>
              <p:nvPr/>
            </p:nvSpPr>
            <p:spPr>
              <a:xfrm>
                <a:off x="6556320" y="5613480"/>
                <a:ext cx="9072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20"/>
              <p:cNvSpPr/>
              <p:nvPr/>
            </p:nvSpPr>
            <p:spPr>
              <a:xfrm>
                <a:off x="7032600" y="5613480"/>
                <a:ext cx="27000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1"/>
              <p:cNvSpPr/>
              <p:nvPr/>
            </p:nvSpPr>
            <p:spPr>
              <a:xfrm>
                <a:off x="759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2"/>
              <p:cNvSpPr/>
              <p:nvPr/>
            </p:nvSpPr>
            <p:spPr>
              <a:xfrm>
                <a:off x="807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3"/>
              <p:cNvSpPr/>
              <p:nvPr/>
            </p:nvSpPr>
            <p:spPr>
              <a:xfrm>
                <a:off x="863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矩形 37"/>
          <p:cNvSpPr/>
          <p:nvPr/>
        </p:nvSpPr>
        <p:spPr>
          <a:xfrm>
            <a:off x="708120" y="2044800"/>
            <a:ext cx="75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问题，请及时与我联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10-625609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问题可直接与国科大网络中心联系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10-882566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8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sp>
          <p:nvSpPr>
            <p:cNvPr id="138" name="AutoShape 6"/>
            <p:cNvSpPr/>
            <p:nvPr/>
          </p:nvSpPr>
          <p:spPr>
            <a:xfrm>
              <a:off x="2006640" y="3336840"/>
              <a:ext cx="520704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80"/>
            <p:cNvGrpSpPr/>
            <p:nvPr/>
          </p:nvGrpSpPr>
          <p:grpSpPr>
            <a:xfrm>
              <a:off x="1984320" y="3311640"/>
              <a:ext cx="5213520" cy="606240"/>
              <a:chOff x="1984320" y="3311640"/>
              <a:chExt cx="5213520" cy="606240"/>
            </a:xfrm>
          </p:grpSpPr>
          <p:sp>
            <p:nvSpPr>
              <p:cNvPr id="140" name="AutoShape 7"/>
              <p:cNvSpPr/>
              <p:nvPr/>
            </p:nvSpPr>
            <p:spPr>
              <a:xfrm>
                <a:off x="2298600" y="331164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2324160" y="3405240"/>
                <a:ext cx="4564080" cy="431640"/>
              </a:xfrm>
              <a:prstGeom prst="rect">
                <a:avLst/>
              </a:prstGeom>
              <a:gradFill rotWithShape="0">
                <a:gsLst>
                  <a:gs pos="0">
                    <a:srgbClr val="1f497d"/>
                  </a:gs>
                  <a:gs pos="50000">
                    <a:srgbClr val="4f81bd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Group 9"/>
              <p:cNvGrpSpPr/>
              <p:nvPr/>
            </p:nvGrpSpPr>
            <p:grpSpPr>
              <a:xfrm>
                <a:off x="1984320" y="3313080"/>
                <a:ext cx="604800" cy="604800"/>
                <a:chOff x="1984320" y="3313080"/>
                <a:chExt cx="604800" cy="604800"/>
              </a:xfrm>
            </p:grpSpPr>
            <p:sp>
              <p:nvSpPr>
                <p:cNvPr id="143" name="Oval 10"/>
                <p:cNvSpPr/>
                <p:nvPr/>
              </p:nvSpPr>
              <p:spPr>
                <a:xfrm>
                  <a:off x="198432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11"/>
                <p:cNvSpPr/>
                <p:nvPr/>
              </p:nvSpPr>
              <p:spPr>
                <a:xfrm>
                  <a:off x="215064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12"/>
                <p:cNvSpPr/>
                <p:nvPr/>
              </p:nvSpPr>
              <p:spPr>
                <a:xfrm rot="19033200">
                  <a:off x="2036160" y="3405600"/>
                  <a:ext cx="25308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3"/>
              <p:cNvGrpSpPr/>
              <p:nvPr/>
            </p:nvGrpSpPr>
            <p:grpSpPr>
              <a:xfrm>
                <a:off x="6593040" y="3313080"/>
                <a:ext cx="604800" cy="604800"/>
                <a:chOff x="6593040" y="3313080"/>
                <a:chExt cx="604800" cy="604800"/>
              </a:xfrm>
            </p:grpSpPr>
            <p:sp>
              <p:nvSpPr>
                <p:cNvPr id="147" name="Oval 14"/>
                <p:cNvSpPr/>
                <p:nvPr/>
              </p:nvSpPr>
              <p:spPr>
                <a:xfrm>
                  <a:off x="659304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15"/>
                <p:cNvSpPr/>
                <p:nvPr/>
              </p:nvSpPr>
              <p:spPr>
                <a:xfrm>
                  <a:off x="675936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16"/>
                <p:cNvSpPr/>
                <p:nvPr/>
              </p:nvSpPr>
              <p:spPr>
                <a:xfrm rot="19033200">
                  <a:off x="6644880" y="3405960"/>
                  <a:ext cx="25344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0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52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53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55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58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Oval 36"/>
                  <p:cNvSpPr/>
                  <p:nvPr/>
                </p:nvSpPr>
                <p:spPr>
                  <a:xfrm>
                    <a:off x="212580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Oval 37"/>
                  <p:cNvSpPr/>
                  <p:nvPr/>
                </p:nvSpPr>
                <p:spPr>
                  <a:xfrm rot="19033200">
                    <a:off x="2009880" y="2125440"/>
                    <a:ext cx="25380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62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Oval 40"/>
                  <p:cNvSpPr/>
                  <p:nvPr/>
                </p:nvSpPr>
                <p:spPr>
                  <a:xfrm>
                    <a:off x="673416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Oval 41"/>
                  <p:cNvSpPr/>
                  <p:nvPr/>
                </p:nvSpPr>
                <p:spPr>
                  <a:xfrm rot="19033200">
                    <a:off x="6618240" y="2125800"/>
                    <a:ext cx="25416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5" name="TextBox 44"/>
            <p:cNvSpPr/>
            <p:nvPr/>
          </p:nvSpPr>
          <p:spPr>
            <a:xfrm>
              <a:off x="309456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4535640" y="340524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各环节操作流程及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3408480" y="394020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时间节点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88840" y="1940040"/>
          <a:ext cx="7383600" cy="3133440"/>
        </p:xfrm>
        <a:graphic>
          <a:graphicData uri="http://schemas.openxmlformats.org/drawingml/2006/table">
            <a:tbl>
              <a:tblPr/>
              <a:tblGrid>
                <a:gridCol w="4884840"/>
                <a:gridCol w="249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截止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申请（培养指导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资格审查：学分、开题报告、中期考核、发表文章、学位论文完成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15.1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送审学位论文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两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聘请答辩委员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一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组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填报学位申请信息（学位管理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相关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sp>
          <p:nvSpPr>
            <p:cNvPr id="171" name="AutoShape 30"/>
            <p:cNvSpPr/>
            <p:nvPr/>
          </p:nvSpPr>
          <p:spPr>
            <a:xfrm>
              <a:off x="1981080" y="205596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63"/>
            <p:cNvGrpSpPr/>
            <p:nvPr/>
          </p:nvGrpSpPr>
          <p:grpSpPr>
            <a:xfrm>
              <a:off x="1959120" y="2030400"/>
              <a:ext cx="5213160" cy="606600"/>
              <a:chOff x="1959120" y="2030400"/>
              <a:chExt cx="5213160" cy="606600"/>
            </a:xfrm>
          </p:grpSpPr>
          <p:sp>
            <p:nvSpPr>
              <p:cNvPr id="173" name="AutoShape 32"/>
              <p:cNvSpPr/>
              <p:nvPr/>
            </p:nvSpPr>
            <p:spPr>
              <a:xfrm>
                <a:off x="2273400" y="203040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33"/>
              <p:cNvSpPr/>
              <p:nvPr/>
            </p:nvSpPr>
            <p:spPr>
              <a:xfrm>
                <a:off x="2298600" y="212400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1f497d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Group 62"/>
              <p:cNvGrpSpPr/>
              <p:nvPr/>
            </p:nvGrpSpPr>
            <p:grpSpPr>
              <a:xfrm>
                <a:off x="1959120" y="2031840"/>
                <a:ext cx="604800" cy="605160"/>
                <a:chOff x="1959120" y="2031840"/>
                <a:chExt cx="604800" cy="605160"/>
              </a:xfrm>
            </p:grpSpPr>
            <p:sp>
              <p:nvSpPr>
                <p:cNvPr id="176" name="Oval 35"/>
                <p:cNvSpPr/>
                <p:nvPr/>
              </p:nvSpPr>
              <p:spPr>
                <a:xfrm>
                  <a:off x="195912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Oval 36"/>
                <p:cNvSpPr/>
                <p:nvPr/>
              </p:nvSpPr>
              <p:spPr>
                <a:xfrm>
                  <a:off x="212580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Oval 37"/>
                <p:cNvSpPr/>
                <p:nvPr/>
              </p:nvSpPr>
              <p:spPr>
                <a:xfrm rot="19033200">
                  <a:off x="2009880" y="2125440"/>
                  <a:ext cx="25380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61"/>
              <p:cNvGrpSpPr/>
              <p:nvPr/>
            </p:nvGrpSpPr>
            <p:grpSpPr>
              <a:xfrm>
                <a:off x="6567480" y="2031840"/>
                <a:ext cx="604800" cy="605160"/>
                <a:chOff x="6567480" y="2031840"/>
                <a:chExt cx="604800" cy="605160"/>
              </a:xfrm>
            </p:grpSpPr>
            <p:sp>
              <p:nvSpPr>
                <p:cNvPr id="180" name="Oval 39"/>
                <p:cNvSpPr/>
                <p:nvPr/>
              </p:nvSpPr>
              <p:spPr>
                <a:xfrm>
                  <a:off x="656748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Oval 40"/>
                <p:cNvSpPr/>
                <p:nvPr/>
              </p:nvSpPr>
              <p:spPr>
                <a:xfrm>
                  <a:off x="673416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Oval 41"/>
                <p:cNvSpPr/>
                <p:nvPr/>
              </p:nvSpPr>
              <p:spPr>
                <a:xfrm rot="19033200">
                  <a:off x="6618240" y="2125800"/>
                  <a:ext cx="25416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3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4"/>
          <p:cNvSpPr/>
          <p:nvPr/>
        </p:nvSpPr>
        <p:spPr>
          <a:xfrm>
            <a:off x="3094560" y="211284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各时间节点安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组合 3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grpSp>
          <p:nvGrpSpPr>
            <p:cNvPr id="186" name="Group 81"/>
            <p:cNvGrpSpPr/>
            <p:nvPr/>
          </p:nvGrpSpPr>
          <p:grpSpPr>
            <a:xfrm>
              <a:off x="1984320" y="3311640"/>
              <a:ext cx="5229360" cy="623880"/>
              <a:chOff x="1984320" y="3311640"/>
              <a:chExt cx="5229360" cy="623880"/>
            </a:xfrm>
          </p:grpSpPr>
          <p:sp>
            <p:nvSpPr>
              <p:cNvPr id="187" name="AutoShape 6"/>
              <p:cNvSpPr/>
              <p:nvPr/>
            </p:nvSpPr>
            <p:spPr>
              <a:xfrm>
                <a:off x="2006640" y="3336840"/>
                <a:ext cx="520704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Group 80"/>
              <p:cNvGrpSpPr/>
              <p:nvPr/>
            </p:nvGrpSpPr>
            <p:grpSpPr>
              <a:xfrm>
                <a:off x="1984320" y="3311640"/>
                <a:ext cx="5213520" cy="606240"/>
                <a:chOff x="1984320" y="3311640"/>
                <a:chExt cx="5213520" cy="606240"/>
              </a:xfrm>
            </p:grpSpPr>
            <p:sp>
              <p:nvSpPr>
                <p:cNvPr id="189" name="AutoShape 7"/>
                <p:cNvSpPr/>
                <p:nvPr/>
              </p:nvSpPr>
              <p:spPr>
                <a:xfrm>
                  <a:off x="2298600" y="331164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8"/>
                <p:cNvSpPr/>
                <p:nvPr/>
              </p:nvSpPr>
              <p:spPr>
                <a:xfrm>
                  <a:off x="2324160" y="3405240"/>
                  <a:ext cx="456408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f497d"/>
                    </a:gs>
                    <a:gs pos="50000">
                      <a:srgbClr val="4f81bd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Group 9"/>
                <p:cNvGrpSpPr/>
                <p:nvPr/>
              </p:nvGrpSpPr>
              <p:grpSpPr>
                <a:xfrm>
                  <a:off x="1984320" y="3313080"/>
                  <a:ext cx="604800" cy="604800"/>
                  <a:chOff x="1984320" y="3313080"/>
                  <a:chExt cx="604800" cy="604800"/>
                </a:xfrm>
              </p:grpSpPr>
              <p:sp>
                <p:nvSpPr>
                  <p:cNvPr id="192" name="Oval 10"/>
                  <p:cNvSpPr/>
                  <p:nvPr/>
                </p:nvSpPr>
                <p:spPr>
                  <a:xfrm>
                    <a:off x="198432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Oval 11"/>
                  <p:cNvSpPr/>
                  <p:nvPr/>
                </p:nvSpPr>
                <p:spPr>
                  <a:xfrm>
                    <a:off x="215064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Oval 12"/>
                  <p:cNvSpPr/>
                  <p:nvPr/>
                </p:nvSpPr>
                <p:spPr>
                  <a:xfrm rot="19033200">
                    <a:off x="2036160" y="3405600"/>
                    <a:ext cx="25308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13"/>
                <p:cNvGrpSpPr/>
                <p:nvPr/>
              </p:nvGrpSpPr>
              <p:grpSpPr>
                <a:xfrm>
                  <a:off x="6593040" y="3313080"/>
                  <a:ext cx="604800" cy="604800"/>
                  <a:chOff x="6593040" y="3313080"/>
                  <a:chExt cx="604800" cy="604800"/>
                </a:xfrm>
              </p:grpSpPr>
              <p:sp>
                <p:nvSpPr>
                  <p:cNvPr id="196" name="Oval 14"/>
                  <p:cNvSpPr/>
                  <p:nvPr/>
                </p:nvSpPr>
                <p:spPr>
                  <a:xfrm>
                    <a:off x="659304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Oval 15"/>
                  <p:cNvSpPr/>
                  <p:nvPr/>
                </p:nvSpPr>
                <p:spPr>
                  <a:xfrm>
                    <a:off x="675936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Oval 16"/>
                  <p:cNvSpPr/>
                  <p:nvPr/>
                </p:nvSpPr>
                <p:spPr>
                  <a:xfrm rot="19033200">
                    <a:off x="6644880" y="3405960"/>
                    <a:ext cx="25344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9" name="TextBox 45"/>
            <p:cNvSpPr/>
            <p:nvPr/>
          </p:nvSpPr>
          <p:spPr>
            <a:xfrm>
              <a:off x="4535640" y="340524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69720" y="1457280"/>
            <a:ext cx="8593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要求的课程体系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开题报告、中期考核、学术报告和社会实践，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公开发表学术论文要求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位论文初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（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http://sep.ucas.ac.cn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指导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维护各模块信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模块具体要求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学位申请者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69360" y="1457280"/>
            <a:ext cx="83948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需提交的材料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式两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各模块信息需填写完整，开题报告、中期考核、学术报告和社会实践均已获得学分，并需要有导师、室主任签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实质性贡献者的发表论文首页复印件或接收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能领域同学需提供一份如下格式的说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志名称，年卷期，页码）的实质性贡献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作者，特此说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69360" y="1456920"/>
            <a:ext cx="8533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（一般由课题秘书担任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、所级审核通过答辩申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评阅专家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在线评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答辩秘书网上操作指南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3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一、聘请评阅专家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69360" y="1457280"/>
            <a:ext cx="8385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截止时间为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前两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的导师不能作为评阅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过程中如有一位评阅人持否定意见，则再增聘两位评阅人进行评阅。如累计有两位评阅人持否定意见，本次学位申请无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评阅人均返回评阅意见且全部同意组织答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级审核通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答辩委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二、聘请答辩委员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15:06Z</dcterms:created>
  <dc:creator>孙亚宁</dc:creator>
  <dc:description/>
  <dc:language>en-US</dc:language>
  <cp:lastModifiedBy>孙亚宁</cp:lastModifiedBy>
  <dcterms:modified xsi:type="dcterms:W3CDTF">2015-10-19T07:02:59Z</dcterms:modified>
  <cp:revision>122</cp:revision>
  <dc:subject/>
  <dc:title>PowerPoint TEMPLATE</dc:title>
</cp:coreProperties>
</file>