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5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.jpeg" ContentType="image/jpeg"/>
  <Override PartName="/ppt/media/image50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9B44-6291-459E-BF39-3EE21AE86C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4BD3-0787-49C7-9752-5642152BF09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1415-EAB1-4816-A95D-2DE274AFD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C58B-0EA7-46A8-BE51-9024432D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8264-F8DB-470D-8888-1FEE6354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AE6B-6819-44F6-B6BA-121E971DE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2584-B87D-4532-9523-61E3380A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0F91-D176-45D8-9890-4844B7DA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E71BE-AEB6-4FC4-BBB5-52051DDD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EF60B-374D-4F56-A534-F6CC63D1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BAEC-DF5C-4774-A4CE-5BBF25E22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9B27-CACE-4B23-B349-3BEDE871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98FBF-09C6-4371-85C3-FF117878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CBD8-FFDE-4BE6-9E55-78180FEF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37FE-40FA-4957-B1AA-17E5DFDB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FA5B-0884-40BE-B7DC-3D2B09B9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5634-5288-4596-9F04-48086DD2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B71C-9769-4BE2-9BF5-DFF47C26A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97A9-6EC2-4434-B621-7ECE20B2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B2897-DA41-42D6-97DB-E2A5F20E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7DEE2-EC0D-4881-9BBA-C2B431FD0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A6F2B-8852-4AE8-8C4F-35FA4145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B48E5-092C-4C92-A280-560097ED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260BD-3EE2-4F6C-AF21-FFBCF0B84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2A78-CC67-4765-8291-811D183C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66B00-82B0-4D07-8758-E666E2FB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E9012-5923-4CA9-9529-210EDAA7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824D5-F548-436B-911C-1EAFCC8B3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49C4E-32C4-4106-A8A3-76C238BA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04838-7488-4E44-AFAB-3A617A2EE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76868-6DBA-4E19-B95A-1BF201A1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9D205-5929-4B81-A757-C95C27E9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D5BB8-8992-4BA9-906C-748E60BB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A4006-256F-432B-8255-ED50EB3C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FF44F-F5A2-413A-ADF8-83465EE1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246F-9E5B-4B7A-ABD7-80F7C3655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865A6-AA63-45AF-A836-C3FC7F8A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13EE-1F46-4D7F-A0FA-04B16028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CC05A-99B1-4D2B-928E-7C66C9A6E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C1159-BE53-46BB-8FEA-2BD641A8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246DF-DDBC-4D34-B446-93ABEB9A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C10E4-D47E-496C-81B9-E07F88F7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08023-E5CD-4D13-B695-6B8912DB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DF132-09E0-48D0-92F9-002613F18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3667F-DAC2-4067-BF2F-391E918BF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2F37A-DB49-4398-9636-A77B9B9F3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CC8-5733-43A8-8E19-CCB98FF4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93C44-340B-4496-8B2F-C76AADEF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AE91F-E286-406C-8B88-FEE0235B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21C31-142B-4854-B82D-D1FD7486B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07DC0A-523C-43DD-9B87-DFE21DA69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AA58D-0351-4BD2-9800-5DB6B2D3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32900-BACB-452E-85F8-0844A69F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0769A-4DC7-46C8-AA7D-7CCA19D6F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AC422-5DB8-4C31-9CCD-A0A8B60E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CA00D-F595-4FCA-B173-87D62CE0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192A0C-C538-4944-AF43-EF3BEFA9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C019-043B-43E9-ABC3-1D6F9CE2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164C8-F100-49E5-A180-54D835BEF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73096-6509-497B-B351-14F5ED28B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55860-B17D-4492-9184-C189A617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B78A3-12A3-4DC5-9C17-182B1976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83177-8A01-4BFE-9110-C92EB08E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BCD047-61C8-4EFC-8A98-894942B4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F218E-B3E6-4EB3-9FEB-9D8568783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1F319-852B-4452-AD85-4B352B15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1D829-F732-4B8D-B21A-A9C9E516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4B1CB-441E-493E-A30E-616BC9B8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49D-754B-4E39-9678-45E19E70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7D90B-3093-4377-8675-72823166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AA894-746D-4916-828B-EAB239618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C8A68-8D56-4959-A9EB-E337FE04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38176-C39D-40AE-9DB8-19CC8E38C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544DF0-10BD-4BD3-90CA-D99621C7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1F752-A24E-49B3-9038-E5DB339D7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CFF93-E925-4F6E-B0FD-FC3D70F9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2F90A9-F848-4757-9587-E63E7CCD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9E5F6-2BBF-4179-B63F-A2BE0AC6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9F20D-C099-45D0-9E02-8F3E5F27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5537-824E-4640-8EA3-104784ED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3309A-B776-41CE-8AC1-6E49E61E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9E3126-32CE-47E2-9FEE-FB2D3A2A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2E451-2F2D-4EE7-ADBB-9FB15515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11ACC4-CA7E-49E1-A479-F7A85A1BB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222BF-7EE2-4F62-9F97-0D552579F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2C84D-C644-44F4-AB54-B575DD8D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BA28C-B6C7-41AD-8574-00436E7A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C982A-B21B-419C-8D3A-F1DE080F2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7A1DCD-F3FD-4D33-82A5-79A04865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6F5DC-22B9-4B8C-908D-94922B3C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3DE3-8B86-489E-9CBD-EC648F94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AB397C-1ACD-4F66-9B47-AB727A68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89216-6ABD-4077-AD4E-479B6D61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A9F42F-8340-458A-98AD-7DE82758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6BCAF-A64E-4373-BF09-432B2A94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F4D46-1CF0-49D0-8584-E39B3EFA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33C2B-758A-48B0-B04B-E5AE9C52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0E50B-2C79-4E0E-8422-791B297D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直角三角形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直接连接符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030A-3034-4C4B-BCE9-E153C8618E86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任意多边形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任意多边形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任意多边形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直接连接符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D0C5F-6141-490A-9A7C-6D5EE370E3C1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15E5-08A3-4C2F-A33E-6B1FAF2D688F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2B478-1B89-41ED-AE42-9D891D6617D2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7D3B-B6E7-4D6B-8936-F43EE83C980E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4917-E83C-4CE1-A986-AF92936F4393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C1F8-10E4-49D5-BEA5-85E33AE64F17}" type="slidenum">
              <a:rPr b="0" lang="zh-CN" sz="1000" spc="-1" strike="noStrike">
                <a:solidFill>
                  <a:srgbClr val="000000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E462-AF7B-4F44-80BF-907E77853356}" type="slidenum">
              <a:rPr b="0" lang="zh-CN" sz="1000" spc="-1" strike="noStrike">
                <a:solidFill>
                  <a:srgbClr val="ffffff"/>
                </a:solidFill>
                <a:latin typeface="Lucida Sans Unicode"/>
                <a:ea typeface="黑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标题 1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8089920" cy="1839960"/>
          </a:xfrm>
          <a:prstGeom prst="rect">
            <a:avLst/>
          </a:prstGeom>
          <a:ln w="0">
            <a:noFill/>
          </a:ln>
        </p:spPr>
      </p:pic>
      <p:pic>
        <p:nvPicPr>
          <p:cNvPr id="378" name="标题 1" descr=""/>
          <p:cNvPicPr/>
          <p:nvPr/>
        </p:nvPicPr>
        <p:blipFill>
          <a:blip r:embed="rId2"/>
          <a:stretch/>
        </p:blipFill>
        <p:spPr>
          <a:xfrm>
            <a:off x="6004080" y="5310360"/>
            <a:ext cx="31208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3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标题 1" descr=""/>
          <p:cNvPicPr/>
          <p:nvPr/>
        </p:nvPicPr>
        <p:blipFill>
          <a:blip r:embed="rId1"/>
          <a:stretch/>
        </p:blipFill>
        <p:spPr>
          <a:xfrm>
            <a:off x="334800" y="755640"/>
            <a:ext cx="8345520" cy="115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144360" y="2421000"/>
            <a:ext cx="874872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标题 1" descr=""/>
          <p:cNvPicPr/>
          <p:nvPr/>
        </p:nvPicPr>
        <p:blipFill>
          <a:blip r:embed="rId1"/>
          <a:stretch/>
        </p:blipFill>
        <p:spPr>
          <a:xfrm>
            <a:off x="347760" y="755640"/>
            <a:ext cx="8345520" cy="1890720"/>
          </a:xfrm>
          <a:prstGeom prst="rect">
            <a:avLst/>
          </a:prstGeom>
          <a:ln w="0">
            <a:noFill/>
          </a:ln>
        </p:spPr>
      </p:pic>
      <p:pic>
        <p:nvPicPr>
          <p:cNvPr id="405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3"/>
          <a:stretch/>
        </p:blipFill>
        <p:spPr>
          <a:xfrm>
            <a:off x="468360" y="2349360"/>
            <a:ext cx="8037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378000" y="2276640"/>
            <a:ext cx="8370720" cy="3956040"/>
          </a:xfrm>
          <a:prstGeom prst="rect">
            <a:avLst/>
          </a:prstGeom>
          <a:ln w="0">
            <a:noFill/>
          </a:ln>
        </p:spPr>
      </p:pic>
      <p:pic>
        <p:nvPicPr>
          <p:cNvPr id="408" name="标题 1" descr=""/>
          <p:cNvPicPr/>
          <p:nvPr/>
        </p:nvPicPr>
        <p:blipFill>
          <a:blip r:embed="rId2"/>
          <a:stretch/>
        </p:blipFill>
        <p:spPr>
          <a:xfrm>
            <a:off x="347760" y="396720"/>
            <a:ext cx="8515080" cy="18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标题 1" descr=""/>
          <p:cNvPicPr/>
          <p:nvPr/>
        </p:nvPicPr>
        <p:blipFill>
          <a:blip r:embed="rId1"/>
          <a:stretch/>
        </p:blipFill>
        <p:spPr>
          <a:xfrm>
            <a:off x="347760" y="25560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"/>
          <p:cNvPicPr/>
          <p:nvPr/>
        </p:nvPicPr>
        <p:blipFill>
          <a:blip r:embed="rId2"/>
          <a:stretch/>
        </p:blipFill>
        <p:spPr>
          <a:xfrm>
            <a:off x="250920" y="1892160"/>
            <a:ext cx="8642160" cy="110520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"/>
          <p:cNvPicPr/>
          <p:nvPr/>
        </p:nvPicPr>
        <p:blipFill>
          <a:blip r:embed="rId3"/>
          <a:stretch/>
        </p:blipFill>
        <p:spPr>
          <a:xfrm>
            <a:off x="826920" y="3213000"/>
            <a:ext cx="7444080" cy="35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413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5" descr=""/>
          <p:cNvPicPr/>
          <p:nvPr/>
        </p:nvPicPr>
        <p:blipFill>
          <a:blip r:embed="rId3"/>
          <a:stretch/>
        </p:blipFill>
        <p:spPr>
          <a:xfrm>
            <a:off x="404640" y="2425680"/>
            <a:ext cx="870444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446040" y="2781360"/>
            <a:ext cx="8229600" cy="1987560"/>
          </a:xfrm>
          <a:prstGeom prst="rect">
            <a:avLst/>
          </a:prstGeom>
          <a:ln w="0">
            <a:noFill/>
          </a:ln>
        </p:spPr>
      </p:pic>
      <p:pic>
        <p:nvPicPr>
          <p:cNvPr id="416" name="标题 1" descr=""/>
          <p:cNvPicPr/>
          <p:nvPr/>
        </p:nvPicPr>
        <p:blipFill>
          <a:blip r:embed="rId2"/>
          <a:stretch/>
        </p:blipFill>
        <p:spPr>
          <a:xfrm>
            <a:off x="347760" y="828720"/>
            <a:ext cx="838188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3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819612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标题 1" descr=""/>
          <p:cNvPicPr/>
          <p:nvPr/>
        </p:nvPicPr>
        <p:blipFill>
          <a:blip r:embed="rId1"/>
          <a:stretch/>
        </p:blipFill>
        <p:spPr>
          <a:xfrm>
            <a:off x="347760" y="542880"/>
            <a:ext cx="8345520" cy="18828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"/>
          <p:cNvPicPr/>
          <p:nvPr/>
        </p:nvPicPr>
        <p:blipFill>
          <a:blip r:embed="rId2"/>
          <a:stretch/>
        </p:blipFill>
        <p:spPr>
          <a:xfrm>
            <a:off x="88920" y="2781360"/>
            <a:ext cx="8947080" cy="12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标题 1" descr=""/>
          <p:cNvPicPr/>
          <p:nvPr/>
        </p:nvPicPr>
        <p:blipFill>
          <a:blip r:embed="rId1"/>
          <a:stretch/>
        </p:blipFill>
        <p:spPr>
          <a:xfrm>
            <a:off x="347760" y="-176040"/>
            <a:ext cx="8381880" cy="18824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2627280" y="981000"/>
            <a:ext cx="3457440" cy="19512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3" descr=""/>
          <p:cNvPicPr/>
          <p:nvPr/>
        </p:nvPicPr>
        <p:blipFill>
          <a:blip r:embed="rId3"/>
          <a:stretch/>
        </p:blipFill>
        <p:spPr>
          <a:xfrm>
            <a:off x="2627280" y="2924280"/>
            <a:ext cx="3457440" cy="19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4"/>
          <a:stretch/>
        </p:blipFill>
        <p:spPr>
          <a:xfrm>
            <a:off x="2627280" y="4869000"/>
            <a:ext cx="3457440" cy="195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2339640" y="1955880"/>
            <a:ext cx="598644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评阅专家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聘请答辩委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新增专家至专家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Lucida Sans Unicode"/>
              </a:rPr>
              <a:t>论文评阅专家操作指南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标题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标题 2" descr=""/>
          <p:cNvPicPr/>
          <p:nvPr/>
        </p:nvPicPr>
        <p:blipFill>
          <a:blip r:embed="rId1"/>
          <a:stretch/>
        </p:blipFill>
        <p:spPr>
          <a:xfrm>
            <a:off x="249120" y="1494000"/>
            <a:ext cx="84441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标题 2" descr=""/>
          <p:cNvPicPr/>
          <p:nvPr/>
        </p:nvPicPr>
        <p:blipFill>
          <a:blip r:embed="rId1"/>
          <a:stretch/>
        </p:blipFill>
        <p:spPr>
          <a:xfrm>
            <a:off x="249120" y="585720"/>
            <a:ext cx="907740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标题 1" descr=""/>
          <p:cNvPicPr/>
          <p:nvPr/>
        </p:nvPicPr>
        <p:blipFill>
          <a:blip r:embed="rId1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82" name="标题 1" descr=""/>
          <p:cNvPicPr/>
          <p:nvPr/>
        </p:nvPicPr>
        <p:blipFill>
          <a:blip r:embed="rId2"/>
          <a:stretch/>
        </p:blipFill>
        <p:spPr>
          <a:xfrm>
            <a:off x="285840" y="1407960"/>
            <a:ext cx="8381880" cy="1238400"/>
          </a:xfrm>
          <a:prstGeom prst="rect">
            <a:avLst/>
          </a:prstGeom>
          <a:ln w="0">
            <a:noFill/>
          </a:ln>
        </p:spPr>
      </p:pic>
      <p:pic>
        <p:nvPicPr>
          <p:cNvPr id="383" name="标题 1" descr=""/>
          <p:cNvPicPr/>
          <p:nvPr/>
        </p:nvPicPr>
        <p:blipFill>
          <a:blip r:embed="rId3"/>
          <a:stretch/>
        </p:blipFill>
        <p:spPr>
          <a:xfrm>
            <a:off x="334800" y="4297320"/>
            <a:ext cx="834552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4"/>
          <a:stretch/>
        </p:blipFill>
        <p:spPr>
          <a:xfrm>
            <a:off x="324000" y="3068640"/>
            <a:ext cx="84643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6" descr=""/>
          <p:cNvPicPr/>
          <p:nvPr/>
        </p:nvPicPr>
        <p:blipFill>
          <a:blip r:embed="rId1"/>
          <a:stretch/>
        </p:blipFill>
        <p:spPr>
          <a:xfrm>
            <a:off x="144360" y="982800"/>
            <a:ext cx="8891640" cy="2301840"/>
          </a:xfrm>
          <a:prstGeom prst="rect">
            <a:avLst/>
          </a:prstGeom>
          <a:ln w="0">
            <a:noFill/>
          </a:ln>
        </p:spPr>
      </p:pic>
      <p:pic>
        <p:nvPicPr>
          <p:cNvPr id="386" name="标题 1" descr=""/>
          <p:cNvPicPr/>
          <p:nvPr/>
        </p:nvPicPr>
        <p:blipFill>
          <a:blip r:embed="rId2"/>
          <a:stretch/>
        </p:blipFill>
        <p:spPr>
          <a:xfrm>
            <a:off x="334800" y="34322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标题 1" descr=""/>
          <p:cNvPicPr/>
          <p:nvPr/>
        </p:nvPicPr>
        <p:blipFill>
          <a:blip r:embed="rId1"/>
          <a:stretch/>
        </p:blipFill>
        <p:spPr>
          <a:xfrm>
            <a:off x="1438200" y="4432320"/>
            <a:ext cx="6400800" cy="115092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E:\syn\教育\毕业与就业\毕业\2014\冬毕\研究生论文答辩及学位申请网上操作指南\截图\图片3.png"/>
          <p:cNvPicPr/>
          <p:nvPr/>
        </p:nvPicPr>
        <p:blipFill>
          <a:blip r:embed="rId2"/>
          <a:stretch/>
        </p:blipFill>
        <p:spPr>
          <a:xfrm>
            <a:off x="1604880" y="692280"/>
            <a:ext cx="59342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标题 1" descr=""/>
          <p:cNvPicPr/>
          <p:nvPr/>
        </p:nvPicPr>
        <p:blipFill>
          <a:blip r:embed="rId1"/>
          <a:stretch/>
        </p:blipFill>
        <p:spPr>
          <a:xfrm>
            <a:off x="365040" y="4591080"/>
            <a:ext cx="8510760" cy="1650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E:\syn\教育\毕业与就业\毕业\2014\冬毕\研究生论文答辩及学位申请网上操作指南\截图\图片4.png"/>
          <p:cNvPicPr/>
          <p:nvPr/>
        </p:nvPicPr>
        <p:blipFill>
          <a:blip r:embed="rId2"/>
          <a:stretch/>
        </p:blipFill>
        <p:spPr>
          <a:xfrm>
            <a:off x="1908000" y="457200"/>
            <a:ext cx="53658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5" descr=""/>
          <p:cNvPicPr/>
          <p:nvPr/>
        </p:nvPicPr>
        <p:blipFill>
          <a:blip r:embed="rId1"/>
          <a:stretch/>
        </p:blipFill>
        <p:spPr>
          <a:xfrm>
            <a:off x="1908000" y="2262240"/>
            <a:ext cx="5437440" cy="4046400"/>
          </a:xfrm>
          <a:prstGeom prst="rect">
            <a:avLst/>
          </a:prstGeom>
          <a:ln w="0">
            <a:noFill/>
          </a:ln>
        </p:spPr>
      </p:pic>
      <p:pic>
        <p:nvPicPr>
          <p:cNvPr id="392" name="标题 1" descr=""/>
          <p:cNvPicPr/>
          <p:nvPr/>
        </p:nvPicPr>
        <p:blipFill>
          <a:blip r:embed="rId2"/>
          <a:stretch/>
        </p:blipFill>
        <p:spPr>
          <a:xfrm>
            <a:off x="317520" y="487440"/>
            <a:ext cx="8508960" cy="16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908000" y="907920"/>
            <a:ext cx="5151600" cy="3187800"/>
          </a:xfrm>
          <a:prstGeom prst="rect">
            <a:avLst/>
          </a:prstGeom>
          <a:ln w="0">
            <a:noFill/>
          </a:ln>
        </p:spPr>
      </p:pic>
      <p:pic>
        <p:nvPicPr>
          <p:cNvPr id="394" name="标题 1" descr=""/>
          <p:cNvPicPr/>
          <p:nvPr/>
        </p:nvPicPr>
        <p:blipFill>
          <a:blip r:embed="rId2"/>
          <a:stretch/>
        </p:blipFill>
        <p:spPr>
          <a:xfrm>
            <a:off x="347760" y="36360"/>
            <a:ext cx="8345520" cy="1159200"/>
          </a:xfrm>
          <a:prstGeom prst="rect">
            <a:avLst/>
          </a:prstGeom>
          <a:ln w="0">
            <a:noFill/>
          </a:ln>
        </p:spPr>
      </p:pic>
      <p:pic>
        <p:nvPicPr>
          <p:cNvPr id="395" name="标题 1" descr=""/>
          <p:cNvPicPr/>
          <p:nvPr/>
        </p:nvPicPr>
        <p:blipFill>
          <a:blip r:embed="rId3"/>
          <a:stretch/>
        </p:blipFill>
        <p:spPr>
          <a:xfrm>
            <a:off x="360360" y="3938760"/>
            <a:ext cx="8345520" cy="11509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4" descr=""/>
          <p:cNvPicPr/>
          <p:nvPr/>
        </p:nvPicPr>
        <p:blipFill>
          <a:blip r:embed="rId4"/>
          <a:stretch/>
        </p:blipFill>
        <p:spPr>
          <a:xfrm>
            <a:off x="539640" y="4832280"/>
            <a:ext cx="73756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标题 1" descr=""/>
          <p:cNvPicPr/>
          <p:nvPr/>
        </p:nvPicPr>
        <p:blipFill>
          <a:blip r:embed="rId1"/>
          <a:stretch/>
        </p:blipFill>
        <p:spPr>
          <a:xfrm>
            <a:off x="347760" y="1285920"/>
            <a:ext cx="8381880" cy="1585800"/>
          </a:xfrm>
          <a:prstGeom prst="rect">
            <a:avLst/>
          </a:prstGeom>
          <a:ln w="0">
            <a:noFill/>
          </a:ln>
        </p:spPr>
      </p:pic>
      <p:pic>
        <p:nvPicPr>
          <p:cNvPr id="398" name="标题 1" descr=""/>
          <p:cNvPicPr/>
          <p:nvPr/>
        </p:nvPicPr>
        <p:blipFill>
          <a:blip r:embed="rId2"/>
          <a:stretch/>
        </p:blipFill>
        <p:spPr>
          <a:xfrm>
            <a:off x="268200" y="182520"/>
            <a:ext cx="8425080" cy="11527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3"/>
          <a:stretch/>
        </p:blipFill>
        <p:spPr>
          <a:xfrm>
            <a:off x="179280" y="3213000"/>
            <a:ext cx="88074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6:54:26Z</dcterms:created>
  <dc:creator>syn</dc:creator>
  <dc:description/>
  <dc:language>en-US</dc:language>
  <cp:lastModifiedBy>孙亚宁</cp:lastModifiedBy>
  <dcterms:modified xsi:type="dcterms:W3CDTF">2015-03-10T10:01:10Z</dcterms:modified>
  <cp:revision>27</cp:revision>
  <dc:subject/>
  <dc:title>幻灯片 1</dc:title>
</cp:coreProperties>
</file>