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6AC0-2E08-4290-AD49-AAB1EEEF1AD1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4BA5-6AEC-4514-8158-BCACFC41989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80EB-9FF8-4E8D-B579-47FE9E5172AB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3437-E61A-4C14-8578-F0CA1B4CBB6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F036-C11B-42FA-849C-583B2AA2788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9E0E-6D7C-4C0A-B778-6813BE7AF7B7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B655F-4A94-493E-B25F-34B0A4561188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9D64E-E10E-4265-BA59-525618141A4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1F8C-2377-47E7-9564-478645B2641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942F4-4C39-46F3-B55F-AB64BB4560F2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68AA-CB4D-4228-A436-0291A9739F25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413B-32F2-43E5-A424-2A976D3EC1DD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DC23-87B3-4D5D-BEF2-86FFDCA9E69E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1934F-33D4-4FC5-8042-26D2D7C15793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5516-AB1B-45B2-BFC8-D4E67FF49936}" type="slidenum">
              <a:rPr b="0" lang="ko-KR" sz="12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C5C5-07CF-4A74-8134-5192352C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D014-4285-4654-BEEA-A89A4BF6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B932-3CCD-4DAB-875A-E4DC80E0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328C-0195-451C-8672-974DE8D7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D715-84A7-4A52-BBCC-A4620523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B530-A0A5-4E9D-BF4B-3761B804C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99E2-3E67-48D4-A941-8D2E0BEC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670A8-3F09-45DF-8017-41973715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49F1B-6531-4B0E-B48B-3B22E578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67AF-FCC2-49BB-8FB7-836117465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9E38-F722-4BDE-82DA-7143360D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5201-1A79-4B9F-B939-DC8D2D1A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7531B-FCEC-4331-A59B-0474BC75F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EB596-1EB5-43F1-BA73-85E42460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7621-86DE-4601-BA37-E60324331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3E915-C41D-4D39-8435-CA238AFDA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58560-676A-4DF6-AD05-B29D2A395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57F6E-DFB4-4C32-9C7F-3CE7AF3A8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64373-044D-4535-B564-DAAB105D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6B363-B59E-4802-B29D-D95EF07C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E7838-F1B7-4254-8D37-8FAD790C4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58FE9-37C9-4AF4-A8DF-65595E4D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665A-B695-4D8C-9CE8-9D84D17F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66CD1-3882-4914-BEBE-D5C00D7C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D9211-0C31-4A23-B15C-5D3FBB3A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BA69F-B2DE-463D-8A50-FDDBB218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3949A-0AFA-4EAD-8D62-ACD152E0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2A0CA-9305-4FEA-8157-6E2C6763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C42A2-36DE-4D96-8CCF-83501C92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CADEA-0718-4ED6-A7FC-6C2A1372A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AA08-4E78-4CB1-A71A-8227F990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EB31-6034-4FD2-86E9-50CB00ED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26FD-C895-41EC-929D-89E8CDA2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1E1C-4E2E-478A-9093-E8858103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44E-7580-48F1-91F3-CC71E7CF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009F-15FA-4673-BEA9-F032DC55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E55EC-BF7E-4CD4-8E42-F97C1AE07185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43" name="Freeform 90"/>
          <p:cNvSpPr/>
          <p:nvPr/>
        </p:nvSpPr>
        <p:spPr>
          <a:xfrm>
            <a:off x="2438280" y="1176480"/>
            <a:ext cx="6705720" cy="139680"/>
          </a:xfrm>
          <a:custGeom>
            <a:avLst/>
            <a:gdLst>
              <a:gd name="textAreaLeft" fmla="*/ 0 w 6705720"/>
              <a:gd name="textAreaRight" fmla="*/ 6706080 w 670572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6EAB-E0B6-4B88-8486-712409D8C0BD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41" descr="理论所所徽_副本.png"/>
          <p:cNvPicPr/>
          <p:nvPr/>
        </p:nvPicPr>
        <p:blipFill>
          <a:blip r:embed="rId2"/>
          <a:stretch/>
        </p:blipFill>
        <p:spPr>
          <a:xfrm>
            <a:off x="7980480" y="95400"/>
            <a:ext cx="1017360" cy="1019160"/>
          </a:xfrm>
          <a:prstGeom prst="rect">
            <a:avLst/>
          </a:prstGeom>
          <a:ln w="0">
            <a:noFill/>
          </a:ln>
        </p:spPr>
      </p:pic>
      <p:sp>
        <p:nvSpPr>
          <p:cNvPr id="86" name="Freeform 90"/>
          <p:cNvSpPr/>
          <p:nvPr/>
        </p:nvSpPr>
        <p:spPr>
          <a:xfrm rot="10800000">
            <a:off x="-360" y="1009080"/>
            <a:ext cx="7265880" cy="120600"/>
          </a:xfrm>
          <a:custGeom>
            <a:avLst/>
            <a:gdLst>
              <a:gd name="textAreaLeft" fmla="*/ 0 w 7265880"/>
              <a:gd name="textAreaRight" fmla="*/ 7266240 w 726588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4224" h="88">
                <a:moveTo>
                  <a:pt x="0" y="0"/>
                </a:moveTo>
                <a:lnTo>
                  <a:pt x="88" y="88"/>
                </a:lnTo>
                <a:lnTo>
                  <a:pt x="4224" y="88"/>
                </a:lnTo>
                <a:lnTo>
                  <a:pt x="4224" y="0"/>
                </a:lnTo>
                <a:lnTo>
                  <a:pt x="0" y="0"/>
                </a:lnTo>
                <a:close/>
              </a:path>
            </a:pathLst>
          </a:cu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A31AE-E525-4958-9F6E-BDD09C8EBA8F}" type="slidenum">
              <a:rPr b="0" lang="ko-KR" sz="12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sep.ucas.ac.cn/" TargetMode="External"/><Relationship Id="rId2" Type="http://schemas.openxmlformats.org/officeDocument/2006/relationships/hyperlink" Target="file:///&#32593;&#19978;&#25805;&#20316;&#25351;&#21335;/&#23398;&#20301;&#30003;&#35831;&#32773;&#32593;&#19978;&#25805;&#20316;&#25351;&#21335;.doc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&#32593;&#19978;&#25805;&#20316;&#25351;&#21335;/&#31572;&#36777;&#31192;&#20070;&#32593;&#19978;&#25805;&#20316;&#25351;&#21335;.ppt" TargetMode="External"/><Relationship Id="rId2" Type="http://schemas.openxmlformats.org/officeDocument/2006/relationships/hyperlink" Target="file:///&#32593;&#19978;&#25805;&#20316;&#25351;&#21335;/&#31572;&#36777;&#31192;&#20070;&#32593;&#19978;&#25805;&#20316;&#25351;&#21335;.ppt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80680" y="1887120"/>
            <a:ext cx="7993080" cy="14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论文答辩及学位申请流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4460760" y="3940200"/>
            <a:ext cx="343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理论物理所研究生部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015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至少在答辩时间前一天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成员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-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；一般应包含本单位及外单位专家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；答辩委员会主席应由博士生指导教师担任；成员中博士生指导教师一般不少于三分之二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的评阅人一般应参加该论文答辩委员会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、答辩秘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流程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周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会议室（老楼到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3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定，新楼找庄辞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贴答辩通知（下载统一模板填写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收齐如下材料至研究生部盖章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（学位申请人系统生成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（高能领域另附贡献说明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答辩秘书系统下载打印所有评阅人评阅书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注意调好格式再打印，一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52280" y="363600"/>
            <a:ext cx="6483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.3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前必须完成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一天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领取横幅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代领答辩酬金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前半小时布置答辩会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开始前把以下材料交答辩委员会主席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程序（所网页下载，填写信息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研究生学位论文答辩申请书》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学位论文评阅书》（所有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中国科学院大学论文答辩情况和学位授予决议书》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学位论文答辩委员会表决票》（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7f7f7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委员会决议初稿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学位申请人事先拟好内容，请导师先过一遍，电子版及每位答辩成员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纸质版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时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认真做好答辩记录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会休会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协助答辩委员会主席发表决票和收表决票；及时整理“答辩委员会决议”并找主席签字；提醒答辩委员会成员在《中国科学院大学论文答辩情况和学位授予决议书》上签字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结束后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发放酬金，合影留念，并挑选一张合影发至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答辩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详细信息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委员会秘书兼记录人职责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组织答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报或同步各模块信息（请先阅读左侧最下的“填报说明”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基本信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人情况：先同步，再据实填写剩余各项内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导信息：自学籍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习信息：据实填写各项内容。其中学习方为全脱产，学习年限为实际年限，如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统考博士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未延期）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（硕博连读，延期半年）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要简历：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369720" y="1457280"/>
            <a:ext cx="85060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程学习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教务管理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必修环节～论文答辩等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模块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题报告、中期考核、学术报告及社会实践均由培养系统同步过来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网上提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统一在学位管理系统再提交一遍最终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息确认：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信息填报后，需要做“信息确认”封存数据，确认后学生不能再修改数据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填报学位申请信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材料列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注意按照撰写规定撰写，新版封皮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（高能领域另附贡献说明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学位论文评阅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评阅人的评阅书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论文答辩情况和学位授予决议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，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不装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论文答辩委员会表决票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所有回收件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毕业生登记表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一式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份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⑧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盘（学位论文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PDF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版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，文件名：本人姓名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题目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交答辩相关材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Group 4"/>
          <p:cNvGrpSpPr/>
          <p:nvPr/>
        </p:nvGrpSpPr>
        <p:grpSpPr>
          <a:xfrm>
            <a:off x="7920" y="5605560"/>
            <a:ext cx="9136080" cy="1269720"/>
            <a:chOff x="7920" y="5605560"/>
            <a:chExt cx="9136080" cy="1269720"/>
          </a:xfrm>
        </p:grpSpPr>
        <p:sp>
          <p:nvSpPr>
            <p:cNvPr id="225" name="Rectangle 5"/>
            <p:cNvSpPr/>
            <p:nvPr/>
          </p:nvSpPr>
          <p:spPr>
            <a:xfrm>
              <a:off x="7920" y="5605560"/>
              <a:ext cx="9136080" cy="12636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1f497d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6" name="Group 6"/>
            <p:cNvGrpSpPr/>
            <p:nvPr/>
          </p:nvGrpSpPr>
          <p:grpSpPr>
            <a:xfrm>
              <a:off x="307800" y="5607000"/>
              <a:ext cx="8421840" cy="1268280"/>
              <a:chOff x="307800" y="5607000"/>
              <a:chExt cx="8421840" cy="1268280"/>
            </a:xfrm>
          </p:grpSpPr>
          <p:sp>
            <p:nvSpPr>
              <p:cNvPr id="227" name="Rectangle 7"/>
              <p:cNvSpPr/>
              <p:nvPr/>
            </p:nvSpPr>
            <p:spPr>
              <a:xfrm>
                <a:off x="30780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8"/>
              <p:cNvSpPr/>
              <p:nvPr/>
            </p:nvSpPr>
            <p:spPr>
              <a:xfrm>
                <a:off x="78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134928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Rectangle 10"/>
              <p:cNvSpPr/>
              <p:nvPr/>
            </p:nvSpPr>
            <p:spPr>
              <a:xfrm>
                <a:off x="182556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39076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86704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Rectangle 13"/>
              <p:cNvSpPr/>
              <p:nvPr/>
            </p:nvSpPr>
            <p:spPr>
              <a:xfrm>
                <a:off x="343224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90852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447372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4950000" y="5607000"/>
                <a:ext cx="26964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5514840" y="5607000"/>
                <a:ext cx="9072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18"/>
              <p:cNvSpPr/>
              <p:nvPr/>
            </p:nvSpPr>
            <p:spPr>
              <a:xfrm>
                <a:off x="599112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Rectangle 19"/>
              <p:cNvSpPr/>
              <p:nvPr/>
            </p:nvSpPr>
            <p:spPr>
              <a:xfrm>
                <a:off x="6556320" y="5613480"/>
                <a:ext cx="9072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20"/>
              <p:cNvSpPr/>
              <p:nvPr/>
            </p:nvSpPr>
            <p:spPr>
              <a:xfrm>
                <a:off x="7032600" y="5613480"/>
                <a:ext cx="270000" cy="126180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21"/>
              <p:cNvSpPr/>
              <p:nvPr/>
            </p:nvSpPr>
            <p:spPr>
              <a:xfrm>
                <a:off x="759780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Rectangle 22"/>
              <p:cNvSpPr/>
              <p:nvPr/>
            </p:nvSpPr>
            <p:spPr>
              <a:xfrm>
                <a:off x="8074080" y="5607000"/>
                <a:ext cx="27000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23"/>
              <p:cNvSpPr/>
              <p:nvPr/>
            </p:nvSpPr>
            <p:spPr>
              <a:xfrm>
                <a:off x="8639280" y="5607000"/>
                <a:ext cx="90360" cy="1262160"/>
              </a:xfrm>
              <a:prstGeom prst="rect">
                <a:avLst/>
              </a:prstGeom>
              <a:gradFill rotWithShape="0">
                <a:gsLst>
                  <a:gs pos="0">
                    <a:srgbClr val="4f81bd"/>
                  </a:gs>
                  <a:gs pos="100000">
                    <a:srgbClr val="253c5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" name="矩形 37"/>
          <p:cNvSpPr/>
          <p:nvPr/>
        </p:nvSpPr>
        <p:spPr>
          <a:xfrm>
            <a:off x="708120" y="2044800"/>
            <a:ext cx="7539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任何问题，请及时与我联系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邮箱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syn@itp.ac.cn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电话：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10-625609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问题可直接与国科大网络中心联系：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010-882566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81"/>
          <p:cNvGrpSpPr/>
          <p:nvPr/>
        </p:nvGrpSpPr>
        <p:grpSpPr>
          <a:xfrm>
            <a:off x="1984320" y="3311640"/>
            <a:ext cx="5229360" cy="623880"/>
            <a:chOff x="1984320" y="3311640"/>
            <a:chExt cx="5229360" cy="623880"/>
          </a:xfrm>
        </p:grpSpPr>
        <p:sp>
          <p:nvSpPr>
            <p:cNvPr id="138" name="AutoShape 6"/>
            <p:cNvSpPr/>
            <p:nvPr/>
          </p:nvSpPr>
          <p:spPr>
            <a:xfrm>
              <a:off x="2006640" y="3336840"/>
              <a:ext cx="5207040" cy="59868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Group 80"/>
            <p:cNvGrpSpPr/>
            <p:nvPr/>
          </p:nvGrpSpPr>
          <p:grpSpPr>
            <a:xfrm>
              <a:off x="1984320" y="3311640"/>
              <a:ext cx="5213520" cy="606240"/>
              <a:chOff x="1984320" y="3311640"/>
              <a:chExt cx="5213520" cy="606240"/>
            </a:xfrm>
          </p:grpSpPr>
          <p:sp>
            <p:nvSpPr>
              <p:cNvPr id="140" name="AutoShape 7"/>
              <p:cNvSpPr/>
              <p:nvPr/>
            </p:nvSpPr>
            <p:spPr>
              <a:xfrm>
                <a:off x="2298600" y="3311640"/>
                <a:ext cx="4587840" cy="604800"/>
              </a:xfrm>
              <a:prstGeom prst="roundRect">
                <a:avLst>
                  <a:gd name="adj" fmla="val 0"/>
                </a:avLst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Rectangle 8"/>
              <p:cNvSpPr/>
              <p:nvPr/>
            </p:nvSpPr>
            <p:spPr>
              <a:xfrm>
                <a:off x="2324160" y="3405240"/>
                <a:ext cx="4564080" cy="431640"/>
              </a:xfrm>
              <a:prstGeom prst="rect">
                <a:avLst/>
              </a:prstGeom>
              <a:gradFill rotWithShape="0">
                <a:gsLst>
                  <a:gs pos="0">
                    <a:srgbClr val="1f497d"/>
                  </a:gs>
                  <a:gs pos="50000">
                    <a:srgbClr val="4f81bd"/>
                  </a:gs>
                  <a:gs pos="100000">
                    <a:srgbClr val="1f497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2" name="Group 9"/>
              <p:cNvGrpSpPr/>
              <p:nvPr/>
            </p:nvGrpSpPr>
            <p:grpSpPr>
              <a:xfrm>
                <a:off x="1984320" y="3313080"/>
                <a:ext cx="604800" cy="604800"/>
                <a:chOff x="1984320" y="3313080"/>
                <a:chExt cx="604800" cy="604800"/>
              </a:xfrm>
            </p:grpSpPr>
            <p:sp>
              <p:nvSpPr>
                <p:cNvPr id="143" name="Oval 10"/>
                <p:cNvSpPr/>
                <p:nvPr/>
              </p:nvSpPr>
              <p:spPr>
                <a:xfrm>
                  <a:off x="1984320" y="3313080"/>
                  <a:ext cx="604800" cy="6048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Oval 11"/>
                <p:cNvSpPr/>
                <p:nvPr/>
              </p:nvSpPr>
              <p:spPr>
                <a:xfrm>
                  <a:off x="2150640" y="3506760"/>
                  <a:ext cx="33408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Oval 12"/>
                <p:cNvSpPr/>
                <p:nvPr/>
              </p:nvSpPr>
              <p:spPr>
                <a:xfrm rot="19033200">
                  <a:off x="2036160" y="3405600"/>
                  <a:ext cx="253080" cy="1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Group 13"/>
              <p:cNvGrpSpPr/>
              <p:nvPr/>
            </p:nvGrpSpPr>
            <p:grpSpPr>
              <a:xfrm>
                <a:off x="6593040" y="3313080"/>
                <a:ext cx="604800" cy="604800"/>
                <a:chOff x="6593040" y="3313080"/>
                <a:chExt cx="604800" cy="604800"/>
              </a:xfrm>
            </p:grpSpPr>
            <p:sp>
              <p:nvSpPr>
                <p:cNvPr id="147" name="Oval 14"/>
                <p:cNvSpPr/>
                <p:nvPr/>
              </p:nvSpPr>
              <p:spPr>
                <a:xfrm>
                  <a:off x="6593040" y="3313080"/>
                  <a:ext cx="604800" cy="604800"/>
                </a:xfrm>
                <a:prstGeom prst="ellipse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Oval 15"/>
                <p:cNvSpPr/>
                <p:nvPr/>
              </p:nvSpPr>
              <p:spPr>
                <a:xfrm>
                  <a:off x="6759360" y="3506760"/>
                  <a:ext cx="334080" cy="33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Oval 16"/>
                <p:cNvSpPr/>
                <p:nvPr/>
              </p:nvSpPr>
              <p:spPr>
                <a:xfrm rot="19033200">
                  <a:off x="6644880" y="3405960"/>
                  <a:ext cx="253440" cy="14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ff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0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组合 4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grpSp>
          <p:nvGrpSpPr>
            <p:cNvPr id="152" name="Group 64"/>
            <p:cNvGrpSpPr/>
            <p:nvPr/>
          </p:nvGrpSpPr>
          <p:grpSpPr>
            <a:xfrm>
              <a:off x="1959120" y="2030400"/>
              <a:ext cx="5229000" cy="623880"/>
              <a:chOff x="1959120" y="2030400"/>
              <a:chExt cx="5229000" cy="623880"/>
            </a:xfrm>
          </p:grpSpPr>
          <p:sp>
            <p:nvSpPr>
              <p:cNvPr id="153" name="AutoShape 30"/>
              <p:cNvSpPr/>
              <p:nvPr/>
            </p:nvSpPr>
            <p:spPr>
              <a:xfrm>
                <a:off x="1981080" y="2055960"/>
                <a:ext cx="5207040" cy="598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63"/>
              <p:cNvGrpSpPr/>
              <p:nvPr/>
            </p:nvGrpSpPr>
            <p:grpSpPr>
              <a:xfrm>
                <a:off x="1959120" y="2030400"/>
                <a:ext cx="5213160" cy="606600"/>
                <a:chOff x="1959120" y="2030400"/>
                <a:chExt cx="5213160" cy="606600"/>
              </a:xfrm>
            </p:grpSpPr>
            <p:sp>
              <p:nvSpPr>
                <p:cNvPr id="155" name="AutoShape 32"/>
                <p:cNvSpPr/>
                <p:nvPr/>
              </p:nvSpPr>
              <p:spPr>
                <a:xfrm>
                  <a:off x="2273400" y="203040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33"/>
                <p:cNvSpPr/>
                <p:nvPr/>
              </p:nvSpPr>
              <p:spPr>
                <a:xfrm>
                  <a:off x="2298600" y="2124000"/>
                  <a:ext cx="4564080" cy="432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50000">
                      <a:srgbClr val="1f497d"/>
                    </a:gs>
                    <a:gs pos="100000">
                      <a:srgbClr val="00000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" name="Group 62"/>
                <p:cNvGrpSpPr/>
                <p:nvPr/>
              </p:nvGrpSpPr>
              <p:grpSpPr>
                <a:xfrm>
                  <a:off x="1959120" y="2031840"/>
                  <a:ext cx="604800" cy="605160"/>
                  <a:chOff x="1959120" y="2031840"/>
                  <a:chExt cx="604800" cy="605160"/>
                </a:xfrm>
              </p:grpSpPr>
              <p:sp>
                <p:nvSpPr>
                  <p:cNvPr id="158" name="Oval 35"/>
                  <p:cNvSpPr/>
                  <p:nvPr/>
                </p:nvSpPr>
                <p:spPr>
                  <a:xfrm>
                    <a:off x="195912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Oval 36"/>
                  <p:cNvSpPr/>
                  <p:nvPr/>
                </p:nvSpPr>
                <p:spPr>
                  <a:xfrm>
                    <a:off x="2125800" y="22255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Oval 37"/>
                  <p:cNvSpPr/>
                  <p:nvPr/>
                </p:nvSpPr>
                <p:spPr>
                  <a:xfrm rot="19033200">
                    <a:off x="2009880" y="2125440"/>
                    <a:ext cx="253800" cy="14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f81bd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" name="Group 61"/>
                <p:cNvGrpSpPr/>
                <p:nvPr/>
              </p:nvGrpSpPr>
              <p:grpSpPr>
                <a:xfrm>
                  <a:off x="6567480" y="2031840"/>
                  <a:ext cx="604800" cy="605160"/>
                  <a:chOff x="6567480" y="2031840"/>
                  <a:chExt cx="604800" cy="605160"/>
                </a:xfrm>
              </p:grpSpPr>
              <p:sp>
                <p:nvSpPr>
                  <p:cNvPr id="162" name="Oval 39"/>
                  <p:cNvSpPr/>
                  <p:nvPr/>
                </p:nvSpPr>
                <p:spPr>
                  <a:xfrm>
                    <a:off x="6567480" y="2031840"/>
                    <a:ext cx="604800" cy="605160"/>
                  </a:xfrm>
                  <a:prstGeom prst="ellipse">
                    <a:avLst/>
                  </a:pr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Oval 40"/>
                  <p:cNvSpPr/>
                  <p:nvPr/>
                </p:nvSpPr>
                <p:spPr>
                  <a:xfrm>
                    <a:off x="6734160" y="2225520"/>
                    <a:ext cx="333360" cy="3366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Oval 41"/>
                  <p:cNvSpPr/>
                  <p:nvPr/>
                </p:nvSpPr>
                <p:spPr>
                  <a:xfrm rot="19033200">
                    <a:off x="6618240" y="2125800"/>
                    <a:ext cx="254160" cy="141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4f81bd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65" name="TextBox 44"/>
            <p:cNvSpPr/>
            <p:nvPr/>
          </p:nvSpPr>
          <p:spPr>
            <a:xfrm>
              <a:off x="3094560" y="2112840"/>
              <a:ext cx="16894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一、各时间节点安排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Box 45"/>
          <p:cNvSpPr/>
          <p:nvPr/>
        </p:nvSpPr>
        <p:spPr>
          <a:xfrm>
            <a:off x="4535640" y="3405240"/>
            <a:ext cx="30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二、各环节操作流程及注意事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Box 46"/>
          <p:cNvSpPr/>
          <p:nvPr/>
        </p:nvSpPr>
        <p:spPr>
          <a:xfrm>
            <a:off x="3408480" y="3940200"/>
            <a:ext cx="308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三、注意事项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7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8" dur="1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时间节点安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88840" y="1940040"/>
          <a:ext cx="7383600" cy="3343320"/>
        </p:xfrm>
        <a:graphic>
          <a:graphicData uri="http://schemas.openxmlformats.org/drawingml/2006/table">
            <a:tbl>
              <a:tblPr/>
              <a:tblGrid>
                <a:gridCol w="4884840"/>
                <a:gridCol w="24987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环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截止时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申请（培养指导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资格审查：学分、开题报告、中期考核、发表文章、学位论文完成情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一个月～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015.4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2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送审学位论文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答辩前两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7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聘请答辩委员（答辩秘书登录“培养管理系统”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完成所有网上评阅后～答辩前一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4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组织答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填报学位申请信息（学位管理系统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6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、提交答辩相关材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5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31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日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64"/>
          <p:cNvGrpSpPr/>
          <p:nvPr/>
        </p:nvGrpSpPr>
        <p:grpSpPr>
          <a:xfrm>
            <a:off x="1959120" y="2030400"/>
            <a:ext cx="5229000" cy="623880"/>
            <a:chOff x="1959120" y="2030400"/>
            <a:chExt cx="5229000" cy="623880"/>
          </a:xfrm>
        </p:grpSpPr>
        <p:sp>
          <p:nvSpPr>
            <p:cNvPr id="171" name="AutoShape 30"/>
            <p:cNvSpPr/>
            <p:nvPr/>
          </p:nvSpPr>
          <p:spPr>
            <a:xfrm>
              <a:off x="1981080" y="2055960"/>
              <a:ext cx="5207040" cy="598320"/>
            </a:xfrm>
            <a:prstGeom prst="roundRect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Group 63"/>
            <p:cNvGrpSpPr/>
            <p:nvPr/>
          </p:nvGrpSpPr>
          <p:grpSpPr>
            <a:xfrm>
              <a:off x="1959120" y="2030400"/>
              <a:ext cx="5213160" cy="606600"/>
              <a:chOff x="1959120" y="2030400"/>
              <a:chExt cx="5213160" cy="606600"/>
            </a:xfrm>
          </p:grpSpPr>
          <p:sp>
            <p:nvSpPr>
              <p:cNvPr id="173" name="AutoShape 32"/>
              <p:cNvSpPr/>
              <p:nvPr/>
            </p:nvSpPr>
            <p:spPr>
              <a:xfrm>
                <a:off x="2273400" y="2030400"/>
                <a:ext cx="4587840" cy="604800"/>
              </a:xfrm>
              <a:prstGeom prst="roundRect">
                <a:avLst>
                  <a:gd name="adj" fmla="val 0"/>
                </a:avLst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Rectangle 33"/>
              <p:cNvSpPr/>
              <p:nvPr/>
            </p:nvSpPr>
            <p:spPr>
              <a:xfrm>
                <a:off x="2298600" y="2124000"/>
                <a:ext cx="4564080" cy="43200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1f497d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" name="Group 62"/>
              <p:cNvGrpSpPr/>
              <p:nvPr/>
            </p:nvGrpSpPr>
            <p:grpSpPr>
              <a:xfrm>
                <a:off x="1959120" y="2031840"/>
                <a:ext cx="604800" cy="605160"/>
                <a:chOff x="1959120" y="2031840"/>
                <a:chExt cx="604800" cy="605160"/>
              </a:xfrm>
            </p:grpSpPr>
            <p:sp>
              <p:nvSpPr>
                <p:cNvPr id="176" name="Oval 35"/>
                <p:cNvSpPr/>
                <p:nvPr/>
              </p:nvSpPr>
              <p:spPr>
                <a:xfrm>
                  <a:off x="1959120" y="2031840"/>
                  <a:ext cx="604800" cy="605160"/>
                </a:xfrm>
                <a:prstGeom prst="ellipse">
                  <a:avLst/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Oval 36"/>
                <p:cNvSpPr/>
                <p:nvPr/>
              </p:nvSpPr>
              <p:spPr>
                <a:xfrm>
                  <a:off x="2125800" y="222552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Oval 37"/>
                <p:cNvSpPr/>
                <p:nvPr/>
              </p:nvSpPr>
              <p:spPr>
                <a:xfrm rot="19033200">
                  <a:off x="2009880" y="2125440"/>
                  <a:ext cx="253800" cy="1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Group 61"/>
              <p:cNvGrpSpPr/>
              <p:nvPr/>
            </p:nvGrpSpPr>
            <p:grpSpPr>
              <a:xfrm>
                <a:off x="6567480" y="2031840"/>
                <a:ext cx="604800" cy="605160"/>
                <a:chOff x="6567480" y="2031840"/>
                <a:chExt cx="604800" cy="605160"/>
              </a:xfrm>
            </p:grpSpPr>
            <p:sp>
              <p:nvSpPr>
                <p:cNvPr id="180" name="Oval 39"/>
                <p:cNvSpPr/>
                <p:nvPr/>
              </p:nvSpPr>
              <p:spPr>
                <a:xfrm>
                  <a:off x="6567480" y="2031840"/>
                  <a:ext cx="604800" cy="605160"/>
                </a:xfrm>
                <a:prstGeom prst="ellipse">
                  <a:avLst/>
                </a:prstGeom>
                <a:solidFill>
                  <a:srgbClr val="4f81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Oval 40"/>
                <p:cNvSpPr/>
                <p:nvPr/>
              </p:nvSpPr>
              <p:spPr>
                <a:xfrm>
                  <a:off x="6734160" y="2225520"/>
                  <a:ext cx="333360" cy="33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504d">
                        <a:alpha val="0"/>
                      </a:srgbClr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Oval 41"/>
                <p:cNvSpPr/>
                <p:nvPr/>
              </p:nvSpPr>
              <p:spPr>
                <a:xfrm rot="19033200">
                  <a:off x="6618240" y="2125800"/>
                  <a:ext cx="254160" cy="141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4f81bd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83" name="Rectangle 60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Box 44"/>
          <p:cNvSpPr/>
          <p:nvPr/>
        </p:nvSpPr>
        <p:spPr>
          <a:xfrm>
            <a:off x="3094560" y="2112840"/>
            <a:ext cx="1689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、各时间节点安排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组合 31"/>
          <p:cNvGrpSpPr/>
          <p:nvPr/>
        </p:nvGrpSpPr>
        <p:grpSpPr>
          <a:xfrm>
            <a:off x="1984320" y="3311640"/>
            <a:ext cx="5229360" cy="623880"/>
            <a:chOff x="1984320" y="3311640"/>
            <a:chExt cx="5229360" cy="623880"/>
          </a:xfrm>
        </p:grpSpPr>
        <p:grpSp>
          <p:nvGrpSpPr>
            <p:cNvPr id="186" name="Group 81"/>
            <p:cNvGrpSpPr/>
            <p:nvPr/>
          </p:nvGrpSpPr>
          <p:grpSpPr>
            <a:xfrm>
              <a:off x="1984320" y="3311640"/>
              <a:ext cx="5229360" cy="623880"/>
              <a:chOff x="1984320" y="3311640"/>
              <a:chExt cx="5229360" cy="623880"/>
            </a:xfrm>
          </p:grpSpPr>
          <p:sp>
            <p:nvSpPr>
              <p:cNvPr id="187" name="AutoShape 6"/>
              <p:cNvSpPr/>
              <p:nvPr/>
            </p:nvSpPr>
            <p:spPr>
              <a:xfrm>
                <a:off x="2006640" y="3336840"/>
                <a:ext cx="5207040" cy="598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8" name="Group 80"/>
              <p:cNvGrpSpPr/>
              <p:nvPr/>
            </p:nvGrpSpPr>
            <p:grpSpPr>
              <a:xfrm>
                <a:off x="1984320" y="3311640"/>
                <a:ext cx="5213520" cy="606240"/>
                <a:chOff x="1984320" y="3311640"/>
                <a:chExt cx="5213520" cy="606240"/>
              </a:xfrm>
            </p:grpSpPr>
            <p:sp>
              <p:nvSpPr>
                <p:cNvPr id="189" name="AutoShape 7"/>
                <p:cNvSpPr/>
                <p:nvPr/>
              </p:nvSpPr>
              <p:spPr>
                <a:xfrm>
                  <a:off x="2298600" y="3311640"/>
                  <a:ext cx="4587840" cy="604800"/>
                </a:xfrm>
                <a:prstGeom prst="roundRect">
                  <a:avLst>
                    <a:gd name="adj" fmla="val 0"/>
                  </a:avLst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Rectangle 8"/>
                <p:cNvSpPr/>
                <p:nvPr/>
              </p:nvSpPr>
              <p:spPr>
                <a:xfrm>
                  <a:off x="2324160" y="3405240"/>
                  <a:ext cx="4564080" cy="431640"/>
                </a:xfrm>
                <a:prstGeom prst="rect">
                  <a:avLst/>
                </a:prstGeom>
                <a:gradFill rotWithShape="0">
                  <a:gsLst>
                    <a:gs pos="0">
                      <a:srgbClr val="1f497d"/>
                    </a:gs>
                    <a:gs pos="50000">
                      <a:srgbClr val="4f81bd"/>
                    </a:gs>
                    <a:gs pos="100000">
                      <a:srgbClr val="1f497d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1" name="Group 9"/>
                <p:cNvGrpSpPr/>
                <p:nvPr/>
              </p:nvGrpSpPr>
              <p:grpSpPr>
                <a:xfrm>
                  <a:off x="1984320" y="3313080"/>
                  <a:ext cx="604800" cy="604800"/>
                  <a:chOff x="1984320" y="3313080"/>
                  <a:chExt cx="604800" cy="604800"/>
                </a:xfrm>
              </p:grpSpPr>
              <p:sp>
                <p:nvSpPr>
                  <p:cNvPr id="192" name="Oval 10"/>
                  <p:cNvSpPr/>
                  <p:nvPr/>
                </p:nvSpPr>
                <p:spPr>
                  <a:xfrm>
                    <a:off x="1984320" y="3313080"/>
                    <a:ext cx="604800" cy="6048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Oval 11"/>
                  <p:cNvSpPr/>
                  <p:nvPr/>
                </p:nvSpPr>
                <p:spPr>
                  <a:xfrm>
                    <a:off x="2150640" y="350676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Oval 12"/>
                  <p:cNvSpPr/>
                  <p:nvPr/>
                </p:nvSpPr>
                <p:spPr>
                  <a:xfrm rot="19033200">
                    <a:off x="2036160" y="3405600"/>
                    <a:ext cx="253080" cy="14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Group 13"/>
                <p:cNvGrpSpPr/>
                <p:nvPr/>
              </p:nvGrpSpPr>
              <p:grpSpPr>
                <a:xfrm>
                  <a:off x="6593040" y="3313080"/>
                  <a:ext cx="604800" cy="604800"/>
                  <a:chOff x="6593040" y="3313080"/>
                  <a:chExt cx="604800" cy="604800"/>
                </a:xfrm>
              </p:grpSpPr>
              <p:sp>
                <p:nvSpPr>
                  <p:cNvPr id="196" name="Oval 14"/>
                  <p:cNvSpPr/>
                  <p:nvPr/>
                </p:nvSpPr>
                <p:spPr>
                  <a:xfrm>
                    <a:off x="6593040" y="3313080"/>
                    <a:ext cx="604800" cy="604800"/>
                  </a:xfrm>
                  <a:prstGeom prst="ellipse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Oval 15"/>
                  <p:cNvSpPr/>
                  <p:nvPr/>
                </p:nvSpPr>
                <p:spPr>
                  <a:xfrm>
                    <a:off x="6759360" y="3506760"/>
                    <a:ext cx="334080" cy="335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0504d">
                          <a:alpha val="0"/>
                        </a:srgbClr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Oval 16"/>
                  <p:cNvSpPr/>
                  <p:nvPr/>
                </p:nvSpPr>
                <p:spPr>
                  <a:xfrm rot="19033200">
                    <a:off x="6644880" y="3405960"/>
                    <a:ext cx="253440" cy="140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00ff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9" name="TextBox 45"/>
            <p:cNvSpPr/>
            <p:nvPr/>
          </p:nvSpPr>
          <p:spPr>
            <a:xfrm>
              <a:off x="4535640" y="3405240"/>
              <a:ext cx="308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二、各环节操作流程及注意事项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20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21" dur="1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369720" y="1457280"/>
            <a:ext cx="859320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要求的课程体系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开题报告、中期考核、学术报告和社会实践，并获得相应学分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公开发表学术论文要求；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完成学位论文初稿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登录教育业务管理平台（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http://sep.ucas.ac.cn/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指导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依次维护各模块信息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各模块具体要求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学位申请者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69360" y="1457280"/>
            <a:ext cx="8394840" cy="43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需提交的材料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生成的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中国科学院大学研究生学位论文答辩申请书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式两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：各模块信息需填写完整，开题报告、中期考核、学术报告和社会实践均已获得学分，并需要有导师、室主任签字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为主要贡献人的发表论文首页复印件或接收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能领域同学需提供一份如下格式的说明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学是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论文题目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杂志名称，年卷期，页码）的主要贡献人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/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作者，特此说明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人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签字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X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提出答辩申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69360" y="1456920"/>
            <a:ext cx="853308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（一般由课题秘书担任）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导师、所级审核通过答辩申请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评阅专家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在线评阅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1"/>
              </a:rPr>
              <a:t>《</a:t>
            </a:r>
            <a:r>
              <a:rPr b="0" lang="zh-CN" sz="22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  <a:hlinkClick r:id="rId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一、聘请评阅专家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69360" y="1457280"/>
            <a:ext cx="8385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注意事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截止时间为</a:t>
            </a:r>
            <a:r>
              <a:rPr b="0" lang="zh-CN" sz="2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答辩前两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专家数量、资格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硕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；副教授、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博士：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7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（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-3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位外单位专家）；教授或相当专业技术职务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③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位申请人的导师不能作为评阅人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④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阅过程中如有一位评阅人持否定意见，则再增聘两位评阅人进行评阅。如累计有两位评阅人持否定意见，本次学位申请无效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送审学位论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69720" y="1457280"/>
            <a:ext cx="8102880" cy="50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责任人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前提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有评阅人均返回评阅意见且全部同意组织答辩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级审核通过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操作流程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登录本人教育业务管理平台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培养管理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系统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—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聘请答辩委员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具体流程见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辩秘书网上操作指南</a:t>
            </a:r>
            <a:r>
              <a:rPr b="0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“二、聘请答辩委员”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152280" y="363600"/>
            <a:ext cx="586764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聘请答辩委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9T06:15:06Z</dcterms:created>
  <dc:creator>孙亚宁</dc:creator>
  <dc:description/>
  <dc:language>en-US</dc:language>
  <cp:lastModifiedBy>孙亚宁</cp:lastModifiedBy>
  <dcterms:modified xsi:type="dcterms:W3CDTF">2015-03-10T09:52:35Z</dcterms:modified>
  <cp:revision>114</cp:revision>
  <dc:subject/>
  <dc:title>PowerPoint TEMPLATE</dc:title>
</cp:coreProperties>
</file>