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66A6-4F92-4DDC-A39A-ABC4054F27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0A7A-A237-4538-BF07-D54DEF0874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68C-8123-4F11-9A22-56788471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7CC-CFA2-48A8-9DE2-8CE3D47E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76A-3F5B-45EC-9AEB-19E8D449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F07-2B9F-427F-97C7-BD3EC9A9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E944-E9E6-41B3-8FAC-9C71F92A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7544-3014-4477-BA18-52B0ECE7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4A5F-1262-4C10-95FA-13963B6B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3012-9273-4B57-9CCA-20925450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C781-7399-4C34-8FF6-3FBCB3EC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568F-E7E6-4955-AFA6-253B2DD8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BBB6-1B3E-4FD8-BEAE-70ED93D8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D39-0CA1-4A2E-949A-3DA7368F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36D1-1955-4D0D-ADE9-46FC8B37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DD24-177B-4165-A7F2-200A8E66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5B99-2797-4EC3-A61B-DCE71F6F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F461-D50E-435E-9809-CA7E11C7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A860-0642-4F27-B7F9-1ACC49A4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8073D-8C8E-452B-ACF2-D8B3C9CD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0E44-E10F-466A-9F4B-4C10479E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B9DC-F09A-44E3-B8F3-9834DA85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EDF6-2107-460E-957D-8EB27B02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10DE-3AA4-4FA4-89AC-6982A484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C2D-A6D6-4B8D-A9FE-100F0105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2D926-FC71-4BF9-8B36-94CF489A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A732C-DE39-4A35-AC1F-D892A6F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1A5C2-9169-4B88-804D-664A2B12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0261-E944-4C2C-9B90-4B4F1C89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C0FE-4217-41B9-BC0D-2B36F3F1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4EB1-6453-4929-AD06-D6F15F67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0BA4-8C1B-44B7-BE36-F99F8A12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F9E51-2607-41D5-A899-10A851A1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714A-327D-446C-937E-A8BC2E5A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8460-CAD1-4E85-8F29-827A82D2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E92-A06B-4F6F-8BC5-DD23DB2C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A2E96-C8F8-4752-A4FC-707A0217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C742B-DAA4-4280-978F-39A5811B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8A38C-3C76-4928-B063-DB0B9A25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BE781-A9EA-464F-999A-0959F7C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0707-345D-4780-9470-CF86E957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0106-D949-4F15-975D-1AA8FA9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ADBA9-97FB-4F8B-A4B4-4D29D5C5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D897-812C-4E57-867C-AABBE5C3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7BA8F-0010-4824-AC27-B594ADDD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5DE1-433F-4EF3-BC72-0B2F4095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CAB-C90B-495C-A558-534C0194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967FC-375A-4839-90A2-6B49BF15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4CBE-87D9-47E5-AEC9-9713F1D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6413-FECF-479A-80CD-EF21751D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4F2F2-4CD6-4CDD-ACDB-43D86612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6A738-08CD-44A3-ABC7-E262B1F4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F75A-C2B9-4E49-8A67-7C1FCCDD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DDC3F-CDC0-4C41-A7A4-DEE71FC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1D502-0D6D-402D-9DD3-4AA01F38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F9DCA-E9EE-4BC0-B836-2DBC432D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DE82D-A88E-4806-B77F-18F8DB9B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044-8227-46AC-BF63-1ABC10B6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5F35-B25C-4516-828C-DB404B74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EF563-3751-4702-B518-116EF270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63800-6718-46F4-BECA-99906B53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2375F-E1C6-4C3B-8B6F-E5D68C73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566D4-1EF4-44A8-886E-3D0438E0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F74B7-2562-4A35-9B25-259E54E4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629B-18C9-489F-83FE-FC30D579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6ACF-DA0B-4E3D-8A08-2F7BC8AE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97C48-2A1D-42D4-9828-42EFEE6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B3BAD-610E-4EAD-B586-FF3243D4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A14-646E-41A7-9719-DC7FE06D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C31BF-48F6-4229-ABCC-37823617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507FB-2389-4629-A6D2-CE799080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1B169-C5E7-4E7C-8D76-11034744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EC2DD-25A4-4D57-BDFC-01C73872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1AE0F-ED5D-4E64-B99E-9A7C52AA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F0A6E-854A-4564-A858-161EAA04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3DA70-9AC3-4EF3-B3F0-C1B382D4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26FF3-DFA5-438F-AFED-2AF8E2FB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4177C-2AE5-4DDB-9FF7-1F762593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9F9F2-2563-4500-812A-68E30A62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B62-BA8D-4D19-9AE9-57796FCD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DF920-2F05-4EE7-9711-6ED652F4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1694C-3BB9-4D8F-8B5C-8DC51EC6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4E191-2E71-446B-8329-043EA79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AD038-72FD-4081-B489-95A9F5DF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C1AE3-85C2-43DC-B51C-35054163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5F34E-2D97-48BC-B5E1-DCC1266A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7745-1DC4-4A68-88AF-1D37147E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5603C-F6DD-4918-AF8C-27819638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2DBB4-FBD1-4113-B974-AD2568C7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8F67A-C6A6-4177-A3F8-1DD4604E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DE0-ABA4-4716-A752-3B81FD14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8718F-EAD9-474C-9B34-E62B048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EFA39-FC8D-45F9-AE9D-DA337A60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A05EA-A1FF-44D7-8152-36C587F0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15767-6EB6-4D29-A6BB-526F4D1D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B309D-695F-4362-B94D-146A6F5C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D7246-0B21-4851-ADBC-59BFD318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7F786-7B9E-4312-B2B8-5C58B5E5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498F-ECFD-4B3D-A0D5-73E01C25FF44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BBC-AB72-4113-AFF3-02B12CD0728A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9C85-E684-4F76-94E0-50BD8370AA44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7571-70A0-4063-AE24-89ADA2E02071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F913-56CC-4FA8-B0A2-9C51AB7758CF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B930-A18C-4D44-BA1F-F17307E52A2B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6FAE-D353-462B-A9D4-ECE25970A477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4CC6-0DAE-4D96-B941-2723CA3B4ADD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907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5-03-10T10:01:10Z</dcterms:modified>
  <cp:revision>27</cp:revision>
  <dc:subject/>
  <dc:title>幻灯片 1</dc:title>
</cp:coreProperties>
</file>