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5FFC-F19E-41E3-AA9B-9D775B2FBEE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EFD7-5B0F-4A6C-A133-55B67914BB2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4CC3-4B75-4479-8AC6-A0868CBBBA3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EE14-6AE3-42C0-8372-1C5BD99E896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2712-762A-445F-A4C3-EFB2687F008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562E-7740-4B42-857C-629FABF75CD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A237-5857-450F-91F5-5BA7E7DB01A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24EF-0193-4511-AD77-BC2740AD518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DEE1-A9BC-471D-91B4-DF1961DAD31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DAFC-6181-4B1B-B1C1-9F1B2202F75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94A4-EBB0-4853-91E8-C981CA8E212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7CCC-05DA-45BD-9606-9ACDE87153D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11AB-FE3E-4940-8ABF-C5B611A4136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9040-9966-4A9C-AA49-B2522ACC115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64B2-94C4-42AE-A174-6552B5D4BE7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4C8-FC87-4521-AD86-70C370D7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CB25-D16F-4AB1-A3C3-2303A980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9733-B042-43F7-A18B-A9F4BE69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692F-01FD-4674-9254-7BAAE4D6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8E4F-757B-4566-92A7-D9CDD367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2C2E-10B7-49EC-9711-B2BB0B30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DBF6-6C38-4E89-BCD5-6001E913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D267-2F5D-4C2F-9048-70EB7D20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000C-46A9-4826-9383-248A88A4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2F45-266A-4F11-AA14-7420C7BC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9E81-E400-43AF-9029-4F216B4E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C31E-EF0A-43E0-A2AF-E39E2F44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0ED3-6C0B-4CBD-901D-35F5AA4E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E17F-D3E4-4736-B8CB-77462868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D805-33BA-4891-9D4A-FE670084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0DC9-6ACF-45F1-AC9E-9041EFEE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D751-5DEE-4286-9EFB-3585A603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5486F-735C-4C51-B8F5-7458A2FC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AA0C1-5912-426D-AAC0-8441142C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58BE1-7F31-4990-A253-9C74EE5F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4A265-E7EB-4EDF-B6F4-F22889A8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D5E9E-25E6-49E3-A9A2-57F32857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B3E-79DD-4F93-A2D1-0D4A3F19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B2A35-2FA9-4876-803A-F1F13AFE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39FAE-A4C0-4F7D-91EA-6BE4653D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18ADB-3959-47ED-9C5C-4903A84D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96C24-F24A-4DDC-9436-FF47567A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54E77-9C9D-40EB-BBF6-4920F256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D1812-C195-4041-83BA-7ADBE8CD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34A7B-E4A7-4197-8F23-A29DC9ED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D32-7E35-405D-A58A-00C09083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36C8-CD7F-4B78-A374-5D93C8B6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B41-82F3-43C5-8027-66B77F68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CD2-43C1-414B-9A8D-F9FADB70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CA2-D538-4120-A8B5-B193BF9C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A736-876B-4998-BDC2-04E69B79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6147-3437-4777-9581-22C5376A39EC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  <p:sp>
        <p:nvSpPr>
          <p:cNvPr id="43" name="Freeform 90"/>
          <p:cNvSpPr/>
          <p:nvPr/>
        </p:nvSpPr>
        <p:spPr>
          <a:xfrm>
            <a:off x="2438280" y="1176480"/>
            <a:ext cx="6705720" cy="139680"/>
          </a:xfrm>
          <a:custGeom>
            <a:avLst/>
            <a:gdLst>
              <a:gd name="textAreaLeft" fmla="*/ 0 w 6705720"/>
              <a:gd name="textAreaRight" fmla="*/ 6706080 w 67057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175C-E46A-49C7-B8D0-8ED24D7E4E29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  <p:sp>
        <p:nvSpPr>
          <p:cNvPr id="86" name="Freeform 90"/>
          <p:cNvSpPr/>
          <p:nvPr/>
        </p:nvSpPr>
        <p:spPr>
          <a:xfrm rot="10800000">
            <a:off x="-360" y="1009080"/>
            <a:ext cx="7265880" cy="120600"/>
          </a:xfrm>
          <a:custGeom>
            <a:avLst/>
            <a:gdLst>
              <a:gd name="textAreaLeft" fmla="*/ 0 w 7265880"/>
              <a:gd name="textAreaRight" fmla="*/ 7266240 w 72658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A5ED-D029-4C7D-9EF5-B7FD219D3CE0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ep.ucas.ac.cn/" TargetMode="External"/><Relationship Id="rId2" Type="http://schemas.openxmlformats.org/officeDocument/2006/relationships/hyperlink" Target="file:///&#32593;&#19978;&#25805;&#20316;&#25351;&#21335;/&#23398;&#20301;&#30003;&#35831;&#32773;&#32593;&#19978;&#25805;&#20316;&#25351;&#21335;.doc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32593;&#19978;&#25805;&#20316;&#25351;&#21335;/&#31572;&#36777;&#31192;&#20070;&#32593;&#19978;&#25805;&#20316;&#25351;&#21335;.ppt" TargetMode="External"/><Relationship Id="rId2" Type="http://schemas.openxmlformats.org/officeDocument/2006/relationships/hyperlink" Target="file:///&#32593;&#19978;&#25805;&#20316;&#25351;&#21335;/&#31572;&#36777;&#31192;&#20070;&#32593;&#19978;&#25805;&#20316;&#25351;&#21335;.ppt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0680" y="1887120"/>
            <a:ext cx="7993080" cy="14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论文答辩及学位申请流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460760" y="3940200"/>
            <a:ext cx="343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论物理所研究生部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15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注意事项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至少在答辩时间前一天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委员会成员数量、资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硕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；副教授、教授或相当专业技术职务；一般应包含本单位及外单位专家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外单位专家）；教授或相当专业技术职务；答辩委员会主席应由博士生指导教师担任；成员中博士生指导教师一般不少于三分之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的评阅人一般应参加该论文答辩委员会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聘请答辩委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、答辩秘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流程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一周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定会议室（老楼到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定，新楼找庄辞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贴答辩通知（下载统一模板填写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齐如下材料至研究生部盖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研究生学位论文答辩申请书》（学位申请人系统生成，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主要贡献人的发表论文首页复印件或接收函（高能领域另附贡献说明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学位论文评阅书》（答辩秘书系统下载打印所有评阅人评阅书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论文答辩情况和学位授予决议书》（注意调好格式再打印，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学位论文答辩委员会表决票》（每位答辩成员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152280" y="363600"/>
            <a:ext cx="6483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.3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前必须完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一天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取横幅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领答辩酬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半小时布置答辩会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开始前把以下材料交答辩委员会主席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答辩程序（所网页下载，填写信息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研究生学位论文答辩申请书》》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学位论文评阅书》（所有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论文答辩情况和学位授予决议书》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学位论文答辩委员会表决票》（每位答辩成员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辩委员会决议初稿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位申请人事先拟好内容，请导师先过一遍，电子版及每位答辩成员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纸质版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时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认真做好答辩记录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会休会时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助答辩委员会主席发表决票和收表决票；及时整理“答辩委员会决议”并找主席签字；提醒答辩委员会成员在《中国科学院大学论文答辩情况和学位授予决议书》上签字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结束后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放酬金，合影留念，并挑选一张合影发至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n@itp.ac.cn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答辩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细信息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委员会秘书兼记录人职责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报或同步各模块信息（请先阅读左侧最下的“填报说明”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信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情况：先同步，再据实填写剩余各项内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导信息：自学籍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信息：据实填写各项内容。其中学习方为全脱产，学习年限为实际年限，如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统考博士，未延期）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硕博连读，未延期）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硕博连读，延期半年）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简历：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报学位申请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69720" y="1457280"/>
            <a:ext cx="85060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程学习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教务管理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修环节～论文答辩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模块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题报告、中期考核、学术报告及社会实践均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网上提交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统一在学位管理系统再提交一遍最终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确认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信息填报后，需要做“信息确认”封存数据，确认后学生不能再修改数据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报学位申请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材料列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意按照撰写规定撰写，新版封皮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研究生学位论文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主要贡献人的发表论文首页复印件或接收函（高能领域另附贡献说明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学位论文评阅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所有评阅人的评阅书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论文答辩情况和学位授予决议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装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答辩委员会表决票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所有回收件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毕业生登记表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⑧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盘（学位论文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DF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，文件名：本人姓名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题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交答辩相关材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4"/>
          <p:cNvGrpSpPr/>
          <p:nvPr/>
        </p:nvGrpSpPr>
        <p:grpSpPr>
          <a:xfrm>
            <a:off x="7920" y="5605560"/>
            <a:ext cx="9136080" cy="1269720"/>
            <a:chOff x="7920" y="5605560"/>
            <a:chExt cx="9136080" cy="1269720"/>
          </a:xfrm>
        </p:grpSpPr>
        <p:sp>
          <p:nvSpPr>
            <p:cNvPr id="225" name="Rectangle 5"/>
            <p:cNvSpPr/>
            <p:nvPr/>
          </p:nvSpPr>
          <p:spPr>
            <a:xfrm>
              <a:off x="7920" y="5605560"/>
              <a:ext cx="9136080" cy="1263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1f497d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Group 6"/>
            <p:cNvGrpSpPr/>
            <p:nvPr/>
          </p:nvGrpSpPr>
          <p:grpSpPr>
            <a:xfrm>
              <a:off x="307800" y="5607000"/>
              <a:ext cx="8421840" cy="1268280"/>
              <a:chOff x="307800" y="5607000"/>
              <a:chExt cx="8421840" cy="1268280"/>
            </a:xfrm>
          </p:grpSpPr>
          <p:sp>
            <p:nvSpPr>
              <p:cNvPr id="227" name="Rectangle 7"/>
              <p:cNvSpPr/>
              <p:nvPr/>
            </p:nvSpPr>
            <p:spPr>
              <a:xfrm>
                <a:off x="30780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8"/>
              <p:cNvSpPr/>
              <p:nvPr/>
            </p:nvSpPr>
            <p:spPr>
              <a:xfrm>
                <a:off x="78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134928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10"/>
              <p:cNvSpPr/>
              <p:nvPr/>
            </p:nvSpPr>
            <p:spPr>
              <a:xfrm>
                <a:off x="182556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39076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86704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13"/>
              <p:cNvSpPr/>
              <p:nvPr/>
            </p:nvSpPr>
            <p:spPr>
              <a:xfrm>
                <a:off x="343224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390852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447372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495000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551484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18"/>
              <p:cNvSpPr/>
              <p:nvPr/>
            </p:nvSpPr>
            <p:spPr>
              <a:xfrm>
                <a:off x="599112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19"/>
              <p:cNvSpPr/>
              <p:nvPr/>
            </p:nvSpPr>
            <p:spPr>
              <a:xfrm>
                <a:off x="6556320" y="5613480"/>
                <a:ext cx="90720" cy="126180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Rectangle 20"/>
              <p:cNvSpPr/>
              <p:nvPr/>
            </p:nvSpPr>
            <p:spPr>
              <a:xfrm>
                <a:off x="7032600" y="5613480"/>
                <a:ext cx="270000" cy="126180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21"/>
              <p:cNvSpPr/>
              <p:nvPr/>
            </p:nvSpPr>
            <p:spPr>
              <a:xfrm>
                <a:off x="759780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2"/>
              <p:cNvSpPr/>
              <p:nvPr/>
            </p:nvSpPr>
            <p:spPr>
              <a:xfrm>
                <a:off x="807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23"/>
              <p:cNvSpPr/>
              <p:nvPr/>
            </p:nvSpPr>
            <p:spPr>
              <a:xfrm>
                <a:off x="863928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4" name="矩形 37"/>
          <p:cNvSpPr/>
          <p:nvPr/>
        </p:nvSpPr>
        <p:spPr>
          <a:xfrm>
            <a:off x="708120" y="2044800"/>
            <a:ext cx="753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任何问题，请及时与我联系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邮箱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n@itp.ac.cn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10-625609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问题可直接与国科大网络中心联系：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10-882566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81"/>
          <p:cNvGrpSpPr/>
          <p:nvPr/>
        </p:nvGrpSpPr>
        <p:grpSpPr>
          <a:xfrm>
            <a:off x="1984320" y="3311640"/>
            <a:ext cx="5229360" cy="623880"/>
            <a:chOff x="1984320" y="3311640"/>
            <a:chExt cx="5229360" cy="623880"/>
          </a:xfrm>
        </p:grpSpPr>
        <p:sp>
          <p:nvSpPr>
            <p:cNvPr id="138" name="AutoShape 6"/>
            <p:cNvSpPr/>
            <p:nvPr/>
          </p:nvSpPr>
          <p:spPr>
            <a:xfrm>
              <a:off x="2006640" y="3336840"/>
              <a:ext cx="520704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80"/>
            <p:cNvGrpSpPr/>
            <p:nvPr/>
          </p:nvGrpSpPr>
          <p:grpSpPr>
            <a:xfrm>
              <a:off x="1984320" y="3311640"/>
              <a:ext cx="5213520" cy="606240"/>
              <a:chOff x="1984320" y="3311640"/>
              <a:chExt cx="5213520" cy="606240"/>
            </a:xfrm>
          </p:grpSpPr>
          <p:sp>
            <p:nvSpPr>
              <p:cNvPr id="140" name="AutoShape 7"/>
              <p:cNvSpPr/>
              <p:nvPr/>
            </p:nvSpPr>
            <p:spPr>
              <a:xfrm>
                <a:off x="2298600" y="3311640"/>
                <a:ext cx="4587840" cy="604800"/>
              </a:xfrm>
              <a:prstGeom prst="roundRect">
                <a:avLst>
                  <a:gd name="adj" fmla="val 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8"/>
              <p:cNvSpPr/>
              <p:nvPr/>
            </p:nvSpPr>
            <p:spPr>
              <a:xfrm>
                <a:off x="2324160" y="3405240"/>
                <a:ext cx="4564080" cy="431640"/>
              </a:xfrm>
              <a:prstGeom prst="rect">
                <a:avLst/>
              </a:prstGeom>
              <a:gradFill rotWithShape="0">
                <a:gsLst>
                  <a:gs pos="0">
                    <a:srgbClr val="1f497d"/>
                  </a:gs>
                  <a:gs pos="50000">
                    <a:srgbClr val="4f81bd"/>
                  </a:gs>
                  <a:gs pos="100000">
                    <a:srgbClr val="1f497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Group 9"/>
              <p:cNvGrpSpPr/>
              <p:nvPr/>
            </p:nvGrpSpPr>
            <p:grpSpPr>
              <a:xfrm>
                <a:off x="1984320" y="3313080"/>
                <a:ext cx="604800" cy="604800"/>
                <a:chOff x="1984320" y="3313080"/>
                <a:chExt cx="604800" cy="604800"/>
              </a:xfrm>
            </p:grpSpPr>
            <p:sp>
              <p:nvSpPr>
                <p:cNvPr id="143" name="Oval 10"/>
                <p:cNvSpPr/>
                <p:nvPr/>
              </p:nvSpPr>
              <p:spPr>
                <a:xfrm>
                  <a:off x="1984320" y="3313080"/>
                  <a:ext cx="604800" cy="60480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Oval 11"/>
                <p:cNvSpPr/>
                <p:nvPr/>
              </p:nvSpPr>
              <p:spPr>
                <a:xfrm>
                  <a:off x="2150640" y="3506760"/>
                  <a:ext cx="33408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12"/>
                <p:cNvSpPr/>
                <p:nvPr/>
              </p:nvSpPr>
              <p:spPr>
                <a:xfrm rot="19033200">
                  <a:off x="2036160" y="3405600"/>
                  <a:ext cx="253080" cy="1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3"/>
              <p:cNvGrpSpPr/>
              <p:nvPr/>
            </p:nvGrpSpPr>
            <p:grpSpPr>
              <a:xfrm>
                <a:off x="6593040" y="3313080"/>
                <a:ext cx="604800" cy="604800"/>
                <a:chOff x="6593040" y="3313080"/>
                <a:chExt cx="604800" cy="604800"/>
              </a:xfrm>
            </p:grpSpPr>
            <p:sp>
              <p:nvSpPr>
                <p:cNvPr id="147" name="Oval 14"/>
                <p:cNvSpPr/>
                <p:nvPr/>
              </p:nvSpPr>
              <p:spPr>
                <a:xfrm>
                  <a:off x="6593040" y="3313080"/>
                  <a:ext cx="604800" cy="60480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15"/>
                <p:cNvSpPr/>
                <p:nvPr/>
              </p:nvSpPr>
              <p:spPr>
                <a:xfrm>
                  <a:off x="6759360" y="3506760"/>
                  <a:ext cx="33408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16"/>
                <p:cNvSpPr/>
                <p:nvPr/>
              </p:nvSpPr>
              <p:spPr>
                <a:xfrm rot="19033200">
                  <a:off x="6644880" y="3405960"/>
                  <a:ext cx="253440" cy="1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0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组合 44"/>
          <p:cNvGrpSpPr/>
          <p:nvPr/>
        </p:nvGrpSpPr>
        <p:grpSpPr>
          <a:xfrm>
            <a:off x="1959120" y="2030400"/>
            <a:ext cx="5229000" cy="623880"/>
            <a:chOff x="1959120" y="2030400"/>
            <a:chExt cx="5229000" cy="623880"/>
          </a:xfrm>
        </p:grpSpPr>
        <p:grpSp>
          <p:nvGrpSpPr>
            <p:cNvPr id="152" name="Group 64"/>
            <p:cNvGrpSpPr/>
            <p:nvPr/>
          </p:nvGrpSpPr>
          <p:grpSpPr>
            <a:xfrm>
              <a:off x="1959120" y="2030400"/>
              <a:ext cx="5229000" cy="623880"/>
              <a:chOff x="1959120" y="2030400"/>
              <a:chExt cx="5229000" cy="623880"/>
            </a:xfrm>
          </p:grpSpPr>
          <p:sp>
            <p:nvSpPr>
              <p:cNvPr id="153" name="AutoShape 30"/>
              <p:cNvSpPr/>
              <p:nvPr/>
            </p:nvSpPr>
            <p:spPr>
              <a:xfrm>
                <a:off x="1981080" y="205596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Group 63"/>
              <p:cNvGrpSpPr/>
              <p:nvPr/>
            </p:nvGrpSpPr>
            <p:grpSpPr>
              <a:xfrm>
                <a:off x="1959120" y="2030400"/>
                <a:ext cx="5213160" cy="606600"/>
                <a:chOff x="1959120" y="2030400"/>
                <a:chExt cx="5213160" cy="606600"/>
              </a:xfrm>
            </p:grpSpPr>
            <p:sp>
              <p:nvSpPr>
                <p:cNvPr id="155" name="AutoShape 32"/>
                <p:cNvSpPr/>
                <p:nvPr/>
              </p:nvSpPr>
              <p:spPr>
                <a:xfrm>
                  <a:off x="2273400" y="203040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33"/>
                <p:cNvSpPr/>
                <p:nvPr/>
              </p:nvSpPr>
              <p:spPr>
                <a:xfrm>
                  <a:off x="2298600" y="212400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1f497d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" name="Group 62"/>
                <p:cNvGrpSpPr/>
                <p:nvPr/>
              </p:nvGrpSpPr>
              <p:grpSpPr>
                <a:xfrm>
                  <a:off x="1959120" y="2031840"/>
                  <a:ext cx="604800" cy="605160"/>
                  <a:chOff x="1959120" y="2031840"/>
                  <a:chExt cx="604800" cy="605160"/>
                </a:xfrm>
              </p:grpSpPr>
              <p:sp>
                <p:nvSpPr>
                  <p:cNvPr id="158" name="Oval 35"/>
                  <p:cNvSpPr/>
                  <p:nvPr/>
                </p:nvSpPr>
                <p:spPr>
                  <a:xfrm>
                    <a:off x="195912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Oval 36"/>
                  <p:cNvSpPr/>
                  <p:nvPr/>
                </p:nvSpPr>
                <p:spPr>
                  <a:xfrm>
                    <a:off x="2125800" y="222552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Oval 37"/>
                  <p:cNvSpPr/>
                  <p:nvPr/>
                </p:nvSpPr>
                <p:spPr>
                  <a:xfrm rot="19033200">
                    <a:off x="2009880" y="2125440"/>
                    <a:ext cx="253800" cy="141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f81bd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" name="Group 61"/>
                <p:cNvGrpSpPr/>
                <p:nvPr/>
              </p:nvGrpSpPr>
              <p:grpSpPr>
                <a:xfrm>
                  <a:off x="6567480" y="2031840"/>
                  <a:ext cx="604800" cy="605160"/>
                  <a:chOff x="6567480" y="2031840"/>
                  <a:chExt cx="604800" cy="605160"/>
                </a:xfrm>
              </p:grpSpPr>
              <p:sp>
                <p:nvSpPr>
                  <p:cNvPr id="162" name="Oval 39"/>
                  <p:cNvSpPr/>
                  <p:nvPr/>
                </p:nvSpPr>
                <p:spPr>
                  <a:xfrm>
                    <a:off x="656748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Oval 40"/>
                  <p:cNvSpPr/>
                  <p:nvPr/>
                </p:nvSpPr>
                <p:spPr>
                  <a:xfrm>
                    <a:off x="6734160" y="222552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Oval 41"/>
                  <p:cNvSpPr/>
                  <p:nvPr/>
                </p:nvSpPr>
                <p:spPr>
                  <a:xfrm rot="19033200">
                    <a:off x="6618240" y="2125800"/>
                    <a:ext cx="254160" cy="141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f81bd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5" name="TextBox 44"/>
            <p:cNvSpPr/>
            <p:nvPr/>
          </p:nvSpPr>
          <p:spPr>
            <a:xfrm>
              <a:off x="3094560" y="2112840"/>
              <a:ext cx="168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一、各时间节点安排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Box 45"/>
          <p:cNvSpPr/>
          <p:nvPr/>
        </p:nvSpPr>
        <p:spPr>
          <a:xfrm>
            <a:off x="4535640" y="3405240"/>
            <a:ext cx="30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各环节操作流程及注意事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46"/>
          <p:cNvSpPr/>
          <p:nvPr/>
        </p:nvSpPr>
        <p:spPr>
          <a:xfrm>
            <a:off x="3408480" y="3940200"/>
            <a:ext cx="30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、注意事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时间节点安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88840" y="1940040"/>
          <a:ext cx="7383600" cy="3343320"/>
        </p:xfrm>
        <a:graphic>
          <a:graphicData uri="http://schemas.openxmlformats.org/drawingml/2006/table">
            <a:tbl>
              <a:tblPr/>
              <a:tblGrid>
                <a:gridCol w="4884840"/>
                <a:gridCol w="24987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环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截止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提交答辩申请（培养指导系统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资格审查：学分、开题报告、中期考核、发表文章、学位论文完成情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辩前一个月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15.4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送审学位论文（答辩秘书登录“培养管理系统”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辩前两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聘请答辩委员（答辩秘书登录“培养管理系统”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完成所有网上评阅后～答辩前一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组织答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填报学位申请信息（学位管理系统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提交答辩相关材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64"/>
          <p:cNvGrpSpPr/>
          <p:nvPr/>
        </p:nvGrpSpPr>
        <p:grpSpPr>
          <a:xfrm>
            <a:off x="1959120" y="2030400"/>
            <a:ext cx="5229000" cy="623880"/>
            <a:chOff x="1959120" y="2030400"/>
            <a:chExt cx="5229000" cy="623880"/>
          </a:xfrm>
        </p:grpSpPr>
        <p:sp>
          <p:nvSpPr>
            <p:cNvPr id="171" name="AutoShape 30"/>
            <p:cNvSpPr/>
            <p:nvPr/>
          </p:nvSpPr>
          <p:spPr>
            <a:xfrm>
              <a:off x="1981080" y="2055960"/>
              <a:ext cx="52070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Group 63"/>
            <p:cNvGrpSpPr/>
            <p:nvPr/>
          </p:nvGrpSpPr>
          <p:grpSpPr>
            <a:xfrm>
              <a:off x="1959120" y="2030400"/>
              <a:ext cx="5213160" cy="606600"/>
              <a:chOff x="1959120" y="2030400"/>
              <a:chExt cx="5213160" cy="606600"/>
            </a:xfrm>
          </p:grpSpPr>
          <p:sp>
            <p:nvSpPr>
              <p:cNvPr id="173" name="AutoShape 32"/>
              <p:cNvSpPr/>
              <p:nvPr/>
            </p:nvSpPr>
            <p:spPr>
              <a:xfrm>
                <a:off x="2273400" y="2030400"/>
                <a:ext cx="4587840" cy="604800"/>
              </a:xfrm>
              <a:prstGeom prst="roundRect">
                <a:avLst>
                  <a:gd name="adj" fmla="val 0"/>
                </a:avLst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33"/>
              <p:cNvSpPr/>
              <p:nvPr/>
            </p:nvSpPr>
            <p:spPr>
              <a:xfrm>
                <a:off x="2298600" y="2124000"/>
                <a:ext cx="4564080" cy="432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1f497d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" name="Group 62"/>
              <p:cNvGrpSpPr/>
              <p:nvPr/>
            </p:nvGrpSpPr>
            <p:grpSpPr>
              <a:xfrm>
                <a:off x="1959120" y="2031840"/>
                <a:ext cx="604800" cy="605160"/>
                <a:chOff x="1959120" y="2031840"/>
                <a:chExt cx="604800" cy="605160"/>
              </a:xfrm>
            </p:grpSpPr>
            <p:sp>
              <p:nvSpPr>
                <p:cNvPr id="176" name="Oval 35"/>
                <p:cNvSpPr/>
                <p:nvPr/>
              </p:nvSpPr>
              <p:spPr>
                <a:xfrm>
                  <a:off x="1959120" y="2031840"/>
                  <a:ext cx="604800" cy="605160"/>
                </a:xfrm>
                <a:prstGeom prst="ellipse">
                  <a:avLst/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Oval 36"/>
                <p:cNvSpPr/>
                <p:nvPr/>
              </p:nvSpPr>
              <p:spPr>
                <a:xfrm>
                  <a:off x="2125800" y="2225520"/>
                  <a:ext cx="33336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Oval 37"/>
                <p:cNvSpPr/>
                <p:nvPr/>
              </p:nvSpPr>
              <p:spPr>
                <a:xfrm rot="19033200">
                  <a:off x="2009880" y="2125440"/>
                  <a:ext cx="253800" cy="14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Group 61"/>
              <p:cNvGrpSpPr/>
              <p:nvPr/>
            </p:nvGrpSpPr>
            <p:grpSpPr>
              <a:xfrm>
                <a:off x="6567480" y="2031840"/>
                <a:ext cx="604800" cy="605160"/>
                <a:chOff x="6567480" y="2031840"/>
                <a:chExt cx="604800" cy="605160"/>
              </a:xfrm>
            </p:grpSpPr>
            <p:sp>
              <p:nvSpPr>
                <p:cNvPr id="180" name="Oval 39"/>
                <p:cNvSpPr/>
                <p:nvPr/>
              </p:nvSpPr>
              <p:spPr>
                <a:xfrm>
                  <a:off x="6567480" y="2031840"/>
                  <a:ext cx="604800" cy="605160"/>
                </a:xfrm>
                <a:prstGeom prst="ellipse">
                  <a:avLst/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Oval 40"/>
                <p:cNvSpPr/>
                <p:nvPr/>
              </p:nvSpPr>
              <p:spPr>
                <a:xfrm>
                  <a:off x="6734160" y="2225520"/>
                  <a:ext cx="33336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Oval 41"/>
                <p:cNvSpPr/>
                <p:nvPr/>
              </p:nvSpPr>
              <p:spPr>
                <a:xfrm rot="19033200">
                  <a:off x="6618240" y="2125800"/>
                  <a:ext cx="254160" cy="14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3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44"/>
          <p:cNvSpPr/>
          <p:nvPr/>
        </p:nvSpPr>
        <p:spPr>
          <a:xfrm>
            <a:off x="3094560" y="2112840"/>
            <a:ext cx="16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、各时间节点安排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组合 31"/>
          <p:cNvGrpSpPr/>
          <p:nvPr/>
        </p:nvGrpSpPr>
        <p:grpSpPr>
          <a:xfrm>
            <a:off x="1984320" y="3311640"/>
            <a:ext cx="5229360" cy="623880"/>
            <a:chOff x="1984320" y="3311640"/>
            <a:chExt cx="5229360" cy="623880"/>
          </a:xfrm>
        </p:grpSpPr>
        <p:grpSp>
          <p:nvGrpSpPr>
            <p:cNvPr id="186" name="Group 81"/>
            <p:cNvGrpSpPr/>
            <p:nvPr/>
          </p:nvGrpSpPr>
          <p:grpSpPr>
            <a:xfrm>
              <a:off x="1984320" y="3311640"/>
              <a:ext cx="5229360" cy="623880"/>
              <a:chOff x="1984320" y="3311640"/>
              <a:chExt cx="5229360" cy="623880"/>
            </a:xfrm>
          </p:grpSpPr>
          <p:sp>
            <p:nvSpPr>
              <p:cNvPr id="187" name="AutoShape 6"/>
              <p:cNvSpPr/>
              <p:nvPr/>
            </p:nvSpPr>
            <p:spPr>
              <a:xfrm>
                <a:off x="2006640" y="3336840"/>
                <a:ext cx="5207040" cy="598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" name="Group 80"/>
              <p:cNvGrpSpPr/>
              <p:nvPr/>
            </p:nvGrpSpPr>
            <p:grpSpPr>
              <a:xfrm>
                <a:off x="1984320" y="3311640"/>
                <a:ext cx="5213520" cy="606240"/>
                <a:chOff x="1984320" y="3311640"/>
                <a:chExt cx="5213520" cy="606240"/>
              </a:xfrm>
            </p:grpSpPr>
            <p:sp>
              <p:nvSpPr>
                <p:cNvPr id="189" name="AutoShape 7"/>
                <p:cNvSpPr/>
                <p:nvPr/>
              </p:nvSpPr>
              <p:spPr>
                <a:xfrm>
                  <a:off x="2298600" y="331164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8"/>
                <p:cNvSpPr/>
                <p:nvPr/>
              </p:nvSpPr>
              <p:spPr>
                <a:xfrm>
                  <a:off x="2324160" y="3405240"/>
                  <a:ext cx="4564080" cy="431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f497d"/>
                    </a:gs>
                    <a:gs pos="50000">
                      <a:srgbClr val="4f81bd"/>
                    </a:gs>
                    <a:gs pos="100000">
                      <a:srgbClr val="1f497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" name="Group 9"/>
                <p:cNvGrpSpPr/>
                <p:nvPr/>
              </p:nvGrpSpPr>
              <p:grpSpPr>
                <a:xfrm>
                  <a:off x="1984320" y="3313080"/>
                  <a:ext cx="604800" cy="604800"/>
                  <a:chOff x="1984320" y="3313080"/>
                  <a:chExt cx="604800" cy="604800"/>
                </a:xfrm>
              </p:grpSpPr>
              <p:sp>
                <p:nvSpPr>
                  <p:cNvPr id="192" name="Oval 10"/>
                  <p:cNvSpPr/>
                  <p:nvPr/>
                </p:nvSpPr>
                <p:spPr>
                  <a:xfrm>
                    <a:off x="1984320" y="3313080"/>
                    <a:ext cx="604800" cy="6048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Oval 11"/>
                  <p:cNvSpPr/>
                  <p:nvPr/>
                </p:nvSpPr>
                <p:spPr>
                  <a:xfrm>
                    <a:off x="2150640" y="3506760"/>
                    <a:ext cx="33408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Oval 12"/>
                  <p:cNvSpPr/>
                  <p:nvPr/>
                </p:nvSpPr>
                <p:spPr>
                  <a:xfrm rot="19033200">
                    <a:off x="2036160" y="3405600"/>
                    <a:ext cx="253080" cy="14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Group 13"/>
                <p:cNvGrpSpPr/>
                <p:nvPr/>
              </p:nvGrpSpPr>
              <p:grpSpPr>
                <a:xfrm>
                  <a:off x="6593040" y="3313080"/>
                  <a:ext cx="604800" cy="604800"/>
                  <a:chOff x="6593040" y="3313080"/>
                  <a:chExt cx="604800" cy="604800"/>
                </a:xfrm>
              </p:grpSpPr>
              <p:sp>
                <p:nvSpPr>
                  <p:cNvPr id="196" name="Oval 14"/>
                  <p:cNvSpPr/>
                  <p:nvPr/>
                </p:nvSpPr>
                <p:spPr>
                  <a:xfrm>
                    <a:off x="6593040" y="3313080"/>
                    <a:ext cx="604800" cy="6048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Oval 15"/>
                  <p:cNvSpPr/>
                  <p:nvPr/>
                </p:nvSpPr>
                <p:spPr>
                  <a:xfrm>
                    <a:off x="6759360" y="3506760"/>
                    <a:ext cx="33408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Oval 16"/>
                  <p:cNvSpPr/>
                  <p:nvPr/>
                </p:nvSpPr>
                <p:spPr>
                  <a:xfrm rot="19033200">
                    <a:off x="6644880" y="3405960"/>
                    <a:ext cx="253440" cy="14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9" name="TextBox 45"/>
            <p:cNvSpPr/>
            <p:nvPr/>
          </p:nvSpPr>
          <p:spPr>
            <a:xfrm>
              <a:off x="4535640" y="3405240"/>
              <a:ext cx="308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二、各环节操作流程及注意事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0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69720" y="1457280"/>
            <a:ext cx="85932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要求的课程体系并获得相应学分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开题报告、中期考核、学术报告和社会实践，并获得相应学分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公开发表学术论文要求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学位论文初稿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教育业务管理平台（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/>
              </a:rPr>
              <a:t>http://sep.ucas.ac.cn/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指导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次维护各模块信息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模块具体要求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/>
              </a:rPr>
              <a:t>学位申请者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答辩申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69360" y="1457280"/>
            <a:ext cx="83948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需提交的材料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生成的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研究生学位论文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式两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：各模块信息需填写完整，开题报告、中期考核、学术报告和社会实践均已获得学分，并需要有导师、室主任签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主要贡献人的发表论文首页复印件或接收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能领域同学需提供一份如下格式的说明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是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题目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杂志名称，年卷期，页码）的主要贡献人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作者，特此说明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人签字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师签字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答辩申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69360" y="1456920"/>
            <a:ext cx="8533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（一般由课题秘书担任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师、所级审核通过答辩申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登录本人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评阅专家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专家在线评阅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流程见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/>
              </a:rPr>
              <a:t>《</a:t>
            </a:r>
            <a:r>
              <a:rPr b="0" lang="zh-CN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/>
              </a:rPr>
              <a:t>答辩秘书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“一、聘请评阅专家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送审学位论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69360" y="1457280"/>
            <a:ext cx="8385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注意事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截止时间为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辩前两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专家数量、资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硕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；副教授、教授或相当专业技术职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外单位专家）；教授或相当专业技术职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的导师不能作为评阅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过程中如有一位评阅人持否定意见，则再增聘两位评阅人进行评阅。如累计有两位评阅人持否定意见，本次学位申请无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送审学位论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评阅人均返回评阅意见且全部同意组织答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级审核通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登录本人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答辩委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流程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“二、聘请答辩委员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聘请答辩委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06:15:06Z</dcterms:created>
  <dc:creator>孙亚宁</dc:creator>
  <dc:description/>
  <dc:language>en-US</dc:language>
  <cp:lastModifiedBy>孙亚宁</cp:lastModifiedBy>
  <dcterms:modified xsi:type="dcterms:W3CDTF">2015-03-10T09:52:35Z</dcterms:modified>
  <cp:revision>114</cp:revision>
  <dc:subject/>
  <dc:title>PowerPoint TEMPLATE</dc:title>
</cp:coreProperties>
</file>