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03F6-2FD1-4D9A-A797-8E6FAA2FC2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55E1-68E8-4671-99F9-632122E905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908-E47F-45E5-8735-AA8E9DB2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CE80-7BA3-40F4-98DF-290971A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B5D-1E7C-4870-AD66-E8E4C330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740-AB24-480C-B2B8-6EEF2F9F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862-C75A-4B9F-A8D8-06A19187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125B-7DC6-4BDC-93F1-5B8C6E8C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F385-8049-4BC5-BF51-52A3A7E0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6166-3D38-47EE-8685-68BB1AA1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03DE-2850-423F-B831-6558963A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8ED8-FF56-48B6-9B5D-E54C84FE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9605-E292-484F-BD86-8502EE60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BA6-6857-447C-8758-E0FA1414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9CD5-E7EE-42B2-8F23-B553BBA6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06B4-0F41-40DC-95E8-4B571CF7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8759-1ACD-40F0-81B8-2C4BFC9F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0950-8D93-4A64-8FCF-218F89B3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54BF-348F-4E06-9B94-1492B67E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212A-494C-46FA-A6BF-7C89FEED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62F7-D3AE-46E5-AF61-6F1415A5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DA7B-B33F-46BE-86E3-0D111886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96FAB-7A26-4C1E-A5CB-DD0FA1A8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FF54-836D-49E8-A3DC-4BA8EDEC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B66-9A23-4AD5-8E95-854D6CD1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023C-6454-48F8-9290-8F6B637F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D504C-08AA-4201-856F-B9E43AA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3C24-19E4-43BF-BAF8-69C99A1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C77C-12E3-4224-A15F-2CA0788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70A6-9140-4653-8423-2B0A051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4933-CFB7-41BB-8CA9-66E7F994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E2A8-8719-4690-AE66-D80F25E1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2219-88BB-498F-B2F6-D793AA19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58550-4898-4D1D-BC6E-584C62B3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BB34D-2E5C-43A0-B9E0-ACEC1418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E79-AC0E-405C-8B4A-D59B2F76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2A9B4-1CB2-4A92-9A5A-1F2BE2D9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12BF-4A3F-4589-9C05-499716E3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578A8-9EA8-4831-AF41-2A7B5770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6C36-45E3-4646-912B-DF487792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B6462-E532-49F8-BD09-432207A3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63BD-AC46-4962-BC06-00B357F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B8E1-40B0-4A9D-8A8E-DC7E3A85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E67B-708C-41B3-BCF5-34400136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F1F9-8C72-48D1-AA3C-5EC302FE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E3702-70C3-4599-B2A7-D04BEC79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387-17FF-4E49-9FCB-D193E17C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2AE0B-2860-4C32-9A43-8C6F2BE0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58115-286B-4556-A17B-E02ED9EC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78B6A-E9EE-40AE-9F8A-5DAAED36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99014-B270-42A5-9989-1714048E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3F89D-43CE-4BF7-98E2-FD64A158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3F64-9227-4CAD-B3F1-0D1F7E2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626E-F6BF-467B-BFC3-D1BFDA0F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72EE3-DD64-4795-8B33-8F88EC8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A3E2-4E43-4CDB-85A2-C8F3D72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5750-ADF9-4950-B94E-BBCCA5B2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737-583E-4545-A5CD-DE94E018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D99D1-A01D-4B38-9B91-D1AC1240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CE37C-FBEC-4D92-BF82-135D70A0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8A80A-249B-42E4-AE06-3B7B451C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0170-2645-4339-9735-1F59215E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1296C-A446-4F21-9E01-DD86CAF0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17CF-9EE8-4CFB-B995-7DCA46E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C5F97-4CD6-4C50-BFEE-08BC0264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BACB3-1326-464F-A7BC-36B6BD2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CD04E-2796-45D5-9796-CDFCA82E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8834-1ACD-4CAC-84BF-158E81EF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8BB-4590-4364-B57E-3844F162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9FD8E-3028-41F3-A092-E53E3D20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A8939-F80E-4F7A-8EB8-B53A2538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8206-E053-4FCF-80B4-9D1AE24F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FEC1B-719D-4602-AF7E-17116A81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220B3-99E1-4AD9-9C4E-071302A7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EEB4-8D45-48EF-924D-E0F02FF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9DAE1-7666-47F9-982C-D68F0F75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6BE87-3993-400B-9CA8-1B5D8060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408BB-436B-4B4A-B8D5-E3BB7387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D9152-BB42-475A-BCE1-138AE70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FDE-52E5-454F-931F-70010E7C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AF7A7-99B3-4AC0-AB2D-A6C41DA7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32B0C-835E-4487-BF81-7A048A18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E7A09-5EEF-46F7-AF53-4F60AE6C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D370A-FF76-4002-9F28-AF52B11D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83F1-C63A-4C70-A2DD-96F0D716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B45F1-E852-4480-BEAD-51E74FD0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82973-4F57-4E5C-A3F3-8C05871E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24F81-1BBE-4957-AB05-A5682428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EA6FA-AF08-4F0E-834F-9CC201F6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C4FB7-E44B-4C94-B636-06BDC7FE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65F-B557-4081-AD04-357E5A3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EBC94-DDE4-4512-84F7-45871855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23011-D7DB-4C4B-8A73-7C0DB920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37473-0016-49BE-B3F1-8D507B0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34BD-8C94-402C-B54A-B32D460F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59DE-B802-4C2A-8D4B-05308C2D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028CF-C2BA-4963-8766-AF90EBE5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7FF8F-3DA1-4A57-93E0-D0C83268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547F-CDC7-45FE-94DE-00BB12713638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05D8-E144-4650-BA6A-BC3866CC6E7A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5062-BDD4-42D9-8B89-E9F36B11ED3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2F43-A41D-4C85-881C-7ADD27CD4E4E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366-1A07-4886-B672-AF567894F742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D9E4-4A19-49BF-84D7-AEE3E9E66E32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B6EA-AA97-4DFC-BA5B-1C6A1763F97C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8A76-5188-4513-84BD-A7586801A850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1432080"/>
            <a:ext cx="84441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4-03-03T09:50:52Z</dcterms:modified>
  <cp:revision>25</cp:revision>
  <dc:subject/>
  <dc:title>幻灯片 1</dc:title>
</cp:coreProperties>
</file>