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DC5-D51C-402D-A68E-BE1F948937B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082-2045-4E7E-9705-9E801DC358D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A5B-BFA1-429B-B00E-0FF78982F1C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E06-CA61-48B4-925F-3966C826D50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3C1A-60BE-468C-A724-E642F869CA3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2A79-6087-46B1-8D33-2C8690DD798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8A9-C19E-4B2E-B2C2-E4854584CBE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12C1-8EF2-4388-8CBC-5C2892570BE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3C23-878B-492E-81CB-32CAE67842E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9837-324B-45D3-ADAA-6ECC9DE411C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564-3B5F-40D3-88B7-CCBC7276E5D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FFC2-C08F-4508-A567-0D236AC7C8B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CB0-C2F9-446D-9F8D-0C2EF61463A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621-006F-4447-8FC2-1C719E26B58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6DA4-88FB-4363-9EB4-7A842670D64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3D0-CF0E-4FA2-8479-CB44BAE4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D6D-18CA-412C-83B4-ECCDB11C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769-F800-4271-A822-DFD5820E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156-DD6D-4C24-AAEA-6967FB84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6DF1-0D10-4867-B96C-3ABAD5BE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745-193D-4578-972F-3F361C7C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1D6-54AE-4D37-A4A4-6A2B7A77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03C4-7C83-4DE4-9257-EAFBCBF3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90E-645A-43EF-AE50-D7DD678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E768-0C99-4F53-9B90-D3D2A8FA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B423-1A9E-4226-AA6B-C473A17D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EC5-3253-480F-8529-EDDD3E13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839F-1553-45DE-99D9-3C502B5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D25E-34E6-4C5E-A9CB-85784AF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75E-A67D-4F99-80EC-5EF45E9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52B-4D1E-4152-80D0-EDBCF0A7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4DAC-AA4D-4BDB-A221-1C9CDD5B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FBDB-D83E-4EF4-B445-F24ADC5F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8323-0337-4DA9-B928-FDF6503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7DDC-F13B-45E1-A1B0-9C5C5A5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2863-B09F-4BA1-887A-E22816BF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23EE-7A74-4785-9F82-819F3E7C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F85-9E0C-4EDE-84BD-21EFEBD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DC47-668F-4421-A1F2-F9E121D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98FD-EE45-4A9B-B3C7-E018C51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9A3F-7313-4A1C-83C7-B844E68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78F6-F9D3-4DB0-92E5-182944F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16E2-20FD-4E24-93E7-6379673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7C71-EA1A-4DDE-8280-3D6DE99B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096D-6F6C-4064-B309-70A1EC0C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23F-FEBB-4397-B0E9-EC8F629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ED6-13CB-4DA5-A3A2-572BEDF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1F5-89AC-4D59-B678-53E498B2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FB1-7162-42C2-8399-D3DFDF5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39D-10BC-419B-A969-36ED7BC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1AA-F92C-4215-AC5B-AFBA8B24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0F16-BBFE-4469-8968-1540F589A68A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26AB-C2A8-4DD1-B984-58F88CF3AB2D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7F0-4137-4F5D-B3F6-1D939AFA0FB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2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距离答辩时间提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注意调好格式再打印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装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25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矩形 37"/>
          <p:cNvSpPr/>
          <p:nvPr/>
        </p:nvSpPr>
        <p:spPr>
          <a:xfrm>
            <a:off x="708120" y="2044800"/>
            <a:ext cx="753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8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sp>
          <p:nvSpPr>
            <p:cNvPr id="138" name="AutoShape 6"/>
            <p:cNvSpPr/>
            <p:nvPr/>
          </p:nvSpPr>
          <p:spPr>
            <a:xfrm>
              <a:off x="2006640" y="333684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80"/>
            <p:cNvGrpSpPr/>
            <p:nvPr/>
          </p:nvGrpSpPr>
          <p:grpSpPr>
            <a:xfrm>
              <a:off x="1984320" y="3311640"/>
              <a:ext cx="5213520" cy="606240"/>
              <a:chOff x="1984320" y="3311640"/>
              <a:chExt cx="5213520" cy="6062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2298600" y="3311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324160" y="3405240"/>
                <a:ext cx="4564080" cy="431640"/>
              </a:xfrm>
              <a:prstGeom prst="rect">
                <a:avLst/>
              </a:prstGeom>
              <a:gradFill rotWithShape="0">
                <a:gsLst>
                  <a:gs pos="0">
                    <a:srgbClr val="1f497d"/>
                  </a:gs>
                  <a:gs pos="50000">
                    <a:srgbClr val="4f81bd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9"/>
              <p:cNvGrpSpPr/>
              <p:nvPr/>
            </p:nvGrpSpPr>
            <p:grpSpPr>
              <a:xfrm>
                <a:off x="1984320" y="3313080"/>
                <a:ext cx="604800" cy="604800"/>
                <a:chOff x="1984320" y="3313080"/>
                <a:chExt cx="604800" cy="604800"/>
              </a:xfrm>
            </p:grpSpPr>
            <p:sp>
              <p:nvSpPr>
                <p:cNvPr id="143" name="Oval 10"/>
                <p:cNvSpPr/>
                <p:nvPr/>
              </p:nvSpPr>
              <p:spPr>
                <a:xfrm>
                  <a:off x="198432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11"/>
                <p:cNvSpPr/>
                <p:nvPr/>
              </p:nvSpPr>
              <p:spPr>
                <a:xfrm>
                  <a:off x="215064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2"/>
                <p:cNvSpPr/>
                <p:nvPr/>
              </p:nvSpPr>
              <p:spPr>
                <a:xfrm rot="19033200">
                  <a:off x="2036160" y="340560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3"/>
              <p:cNvGrpSpPr/>
              <p:nvPr/>
            </p:nvGrpSpPr>
            <p:grpSpPr>
              <a:xfrm>
                <a:off x="6593040" y="3313080"/>
                <a:ext cx="604800" cy="604800"/>
                <a:chOff x="6593040" y="3313080"/>
                <a:chExt cx="604800" cy="604800"/>
              </a:xfrm>
            </p:grpSpPr>
            <p:sp>
              <p:nvSpPr>
                <p:cNvPr id="147" name="Oval 14"/>
                <p:cNvSpPr/>
                <p:nvPr/>
              </p:nvSpPr>
              <p:spPr>
                <a:xfrm>
                  <a:off x="659304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5"/>
                <p:cNvSpPr/>
                <p:nvPr/>
              </p:nvSpPr>
              <p:spPr>
                <a:xfrm>
                  <a:off x="675936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16"/>
                <p:cNvSpPr/>
                <p:nvPr/>
              </p:nvSpPr>
              <p:spPr>
                <a:xfrm rot="19033200">
                  <a:off x="6644880" y="3405960"/>
                  <a:ext cx="25344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52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53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55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58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36"/>
                  <p:cNvSpPr/>
                  <p:nvPr/>
                </p:nvSpPr>
                <p:spPr>
                  <a:xfrm>
                    <a:off x="212580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Oval 37"/>
                  <p:cNvSpPr/>
                  <p:nvPr/>
                </p:nvSpPr>
                <p:spPr>
                  <a:xfrm rot="19033200">
                    <a:off x="2009880" y="2125440"/>
                    <a:ext cx="25380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62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Oval 40"/>
                  <p:cNvSpPr/>
                  <p:nvPr/>
                </p:nvSpPr>
                <p:spPr>
                  <a:xfrm>
                    <a:off x="673416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Oval 41"/>
                  <p:cNvSpPr/>
                  <p:nvPr/>
                </p:nvSpPr>
                <p:spPr>
                  <a:xfrm rot="19033200">
                    <a:off x="6618240" y="2125800"/>
                    <a:ext cx="25416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5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4535640" y="34052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各环节操作流程及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3408480" y="39402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88840" y="1940040"/>
          <a:ext cx="7383600" cy="334332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学分、开题报告、中期考核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个月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4.1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完成所有网上评阅后～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sp>
          <p:nvSpPr>
            <p:cNvPr id="171" name="AutoShape 30"/>
            <p:cNvSpPr/>
            <p:nvPr/>
          </p:nvSpPr>
          <p:spPr>
            <a:xfrm>
              <a:off x="1981080" y="20559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63"/>
            <p:cNvGrpSpPr/>
            <p:nvPr/>
          </p:nvGrpSpPr>
          <p:grpSpPr>
            <a:xfrm>
              <a:off x="1959120" y="2030400"/>
              <a:ext cx="5213160" cy="606600"/>
              <a:chOff x="1959120" y="2030400"/>
              <a:chExt cx="5213160" cy="606600"/>
            </a:xfrm>
          </p:grpSpPr>
          <p:sp>
            <p:nvSpPr>
              <p:cNvPr id="173" name="AutoShape 32"/>
              <p:cNvSpPr/>
              <p:nvPr/>
            </p:nvSpPr>
            <p:spPr>
              <a:xfrm>
                <a:off x="2273400" y="20304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3"/>
              <p:cNvSpPr/>
              <p:nvPr/>
            </p:nvSpPr>
            <p:spPr>
              <a:xfrm>
                <a:off x="2298600" y="21240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1f497d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62"/>
              <p:cNvGrpSpPr/>
              <p:nvPr/>
            </p:nvGrpSpPr>
            <p:grpSpPr>
              <a:xfrm>
                <a:off x="1959120" y="2031840"/>
                <a:ext cx="604800" cy="605160"/>
                <a:chOff x="1959120" y="2031840"/>
                <a:chExt cx="604800" cy="605160"/>
              </a:xfrm>
            </p:grpSpPr>
            <p:sp>
              <p:nvSpPr>
                <p:cNvPr id="176" name="Oval 35"/>
                <p:cNvSpPr/>
                <p:nvPr/>
              </p:nvSpPr>
              <p:spPr>
                <a:xfrm>
                  <a:off x="195912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36"/>
                <p:cNvSpPr/>
                <p:nvPr/>
              </p:nvSpPr>
              <p:spPr>
                <a:xfrm>
                  <a:off x="2125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37"/>
                <p:cNvSpPr/>
                <p:nvPr/>
              </p:nvSpPr>
              <p:spPr>
                <a:xfrm rot="19033200">
                  <a:off x="2009880" y="212544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61"/>
              <p:cNvGrpSpPr/>
              <p:nvPr/>
            </p:nvGrpSpPr>
            <p:grpSpPr>
              <a:xfrm>
                <a:off x="6567480" y="2031840"/>
                <a:ext cx="604800" cy="605160"/>
                <a:chOff x="6567480" y="2031840"/>
                <a:chExt cx="604800" cy="605160"/>
              </a:xfrm>
            </p:grpSpPr>
            <p:sp>
              <p:nvSpPr>
                <p:cNvPr id="180" name="Oval 39"/>
                <p:cNvSpPr/>
                <p:nvPr/>
              </p:nvSpPr>
              <p:spPr>
                <a:xfrm>
                  <a:off x="656748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Oval 40"/>
                <p:cNvSpPr/>
                <p:nvPr/>
              </p:nvSpPr>
              <p:spPr>
                <a:xfrm>
                  <a:off x="673416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Oval 41"/>
                <p:cNvSpPr/>
                <p:nvPr/>
              </p:nvSpPr>
              <p:spPr>
                <a:xfrm rot="19033200">
                  <a:off x="6618240" y="212580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094560" y="21128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各时间节点安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3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89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f497d"/>
                    </a:gs>
                    <a:gs pos="50000">
                      <a:srgbClr val="4f81bd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92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11"/>
                  <p:cNvSpPr/>
                  <p:nvPr/>
                </p:nvSpPr>
                <p:spPr>
                  <a:xfrm>
                    <a:off x="215064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12"/>
                  <p:cNvSpPr/>
                  <p:nvPr/>
                </p:nvSpPr>
                <p:spPr>
                  <a:xfrm rot="19033200">
                    <a:off x="2036160" y="3405600"/>
                    <a:ext cx="25308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96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5"/>
                  <p:cNvSpPr/>
                  <p:nvPr/>
                </p:nvSpPr>
                <p:spPr>
                  <a:xfrm>
                    <a:off x="675936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Oval 16"/>
                  <p:cNvSpPr/>
                  <p:nvPr/>
                </p:nvSpPr>
                <p:spPr>
                  <a:xfrm rot="19033200">
                    <a:off x="6644880" y="3405960"/>
                    <a:ext cx="25344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TextBox 45"/>
            <p:cNvSpPr/>
            <p:nvPr/>
          </p:nvSpPr>
          <p:spPr>
            <a:xfrm>
              <a:off x="4535640" y="34052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主要贡献人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距离答辩时间提前两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4-10-14T08:51:11Z</dcterms:modified>
  <cp:revision>110</cp:revision>
  <dc:subject/>
  <dc:title>PowerPoint TEMPLATE</dc:title>
</cp:coreProperties>
</file>