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36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5.png" ContentType="image/png"/>
  <Override PartName="/ppt/media/image3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.jpeg" ContentType="image/jpeg"/>
  <Override PartName="/ppt/media/image50.png" ContentType="image/png"/>
  <Override PartName="/ppt/media/image10.png" ContentType="image/png"/>
  <Override PartName="/ppt/media/image47.png" ContentType="image/pn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FD0F-68AD-41CC-9D91-0A8D321F906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6605-EA2B-4551-B09E-2D2BC234747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E1AD-5B9D-4CE0-8D26-2DC565424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B753-847A-4A98-A6CA-CD109B28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D2DD-1805-4765-B04E-4B7E0A2CD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3774-BD88-49DD-91F6-3BCA77EF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F057-DF50-4ADE-BFAE-2C46DB2F9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D444-40F2-4F98-903F-CA978157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0B03-7A43-4BEA-8266-224D7A99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5375-41E3-4C2A-A00C-A423731A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0345-D505-4BE1-986A-5A313B48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1CA2-66BF-4ECB-84CB-C26EECBF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F747-6DFE-44C3-BAC5-D2448A95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3AAA-B371-4A3F-9464-871043F6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A47F-3BD8-4F48-BB04-E2C2D0F3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A4CC-DDFC-4960-A2E5-59519BCE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249B-171E-4920-8C95-D5336E9C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919F-2763-4D7D-9692-F7F404ED5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E002-A083-4F38-B1DA-3AC8DA275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FBDD3-92A8-4F6E-8E06-E57CEC44E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B42C8-620B-47B6-B9B8-7762BB85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22BC9-3F92-463F-AD98-11C5CC2A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2503E-1729-4FEC-9E15-497D8786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7156C-52EC-46BA-862E-E91870BC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460D-08A8-4575-B34B-8FA45299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DBF23-7314-417D-AB12-073C0A4C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8C191-811E-4B43-BCB9-0F167E2E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ADE39-8885-457A-AD67-31DC6184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4072D-B6B4-40A4-8048-EBF6A65B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CE73D-DD41-45FB-BD27-B25C1C43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EBC40-4317-4D33-9CB0-AF765D6BD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B75A9-69F5-4401-B753-D3E253C02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E3881-8F66-4363-9A20-4DA188236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0D4AF-BD68-4C09-810A-0A97353F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86D85-7B84-48E3-ACF2-4BE540C4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DBEE-D928-4154-AEE7-A3B86E4A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53C28-9E58-4025-9B14-A51AACC6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16F5E-E4C2-43CB-B1D6-A32C6C64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AA476-3CD6-41D5-9181-B24E6703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B1602-C52B-4E58-94FC-26521B8B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A5601-B00A-4D52-82A3-11E70212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EA839-AD11-45FA-A352-D56BC135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64245-10DC-4DD7-8C1C-F5A79260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1FBFB-8130-45D4-9BF6-0DF62E300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560D9-57E9-4242-8858-33B06D5CC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9A031-E5D6-45F2-8DA7-E1773393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BF4A-05B2-4332-8C6B-31FA45BE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D6CF1-21BD-425E-81D9-C8237B18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0F22A-250C-40F2-BF25-52AE19D3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6CEDA-99A1-4777-9660-E97D8805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1E968-BEA4-4328-84B4-3415E12E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37229-AED4-48E8-80D5-627F74FB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E1D6F-336E-41E0-B289-E0E3D402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ADBC9-3761-4CE2-A661-10BBE320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2EC79-DDBE-4FAF-93AF-401081A9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EDF1F-9760-4BA7-B6CA-E6409F55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292F6-9013-42B2-A4CB-F6C240CC0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9F1C-D4D4-4870-A26F-52FD6355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025BC-2600-4BAB-976E-6A4672156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FBEDF-0201-4018-BC28-4AB67158A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35437-1CB8-4A8B-BE95-C49489E8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9E941-4982-43BA-B0C1-AF6ABF24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A5197-D570-483A-8143-A487E93F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76DAB-7D9C-47B3-BFD4-AE26C8FE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3B33F-3F0E-4058-879F-2EBF2D5B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686B9-E7FA-4656-B800-533BF249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419CF-B36F-4831-9020-6A00A55B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28AE2-C4D4-4648-8BB2-6375C343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FF9D-3424-40B5-8B7F-13E06FDB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BC53F-C5A9-4B24-BFE6-A90166A6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7A106-FED4-49A0-9EBA-3B69ED9B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1ECEA-3D2A-4131-81F7-618F75DC1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D34B9-64DD-4259-8677-C72CBAB16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721A6-531C-493C-BA9D-B44D1D41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0A75B-C489-471D-BAD2-347FA43C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AB17A-B6F2-451F-932E-7B3EBA80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415A8-209B-4BBF-B391-3504848B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36FC3-EF06-49ED-AAE0-891651BF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37C22-99AA-42A4-AF2D-9824BA39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3DA5-F556-4D7A-A6F6-BF5F37A3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CF5D9-5250-4EDB-86FB-E3D3BBB6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32304-D88B-4E95-86D0-D74377DC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DB4E0-F07C-4880-A4B4-556EFB40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1D1AC-4F5F-4C32-A4A9-37559CE4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11919-9837-46B1-9F1B-A8E8483A9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D03B2-A2FD-486B-B753-11684D35B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55CC1-CB94-4361-B1F9-8DA1AA9E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2F469-C055-43E4-A660-4089F80D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F73DF-53E2-4CB3-A5EA-6B354258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60B88-9CF9-4F24-BB17-AC1F94C0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9F78-C8F4-4AF3-9207-2FE3BFCD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41A6E-CEDD-468A-B305-DD8498D1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CC781-9E59-4841-96AC-29789088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36066-3D5B-45F9-A3B5-005993A3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CF36C-2C0E-450A-9CD9-3B51D706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3DC34-67F4-4880-BFA7-194F6964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2C861-550A-4A37-B0DA-47FB6F571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D21B1-DDF8-4552-9C27-A432F21F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接连接符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5A5A-741C-401C-9FAE-AEB73AD54B36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组合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任意多边形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任意多边形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任意多边形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任意多边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直接连接符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D128-0A09-4225-BE30-1D65F67E59DB}" type="slidenum">
              <a: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燕尾形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燕尾形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7C29-C2D2-45C9-A262-372D5B78EF98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BA97-718F-4411-9E5E-7CBCDD3C467B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74B2-C664-4C8F-BEFE-6121E29A796C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6602-ACCA-401D-B80A-80E0C96F68BE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7A88-3F58-4936-B7C6-46D72993FCE1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任意多边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任意多边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直角三角形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直角三角形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直接连接符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燕尾形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燕尾形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4723-B8F6-4224-85AD-05E6A897C405}" type="slidenum">
              <a: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标题 1" descr=""/>
          <p:cNvPicPr/>
          <p:nvPr/>
        </p:nvPicPr>
        <p:blipFill>
          <a:blip r:embed="rId1"/>
          <a:stretch/>
        </p:blipFill>
        <p:spPr>
          <a:xfrm>
            <a:off x="-6480" y="1122480"/>
            <a:ext cx="8089920" cy="1839960"/>
          </a:xfrm>
          <a:prstGeom prst="rect">
            <a:avLst/>
          </a:prstGeom>
          <a:ln w="0">
            <a:noFill/>
          </a:ln>
        </p:spPr>
      </p:pic>
      <p:pic>
        <p:nvPicPr>
          <p:cNvPr id="378" name="标题 1" descr=""/>
          <p:cNvPicPr/>
          <p:nvPr/>
        </p:nvPicPr>
        <p:blipFill>
          <a:blip r:embed="rId2"/>
          <a:stretch/>
        </p:blipFill>
        <p:spPr>
          <a:xfrm>
            <a:off x="6004080" y="5310360"/>
            <a:ext cx="312084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标题 1" descr=""/>
          <p:cNvPicPr/>
          <p:nvPr/>
        </p:nvPicPr>
        <p:blipFill>
          <a:blip r:embed="rId1"/>
          <a:stretch/>
        </p:blipFill>
        <p:spPr>
          <a:xfrm>
            <a:off x="334800" y="755640"/>
            <a:ext cx="8345520" cy="115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" descr=""/>
          <p:cNvPicPr/>
          <p:nvPr/>
        </p:nvPicPr>
        <p:blipFill>
          <a:blip r:embed="rId2"/>
          <a:stretch/>
        </p:blipFill>
        <p:spPr>
          <a:xfrm>
            <a:off x="144360" y="2421000"/>
            <a:ext cx="874872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标题 1" descr=""/>
          <p:cNvPicPr/>
          <p:nvPr/>
        </p:nvPicPr>
        <p:blipFill>
          <a:blip r:embed="rId1"/>
          <a:stretch/>
        </p:blipFill>
        <p:spPr>
          <a:xfrm>
            <a:off x="334800" y="755640"/>
            <a:ext cx="8345520" cy="1158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144360" y="2421000"/>
            <a:ext cx="874872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标题 1" descr=""/>
          <p:cNvPicPr/>
          <p:nvPr/>
        </p:nvPicPr>
        <p:blipFill>
          <a:blip r:embed="rId1"/>
          <a:stretch/>
        </p:blipFill>
        <p:spPr>
          <a:xfrm>
            <a:off x="347760" y="755640"/>
            <a:ext cx="8345520" cy="1890720"/>
          </a:xfrm>
          <a:prstGeom prst="rect">
            <a:avLst/>
          </a:prstGeom>
          <a:ln w="0">
            <a:noFill/>
          </a:ln>
        </p:spPr>
      </p:pic>
      <p:pic>
        <p:nvPicPr>
          <p:cNvPr id="405" name="标题 1" descr=""/>
          <p:cNvPicPr/>
          <p:nvPr/>
        </p:nvPicPr>
        <p:blipFill>
          <a:blip r:embed="rId2"/>
          <a:stretch/>
        </p:blipFill>
        <p:spPr>
          <a:xfrm>
            <a:off x="268200" y="182520"/>
            <a:ext cx="8425080" cy="1152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"/>
          <p:cNvPicPr/>
          <p:nvPr/>
        </p:nvPicPr>
        <p:blipFill>
          <a:blip r:embed="rId3"/>
          <a:stretch/>
        </p:blipFill>
        <p:spPr>
          <a:xfrm>
            <a:off x="468360" y="2349360"/>
            <a:ext cx="8037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378000" y="2276640"/>
            <a:ext cx="8370720" cy="3956040"/>
          </a:xfrm>
          <a:prstGeom prst="rect">
            <a:avLst/>
          </a:prstGeom>
          <a:ln w="0">
            <a:noFill/>
          </a:ln>
        </p:spPr>
      </p:pic>
      <p:pic>
        <p:nvPicPr>
          <p:cNvPr id="408" name="标题 1" descr=""/>
          <p:cNvPicPr/>
          <p:nvPr/>
        </p:nvPicPr>
        <p:blipFill>
          <a:blip r:embed="rId2"/>
          <a:stretch/>
        </p:blipFill>
        <p:spPr>
          <a:xfrm>
            <a:off x="347760" y="396720"/>
            <a:ext cx="851508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标题 1" descr=""/>
          <p:cNvPicPr/>
          <p:nvPr/>
        </p:nvPicPr>
        <p:blipFill>
          <a:blip r:embed="rId1"/>
          <a:stretch/>
        </p:blipFill>
        <p:spPr>
          <a:xfrm>
            <a:off x="347760" y="255600"/>
            <a:ext cx="8381880" cy="1884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"/>
          <p:cNvPicPr/>
          <p:nvPr/>
        </p:nvPicPr>
        <p:blipFill>
          <a:blip r:embed="rId2"/>
          <a:stretch/>
        </p:blipFill>
        <p:spPr>
          <a:xfrm>
            <a:off x="250920" y="1892160"/>
            <a:ext cx="8642160" cy="11052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" descr=""/>
          <p:cNvPicPr/>
          <p:nvPr/>
        </p:nvPicPr>
        <p:blipFill>
          <a:blip r:embed="rId3"/>
          <a:stretch/>
        </p:blipFill>
        <p:spPr>
          <a:xfrm>
            <a:off x="826920" y="3213000"/>
            <a:ext cx="744408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标题 1" descr=""/>
          <p:cNvPicPr/>
          <p:nvPr/>
        </p:nvPicPr>
        <p:blipFill>
          <a:blip r:embed="rId1"/>
          <a:stretch/>
        </p:blipFill>
        <p:spPr>
          <a:xfrm>
            <a:off x="268200" y="182520"/>
            <a:ext cx="8425080" cy="1152720"/>
          </a:xfrm>
          <a:prstGeom prst="rect">
            <a:avLst/>
          </a:prstGeom>
          <a:ln w="0">
            <a:noFill/>
          </a:ln>
        </p:spPr>
      </p:pic>
      <p:pic>
        <p:nvPicPr>
          <p:cNvPr id="413" name="标题 1" descr=""/>
          <p:cNvPicPr/>
          <p:nvPr/>
        </p:nvPicPr>
        <p:blipFill>
          <a:blip r:embed="rId2"/>
          <a:stretch/>
        </p:blipFill>
        <p:spPr>
          <a:xfrm>
            <a:off x="347760" y="828720"/>
            <a:ext cx="8381880" cy="18842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"/>
          <p:cNvPicPr/>
          <p:nvPr/>
        </p:nvPicPr>
        <p:blipFill>
          <a:blip r:embed="rId3"/>
          <a:stretch/>
        </p:blipFill>
        <p:spPr>
          <a:xfrm>
            <a:off x="404640" y="2425680"/>
            <a:ext cx="870444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446040" y="2781360"/>
            <a:ext cx="8229600" cy="1987560"/>
          </a:xfrm>
          <a:prstGeom prst="rect">
            <a:avLst/>
          </a:prstGeom>
          <a:ln w="0">
            <a:noFill/>
          </a:ln>
        </p:spPr>
      </p:pic>
      <p:pic>
        <p:nvPicPr>
          <p:cNvPr id="416" name="标题 1" descr=""/>
          <p:cNvPicPr/>
          <p:nvPr/>
        </p:nvPicPr>
        <p:blipFill>
          <a:blip r:embed="rId2"/>
          <a:stretch/>
        </p:blipFill>
        <p:spPr>
          <a:xfrm>
            <a:off x="347760" y="828720"/>
            <a:ext cx="838188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标题 1" descr=""/>
          <p:cNvPicPr/>
          <p:nvPr/>
        </p:nvPicPr>
        <p:blipFill>
          <a:blip r:embed="rId1"/>
          <a:stretch/>
        </p:blipFill>
        <p:spPr>
          <a:xfrm>
            <a:off x="347760" y="542880"/>
            <a:ext cx="8345520" cy="18828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819612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标题 1" descr=""/>
          <p:cNvPicPr/>
          <p:nvPr/>
        </p:nvPicPr>
        <p:blipFill>
          <a:blip r:embed="rId1"/>
          <a:stretch/>
        </p:blipFill>
        <p:spPr>
          <a:xfrm>
            <a:off x="347760" y="542880"/>
            <a:ext cx="8345520" cy="18828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"/>
          <p:cNvPicPr/>
          <p:nvPr/>
        </p:nvPicPr>
        <p:blipFill>
          <a:blip r:embed="rId2"/>
          <a:stretch/>
        </p:blipFill>
        <p:spPr>
          <a:xfrm>
            <a:off x="88920" y="2781360"/>
            <a:ext cx="894708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标题 1" descr=""/>
          <p:cNvPicPr/>
          <p:nvPr/>
        </p:nvPicPr>
        <p:blipFill>
          <a:blip r:embed="rId1"/>
          <a:stretch/>
        </p:blipFill>
        <p:spPr>
          <a:xfrm>
            <a:off x="347760" y="-176040"/>
            <a:ext cx="8381880" cy="18824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"/>
          <p:cNvPicPr/>
          <p:nvPr/>
        </p:nvPicPr>
        <p:blipFill>
          <a:blip r:embed="rId2"/>
          <a:stretch/>
        </p:blipFill>
        <p:spPr>
          <a:xfrm>
            <a:off x="2627280" y="981000"/>
            <a:ext cx="3457440" cy="19512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"/>
          <p:cNvPicPr/>
          <p:nvPr/>
        </p:nvPicPr>
        <p:blipFill>
          <a:blip r:embed="rId3"/>
          <a:stretch/>
        </p:blipFill>
        <p:spPr>
          <a:xfrm>
            <a:off x="2627280" y="2924280"/>
            <a:ext cx="3457440" cy="19429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"/>
          <p:cNvPicPr/>
          <p:nvPr/>
        </p:nvPicPr>
        <p:blipFill>
          <a:blip r:embed="rId4"/>
          <a:stretch/>
        </p:blipFill>
        <p:spPr>
          <a:xfrm>
            <a:off x="2627280" y="4869000"/>
            <a:ext cx="345744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2339640" y="1955880"/>
            <a:ext cx="598644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聘请评阅专家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聘请答辩委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新增专家至专家库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论文评阅专家操作指南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标题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标题 2" descr=""/>
          <p:cNvPicPr/>
          <p:nvPr/>
        </p:nvPicPr>
        <p:blipFill>
          <a:blip r:embed="rId1"/>
          <a:stretch/>
        </p:blipFill>
        <p:spPr>
          <a:xfrm>
            <a:off x="249120" y="1494000"/>
            <a:ext cx="84441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标题 2" descr=""/>
          <p:cNvPicPr/>
          <p:nvPr/>
        </p:nvPicPr>
        <p:blipFill>
          <a:blip r:embed="rId1"/>
          <a:stretch/>
        </p:blipFill>
        <p:spPr>
          <a:xfrm>
            <a:off x="249120" y="1432080"/>
            <a:ext cx="844416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标题 1" descr=""/>
          <p:cNvPicPr/>
          <p:nvPr/>
        </p:nvPicPr>
        <p:blipFill>
          <a:blip r:embed="rId1"/>
          <a:stretch/>
        </p:blipFill>
        <p:spPr>
          <a:xfrm>
            <a:off x="268200" y="182520"/>
            <a:ext cx="8425080" cy="1152720"/>
          </a:xfrm>
          <a:prstGeom prst="rect">
            <a:avLst/>
          </a:prstGeom>
          <a:ln w="0">
            <a:noFill/>
          </a:ln>
        </p:spPr>
      </p:pic>
      <p:pic>
        <p:nvPicPr>
          <p:cNvPr id="382" name="标题 1" descr=""/>
          <p:cNvPicPr/>
          <p:nvPr/>
        </p:nvPicPr>
        <p:blipFill>
          <a:blip r:embed="rId2"/>
          <a:stretch/>
        </p:blipFill>
        <p:spPr>
          <a:xfrm>
            <a:off x="285840" y="1407960"/>
            <a:ext cx="8381880" cy="1238400"/>
          </a:xfrm>
          <a:prstGeom prst="rect">
            <a:avLst/>
          </a:prstGeom>
          <a:ln w="0">
            <a:noFill/>
          </a:ln>
        </p:spPr>
      </p:pic>
      <p:pic>
        <p:nvPicPr>
          <p:cNvPr id="383" name="标题 1" descr=""/>
          <p:cNvPicPr/>
          <p:nvPr/>
        </p:nvPicPr>
        <p:blipFill>
          <a:blip r:embed="rId3"/>
          <a:stretch/>
        </p:blipFill>
        <p:spPr>
          <a:xfrm>
            <a:off x="334800" y="4297320"/>
            <a:ext cx="8345520" cy="11527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"/>
          <p:cNvPicPr/>
          <p:nvPr/>
        </p:nvPicPr>
        <p:blipFill>
          <a:blip r:embed="rId4"/>
          <a:stretch/>
        </p:blipFill>
        <p:spPr>
          <a:xfrm>
            <a:off x="324000" y="3068640"/>
            <a:ext cx="84643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6" descr=""/>
          <p:cNvPicPr/>
          <p:nvPr/>
        </p:nvPicPr>
        <p:blipFill>
          <a:blip r:embed="rId1"/>
          <a:stretch/>
        </p:blipFill>
        <p:spPr>
          <a:xfrm>
            <a:off x="144360" y="982800"/>
            <a:ext cx="8891640" cy="2301840"/>
          </a:xfrm>
          <a:prstGeom prst="rect">
            <a:avLst/>
          </a:prstGeom>
          <a:ln w="0">
            <a:noFill/>
          </a:ln>
        </p:spPr>
      </p:pic>
      <p:pic>
        <p:nvPicPr>
          <p:cNvPr id="386" name="标题 1" descr=""/>
          <p:cNvPicPr/>
          <p:nvPr/>
        </p:nvPicPr>
        <p:blipFill>
          <a:blip r:embed="rId2"/>
          <a:stretch/>
        </p:blipFill>
        <p:spPr>
          <a:xfrm>
            <a:off x="334800" y="3432240"/>
            <a:ext cx="83455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标题 1" descr=""/>
          <p:cNvPicPr/>
          <p:nvPr/>
        </p:nvPicPr>
        <p:blipFill>
          <a:blip r:embed="rId1"/>
          <a:stretch/>
        </p:blipFill>
        <p:spPr>
          <a:xfrm>
            <a:off x="1438200" y="4432320"/>
            <a:ext cx="6400800" cy="1150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E:\syn\教育\毕业与就业\毕业\2014\冬毕\研究生论文答辩及学位申请网上操作指南\截图\图片3.png"/>
          <p:cNvPicPr/>
          <p:nvPr/>
        </p:nvPicPr>
        <p:blipFill>
          <a:blip r:embed="rId2"/>
          <a:stretch/>
        </p:blipFill>
        <p:spPr>
          <a:xfrm>
            <a:off x="1604880" y="692280"/>
            <a:ext cx="5934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标题 1" descr=""/>
          <p:cNvPicPr/>
          <p:nvPr/>
        </p:nvPicPr>
        <p:blipFill>
          <a:blip r:embed="rId1"/>
          <a:stretch/>
        </p:blipFill>
        <p:spPr>
          <a:xfrm>
            <a:off x="365040" y="4591080"/>
            <a:ext cx="8510760" cy="16509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E:\syn\教育\毕业与就业\毕业\2014\冬毕\研究生论文答辩及学位申请网上操作指南\截图\图片4.png"/>
          <p:cNvPicPr/>
          <p:nvPr/>
        </p:nvPicPr>
        <p:blipFill>
          <a:blip r:embed="rId2"/>
          <a:stretch/>
        </p:blipFill>
        <p:spPr>
          <a:xfrm>
            <a:off x="1908000" y="457200"/>
            <a:ext cx="536580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5" descr=""/>
          <p:cNvPicPr/>
          <p:nvPr/>
        </p:nvPicPr>
        <p:blipFill>
          <a:blip r:embed="rId1"/>
          <a:stretch/>
        </p:blipFill>
        <p:spPr>
          <a:xfrm>
            <a:off x="1908000" y="2262240"/>
            <a:ext cx="5437440" cy="4046400"/>
          </a:xfrm>
          <a:prstGeom prst="rect">
            <a:avLst/>
          </a:prstGeom>
          <a:ln w="0">
            <a:noFill/>
          </a:ln>
        </p:spPr>
      </p:pic>
      <p:pic>
        <p:nvPicPr>
          <p:cNvPr id="392" name="标题 1" descr=""/>
          <p:cNvPicPr/>
          <p:nvPr/>
        </p:nvPicPr>
        <p:blipFill>
          <a:blip r:embed="rId2"/>
          <a:stretch/>
        </p:blipFill>
        <p:spPr>
          <a:xfrm>
            <a:off x="317520" y="487440"/>
            <a:ext cx="850896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5151600" cy="3187800"/>
          </a:xfrm>
          <a:prstGeom prst="rect">
            <a:avLst/>
          </a:prstGeom>
          <a:ln w="0">
            <a:noFill/>
          </a:ln>
        </p:spPr>
      </p:pic>
      <p:pic>
        <p:nvPicPr>
          <p:cNvPr id="394" name="标题 1" descr=""/>
          <p:cNvPicPr/>
          <p:nvPr/>
        </p:nvPicPr>
        <p:blipFill>
          <a:blip r:embed="rId2"/>
          <a:stretch/>
        </p:blipFill>
        <p:spPr>
          <a:xfrm>
            <a:off x="347760" y="36360"/>
            <a:ext cx="8345520" cy="1159200"/>
          </a:xfrm>
          <a:prstGeom prst="rect">
            <a:avLst/>
          </a:prstGeom>
          <a:ln w="0">
            <a:noFill/>
          </a:ln>
        </p:spPr>
      </p:pic>
      <p:pic>
        <p:nvPicPr>
          <p:cNvPr id="395" name="标题 1" descr=""/>
          <p:cNvPicPr/>
          <p:nvPr/>
        </p:nvPicPr>
        <p:blipFill>
          <a:blip r:embed="rId3"/>
          <a:stretch/>
        </p:blipFill>
        <p:spPr>
          <a:xfrm>
            <a:off x="360360" y="3938760"/>
            <a:ext cx="8345520" cy="1150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" descr=""/>
          <p:cNvPicPr/>
          <p:nvPr/>
        </p:nvPicPr>
        <p:blipFill>
          <a:blip r:embed="rId4"/>
          <a:stretch/>
        </p:blipFill>
        <p:spPr>
          <a:xfrm>
            <a:off x="539640" y="4832280"/>
            <a:ext cx="737568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标题 1" descr=""/>
          <p:cNvPicPr/>
          <p:nvPr/>
        </p:nvPicPr>
        <p:blipFill>
          <a:blip r:embed="rId1"/>
          <a:stretch/>
        </p:blipFill>
        <p:spPr>
          <a:xfrm>
            <a:off x="347760" y="1285920"/>
            <a:ext cx="8381880" cy="1585800"/>
          </a:xfrm>
          <a:prstGeom prst="rect">
            <a:avLst/>
          </a:prstGeom>
          <a:ln w="0">
            <a:noFill/>
          </a:ln>
        </p:spPr>
      </p:pic>
      <p:pic>
        <p:nvPicPr>
          <p:cNvPr id="398" name="标题 1" descr=""/>
          <p:cNvPicPr/>
          <p:nvPr/>
        </p:nvPicPr>
        <p:blipFill>
          <a:blip r:embed="rId2"/>
          <a:stretch/>
        </p:blipFill>
        <p:spPr>
          <a:xfrm>
            <a:off x="268200" y="182520"/>
            <a:ext cx="8425080" cy="11527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" descr=""/>
          <p:cNvPicPr/>
          <p:nvPr/>
        </p:nvPicPr>
        <p:blipFill>
          <a:blip r:embed="rId3"/>
          <a:stretch/>
        </p:blipFill>
        <p:spPr>
          <a:xfrm>
            <a:off x="179280" y="3213000"/>
            <a:ext cx="880740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4T06:54:26Z</dcterms:created>
  <dc:creator>syn</dc:creator>
  <dc:description/>
  <dc:language>en-US</dc:language>
  <cp:lastModifiedBy>孙亚宁</cp:lastModifiedBy>
  <dcterms:modified xsi:type="dcterms:W3CDTF">2014-03-03T09:50:52Z</dcterms:modified>
  <cp:revision>25</cp:revision>
  <dc:subject/>
  <dc:title>幻灯片 1</dc:title>
</cp:coreProperties>
</file>